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B98B-CA51-4139-8C24-5901B8328E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8CB0-6AE2-4578-A27E-9A715BDE2F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FB07-14C8-4C50-88BB-85DD47F732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EFA7-ED7F-4B02-A8D3-A305EFDEF3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B0AB-7912-4FF2-8A98-24C7BB87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18EB-AB5B-4DDE-ABCE-550AD3BD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DD61-D0F5-4FD6-B9DE-D86D8BDE6B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64D4A-A404-4030-BD07-71046EFF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95BD5-40DC-4B0D-9F2A-F84A55BA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5EB30-0425-4140-8493-FCB4E144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355B4-7E5B-457A-8DD1-0500DF42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E2054-157D-4E48-8994-D3257EDA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A7FB4-9217-4F3E-A93D-72D20680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16554-1048-4E0F-A2AB-C62DB1E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A9B6-AED8-42A0-8E2E-C33702F1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DA8F6-DE45-42E6-AFC8-F0F5F38A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1371A-8295-4832-B953-A4A9074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42476-369E-4A52-AAEA-121B8E2E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0A0F5-F6AE-458B-BB00-B4023E42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797BE-665B-45D2-8B74-CA077B5F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8815-E697-4BAB-B388-BA8BD910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C02E-8F4F-40E8-97F2-0A01A480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44B2-4CD4-45DC-B0D5-312DF27A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2B21-02C0-4B65-B9F0-C71F9190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F802-0F4C-41EF-9D84-8FDA159C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FF8E-C79C-4753-AAE1-574F050D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A9A1-4CD1-4B08-9246-ED4D94C1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C99D-F5FF-41A2-B850-9C0483D1A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Tenth Edition, (c) 2015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Te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C963-1F7D-4EF0-9725-FCB2885AA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4ED9-390C-4E09-A7F8-AF8BB2DEF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9680" y="1523880"/>
            <a:ext cx="8076960" cy="16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4 Exception Hand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1100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F77B-BA9E-452A-9D43-986A294F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1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0880" y="5029200"/>
            <a:ext cx="2819520" cy="3808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5715000" y="1371600"/>
            <a:ext cx="3200400" cy="1143000"/>
          </a:xfrm>
          <a:prstGeom prst="wedgeRoundRectCallout">
            <a:avLst>
              <a:gd name="adj1" fmla="val -133333"/>
              <a:gd name="adj2" fmla="val 282777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statement in the method is now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1F0E-9701-4B5F-BE82-34BE1AA7C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tions When Us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handling separates error-handling code from normal programming tasks, thus making programs easier to read and to modif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ware, however, that exception handling usually requires more time and resources because it requires instantiating a new exception object, rolling back the call stack, and propagating the errors to the calling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500-A91A-4539-874F-D801A71A2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Throw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ception occurs in a meth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ant the exception to be processed by its caller, you should create an exception object and throw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can handle the exception in the method where it occurs, there is no need to throw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F85B-B92B-4627-9BF7-9595C3E7D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2320" y="11448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Us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n should you use the try-catch block in the cod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it to deal with unexpected error condi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use it to deal with simple, expected situ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Image result for think"/>
          <p:cNvPicPr/>
          <p:nvPr/>
        </p:nvPicPr>
        <p:blipFill>
          <a:blip r:embed="rId1"/>
          <a:stretch/>
        </p:blipFill>
        <p:spPr>
          <a:xfrm>
            <a:off x="-19080" y="7920"/>
            <a:ext cx="3371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8A83-A4EB-43FF-980D-8EF5F05F0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66320" y="304632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better to be replac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7200" y="397836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refVar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refVar.toString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refVar is nul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714240" y="304920"/>
            <a:ext cx="8458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refVar.toString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 (NullPointerException ex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refVar is nul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31C8-FAB9-4779-B495-8FD7BDA0A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i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y-c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ock (§14.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exceptions only for unexpected errors (§14.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h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ions i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ock (§14.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ions (§14.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fine custom exception classes (§14.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2F34-B2CE-480F-B2C4-21E1A4601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atch(TheException ex) {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9AC7-F5FE-49FB-A9EB-F421095C2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647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(TheException ex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09480" y="2286000"/>
            <a:ext cx="2819520" cy="30492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5715000" y="893880"/>
            <a:ext cx="2927520" cy="1087200"/>
          </a:xfrm>
          <a:prstGeom prst="wedgeRoundRectCallout">
            <a:avLst>
              <a:gd name="adj1" fmla="val -145120"/>
              <a:gd name="adj2" fmla="val 88833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no exceptions in th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0F50-7A75-4075-B41C-9CB512CDD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647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(TheException ex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5715000" y="1447920"/>
            <a:ext cx="2927520" cy="1087200"/>
          </a:xfrm>
          <a:prstGeom prst="wedgeRoundRectCallout">
            <a:avLst>
              <a:gd name="adj1" fmla="val -124185"/>
              <a:gd name="adj2" fmla="val 234671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nal block is alway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62120" y="4495680"/>
            <a:ext cx="3124080" cy="30492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6FD7-050C-4C53-86D4-FB9410DA8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647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(TheException ex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5715000" y="1447920"/>
            <a:ext cx="2927520" cy="1087200"/>
          </a:xfrm>
          <a:prstGeom prst="wedgeRoundRectCallout">
            <a:avLst>
              <a:gd name="adj1" fmla="val -127171"/>
              <a:gd name="adj2" fmla="val 325912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atement in the method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380880" y="5562720"/>
            <a:ext cx="3124440" cy="30456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09B8-80DE-4B99-B16B-E887A29E2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1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09480" y="2057400"/>
            <a:ext cx="2819520" cy="30492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715000" y="1371600"/>
            <a:ext cx="3200400" cy="1143000"/>
          </a:xfrm>
          <a:prstGeom prst="wedgeRoundRectCallout">
            <a:avLst>
              <a:gd name="adj1" fmla="val -138245"/>
              <a:gd name="adj2" fmla="val 22361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n exception of type Exception1 is thrown in stateme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EF21-80EE-4EB5-A942-FE57383DE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1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09480" y="3200400"/>
            <a:ext cx="2819520" cy="3808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5715000" y="1371600"/>
            <a:ext cx="3200400" cy="1143000"/>
          </a:xfrm>
          <a:prstGeom prst="wedgeRoundRectCallout">
            <a:avLst>
              <a:gd name="adj1" fmla="val -134574"/>
              <a:gd name="adj2" fmla="val 123611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ption is hand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3A34-B7BE-406B-82E9-316DDEAB2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race a Program Exec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1 ex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ndling ex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Stateme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5800" y="4191120"/>
            <a:ext cx="2819520" cy="3808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5715000" y="1371600"/>
            <a:ext cx="3200400" cy="1143000"/>
          </a:xfrm>
          <a:prstGeom prst="wedgeRoundRectCallout">
            <a:avLst>
              <a:gd name="adj1" fmla="val -124800"/>
              <a:gd name="adj2" fmla="val 20875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nal block is always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bshuaib</cp:lastModifiedBy>
  <dcterms:modified xsi:type="dcterms:W3CDTF">2019-11-24T09:02:33Z</dcterms:modified>
  <cp:revision>204</cp:revision>
  <dc:subject/>
  <dc:title>Chapter 13 Exception Handling</dc:title>
</cp:coreProperties>
</file>