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6998-B6A2-48BB-8E35-979BD8EF8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3B59-C937-457F-95A8-9DAF0BED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67C8-8230-4DEF-BC72-C4832F5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DE77-5900-4510-B875-CF2DEA269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87CE-12FE-42CF-9DA1-796B3A2E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80B2D-2065-4A37-AC5F-D741E8EF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F3EE2-5443-4D00-B42C-B3D7BEB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E1FD3-7023-4C66-90E1-77B51D57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7C26-CA8F-4492-A86B-D32345EF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88FB-6531-458C-B998-981128F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1E32B-1849-4839-8B3F-32B5EBA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7434-3F2E-487C-ADF6-62C6C30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B8D39-DC2A-4335-8ECD-5156E55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14E8E-C0F1-4375-B4CE-1A9071B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5799E-AEA4-431D-96BF-551E611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FA57E-B103-4814-9A38-1A8DBEF6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232E-2615-4C84-BE41-98F6945C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01D6-1514-4186-945C-BBE3D1F8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82E8-3909-41D0-9150-0CE2A57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DFEB-C0F0-411F-A056-DF71401E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8034-BB26-4F80-8239-4F9B09B9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BCB4-9BFD-4F1B-B6B1-7E168BD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44BD-F202-4D94-9BC4-B3CEDF3F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DA65-DC04-4E57-8598-6AC42AD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59C-AF10-40E3-805A-9E2F5D5D6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4A4-739E-4052-99A1-7DE89036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124-2C0F-483C-80D3-D41EBADC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1 Gene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3189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20760" y="459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CA85-8386-453A-88B6-AE11DA57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or Situation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2455920" y="1447920"/>
          <a:ext cx="403524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5920" y="1447920"/>
                    <a:ext cx="40352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7"/>
          <p:cNvSpPr/>
          <p:nvPr/>
        </p:nvSpPr>
        <p:spPr>
          <a:xfrm>
            <a:off x="3505320" y="5253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untim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10"/>
          <p:cNvGraphicFramePr/>
          <p:nvPr/>
        </p:nvGraphicFramePr>
        <p:xfrm>
          <a:off x="2209680" y="3554280"/>
          <a:ext cx="4575240" cy="11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554280"/>
                    <a:ext cx="457524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11"/>
          <p:cNvSpPr/>
          <p:nvPr/>
        </p:nvSpPr>
        <p:spPr>
          <a:xfrm>
            <a:off x="4367160" y="4703760"/>
            <a:ext cx="0" cy="54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4648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E46-7D85-40A6-9A25-459AC27F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440" y="33948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eneric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-190512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-190512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691080" y="551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19051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4495680" y="4799160"/>
            <a:ext cx="0" cy="573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986200" y="33336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320920" y="1376280"/>
          <a:ext cx="472284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376280"/>
                    <a:ext cx="472284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2158920" y="3938760"/>
          <a:ext cx="46735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8920" y="3938760"/>
                    <a:ext cx="4673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A1E-6DEC-46B7-8A2B-B55738F8A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know th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§21.2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/ declar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 classe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§21.3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nderstand why generic types can improve reliability and readability (§21.3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clare and us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ic method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§21.4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FC4C-3ACB-443C-AAF2-B7D5CFCA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You Get a War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ShowUncheckedWarn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.ArrayList li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java.util.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.add("Java Programming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066680" y="4718160"/>
            <a:ext cx="5905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compile warning on this lin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143000" y="3352680"/>
            <a:ext cx="5257800" cy="304920"/>
          </a:xfrm>
          <a:prstGeom prst="rect">
            <a:avLst/>
          </a:prstGeom>
          <a:solidFill>
            <a:srgbClr val="cbcbcb">
              <a:alpha val="4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Straight Arrow Connector 2"/>
          <p:cNvCxnSpPr/>
          <p:nvPr/>
        </p:nvCxnSpPr>
        <p:spPr>
          <a:xfrm>
            <a:off x="4190760" y="3809520"/>
            <a:ext cx="1080" cy="83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5BB-C930-47C6-8593-20693C45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the 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ShowUncheckedWarn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.ArrayList&lt;String&gt; li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java.util.ArrayList&lt;String&gt;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.add("Java Programming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143000" y="3200400"/>
            <a:ext cx="5334120" cy="380880"/>
          </a:xfrm>
          <a:prstGeom prst="rect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47920" y="4495680"/>
            <a:ext cx="7391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752480" y="493704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 compile warning on this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648320" y="2362320"/>
            <a:ext cx="1447560" cy="304560"/>
          </a:xfrm>
          <a:prstGeom prst="rect">
            <a:avLst/>
          </a:prstGeom>
          <a:solidFill>
            <a:srgbClr val="cbcbcb">
              <a:alpha val="3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715000" y="2743200"/>
            <a:ext cx="1447920" cy="304920"/>
          </a:xfrm>
          <a:prstGeom prst="rect">
            <a:avLst/>
          </a:prstGeom>
          <a:solidFill>
            <a:srgbClr val="cbcbcb">
              <a:alpha val="3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Straight Arrow Connector 10"/>
          <p:cNvCxnSpPr/>
          <p:nvPr/>
        </p:nvCxnSpPr>
        <p:spPr>
          <a:xfrm>
            <a:off x="4190760" y="3809520"/>
            <a:ext cx="1080" cy="83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62F3-3A23-4D57-98CD-A9CF9BBD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eneric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capability to parameterize typ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fine a class, an interface or a method with generic types that can be substituted using concrete types by the compil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Compar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EDF-F620-402A-AF37-8973C461C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Generic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benefit of generics is to enable errors to be detected at compile time rather than at run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ic class/interface or method permits you to specify allowable types of objects that the class/ interface or method may work wi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ttempt to use the class or method with an incompatible object, a compile error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BFA3-B94D-42A6-A9AC-58DFEA84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rrayList in JDK 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8288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0" y="21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8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8772-C33D-4346-B7F1-C0CB77EF3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Casting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List&lt;Double&gt; list = new ArrayList&lt;&gt;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add(5.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5.5 is automatically converted to new Double(5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add(3.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3.0 is automatically converted to new Double(3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oubleObject = list.ge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No casting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 = list.get(1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// Automatically converted to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447920" y="4495680"/>
            <a:ext cx="7391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java.la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 compareTo(T 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r E represent a formal generic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can replace it with an actual concrete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737-1939-4BB3-8E91-AC63FE7A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11:53:37Z</dcterms:modified>
  <cp:revision>175</cp:revision>
  <dc:subject/>
  <dc:title>Chapter 4 Methods</dc:title>
</cp:coreProperties>
</file>