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wmf" ContentType="image/x-wmf"/>
  <Override PartName="/ppt/media/image25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17.wmf" ContentType="image/x-wmf"/>
  <Override PartName="/ppt/media/image9.png" ContentType="image/png"/>
  <Override PartName="/ppt/media/image42.wmf" ContentType="image/x-wmf"/>
  <Override PartName="/ppt/media/image5.png" ContentType="image/png"/>
  <Override PartName="/ppt/media/image13.wmf" ContentType="image/x-wmf"/>
  <Override PartName="/ppt/media/image28.png" ContentType="image/png"/>
  <Override PartName="/ppt/media/image32.png" ContentType="image/png"/>
  <Override PartName="/ppt/media/image33.png" ContentType="image/png"/>
  <Override PartName="/ppt/media/image35.wmf" ContentType="image/x-wmf"/>
  <Override PartName="/ppt/media/image30.png" ContentType="image/png"/>
  <Override PartName="/ppt/media/image3.jpeg" ContentType="image/jpeg"/>
  <Override PartName="/ppt/media/image36.wmf" ContentType="image/x-wmf"/>
  <Override PartName="/ppt/media/image37.wmf" ContentType="image/x-wmf"/>
  <Override PartName="/ppt/media/image38.wmf" ContentType="image/x-wmf"/>
  <Override PartName="/ppt/media/image7.png" ContentType="image/png"/>
  <Override PartName="/ppt/media/image40.wmf" ContentType="image/x-wmf"/>
  <Override PartName="/ppt/media/image34.jpeg" ContentType="image/jpeg"/>
  <Override PartName="/ppt/media/image39.wmf" ContentType="image/x-wmf"/>
  <Override PartName="/ppt/media/image8.png" ContentType="image/png"/>
  <Override PartName="/ppt/media/image41.wmf" ContentType="image/x-wmf"/>
  <Override PartName="/ppt/media/image12.png" ContentType="image/png"/>
  <Override PartName="/ppt/media/image11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4.png" ContentType="image/png"/>
  <Override PartName="/ppt/media/image27.png" ContentType="image/png"/>
  <Override PartName="/ppt/media/image29.png" ContentType="image/png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E38E3-6DB7-4AFB-BCF0-4C304F9E14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9D27A-57F6-4730-8C9B-7F8E0E29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15AA2-6390-431A-BADE-BDB4006B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14F97-B1A2-46D9-9773-28BD9D781F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1C2184-5427-4333-AC40-F14B8B72BB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311C4-9EB1-4641-9DFD-3F221A77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FB220D-3745-4518-997B-472E6162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04D37E-2D14-4569-9656-F1A38DC7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C3752-CBE7-4CBE-87BA-C4D1C14BA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F85785-EB2F-452C-B2B6-C06AD8CC0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C5FEB-F402-4FF9-B544-036FC7F2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A7856-692D-4322-9944-0D06229D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29FD62-A793-4ACD-A462-4CC08206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70197A-AF3F-4013-BB7D-6D36D1E6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F034DB-A71C-4AF3-95C6-C0452D6C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1FB8DD-D1A6-4DAF-B396-5CE5EC0D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BD5AE-9B32-4E54-A8C3-0E9A548D2E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B3AD8-6EEE-4553-8B16-CD9B68DF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AB480-D467-4D86-A3DA-F257A0DF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779E3-037D-4EC9-A03C-B0B329252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BA488-41E2-46CD-B072-29A6D7681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5A414-AA4C-4815-9E03-2336C6FF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2E608-270E-41EE-B467-B1DA334E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49360-9BB2-46C6-91D6-BFB32C0C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9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1" name="Rectangle 2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28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3" name="Freeform 3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4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Line 5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Line 6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7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8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" name="Group 27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10" name="Freeform 9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Freeform 10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Freeform 11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Freeform 12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Freeform 13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4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5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Freeform 16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Freeform 17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Freeform 18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Freeform 19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0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Freeform 21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Freeform 22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Freeform 23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Freeform 24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Freeform 25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Freeform 26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2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D71E-2EBF-41CE-BB54-4A0A19BB5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Rectangle 36"/>
          <p:cNvSpPr/>
          <p:nvPr/>
        </p:nvSpPr>
        <p:spPr>
          <a:xfrm>
            <a:off x="1676520" y="6438960"/>
            <a:ext cx="5581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ang, Introduction to Java Programming, Tenth Edition, (c) 2015 Pearson Education, Inc. All rights reserv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31"/>
          <p:cNvGrpSpPr/>
          <p:nvPr/>
        </p:nvGrpSpPr>
        <p:grpSpPr>
          <a:xfrm>
            <a:off x="0" y="114480"/>
            <a:ext cx="9142560" cy="6742080"/>
            <a:chOff x="0" y="114480"/>
            <a:chExt cx="9142560" cy="6742080"/>
          </a:xfrm>
        </p:grpSpPr>
        <p:sp>
          <p:nvSpPr>
            <p:cNvPr id="70" name="Rectangle 2"/>
            <p:cNvSpPr/>
            <p:nvPr/>
          </p:nvSpPr>
          <p:spPr>
            <a:xfrm>
              <a:off x="0" y="3352680"/>
              <a:ext cx="9142560" cy="350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Group 30"/>
            <p:cNvGrpSpPr/>
            <p:nvPr/>
          </p:nvGrpSpPr>
          <p:grpSpPr>
            <a:xfrm>
              <a:off x="0" y="114480"/>
              <a:ext cx="9142560" cy="3238200"/>
              <a:chOff x="0" y="114480"/>
              <a:chExt cx="9142560" cy="3238200"/>
            </a:xfrm>
          </p:grpSpPr>
          <p:sp>
            <p:nvSpPr>
              <p:cNvPr id="72" name="Rectangle 3"/>
              <p:cNvSpPr/>
              <p:nvPr/>
            </p:nvSpPr>
            <p:spPr>
              <a:xfrm>
                <a:off x="0" y="2971800"/>
                <a:ext cx="9142560" cy="380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" name="Group 9"/>
              <p:cNvGrpSpPr/>
              <p:nvPr/>
            </p:nvGrpSpPr>
            <p:grpSpPr>
              <a:xfrm>
                <a:off x="3633840" y="114480"/>
                <a:ext cx="2286000" cy="3149280"/>
                <a:chOff x="3633840" y="114480"/>
                <a:chExt cx="2286000" cy="3149280"/>
              </a:xfrm>
            </p:grpSpPr>
            <p:sp>
              <p:nvSpPr>
                <p:cNvPr id="74" name="Freeform 4"/>
                <p:cNvSpPr/>
                <p:nvPr/>
              </p:nvSpPr>
              <p:spPr>
                <a:xfrm>
                  <a:off x="3633840" y="201600"/>
                  <a:ext cx="2286000" cy="2809800"/>
                </a:xfrm>
                <a:custGeom>
                  <a:avLst/>
                  <a:gdLst/>
                  <a:ahLst/>
                  <a:rect l="l" t="t" r="r" b="b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5f5f5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Line 5"/>
                <p:cNvSpPr/>
                <p:nvPr/>
              </p:nvSpPr>
              <p:spPr>
                <a:xfrm flipV="1">
                  <a:off x="3689280" y="2571480"/>
                  <a:ext cx="227160" cy="4093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Line 6"/>
                <p:cNvSpPr/>
                <p:nvPr/>
              </p:nvSpPr>
              <p:spPr>
                <a:xfrm flipV="1">
                  <a:off x="4951440" y="385920"/>
                  <a:ext cx="7920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Line 7"/>
                <p:cNvSpPr/>
                <p:nvPr/>
              </p:nvSpPr>
              <p:spPr>
                <a:xfrm flipV="1">
                  <a:off x="5084640" y="114480"/>
                  <a:ext cx="7956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Freeform 8"/>
                <p:cNvSpPr/>
                <p:nvPr/>
              </p:nvSpPr>
              <p:spPr>
                <a:xfrm>
                  <a:off x="3941640" y="3021120"/>
                  <a:ext cx="1335240" cy="242640"/>
                </a:xfrm>
                <a:custGeom>
                  <a:avLst/>
                  <a:gdLst/>
                  <a:ahLst/>
                  <a:rect l="l" t="t" r="r" b="b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f5f5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" name="Oval 10"/>
              <p:cNvSpPr/>
              <p:nvPr/>
            </p:nvSpPr>
            <p:spPr>
              <a:xfrm>
                <a:off x="3287880" y="396720"/>
                <a:ext cx="2376360" cy="2372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" name="Group 29"/>
              <p:cNvGrpSpPr/>
              <p:nvPr/>
            </p:nvGrpSpPr>
            <p:grpSpPr>
              <a:xfrm>
                <a:off x="3287880" y="644400"/>
                <a:ext cx="2209680" cy="1760760"/>
                <a:chOff x="3287880" y="644400"/>
                <a:chExt cx="2209680" cy="1760760"/>
              </a:xfrm>
            </p:grpSpPr>
            <p:sp>
              <p:nvSpPr>
                <p:cNvPr id="81" name="Freeform 11"/>
                <p:cNvSpPr/>
                <p:nvPr/>
              </p:nvSpPr>
              <p:spPr>
                <a:xfrm>
                  <a:off x="3600360" y="128916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Freeform 12"/>
                <p:cNvSpPr/>
                <p:nvPr/>
              </p:nvSpPr>
              <p:spPr>
                <a:xfrm>
                  <a:off x="3638520" y="1338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Freeform 13"/>
                <p:cNvSpPr/>
                <p:nvPr/>
              </p:nvSpPr>
              <p:spPr>
                <a:xfrm>
                  <a:off x="3765600" y="1273320"/>
                  <a:ext cx="81000" cy="75960"/>
                </a:xfrm>
                <a:custGeom>
                  <a:avLst/>
                  <a:gdLst/>
                  <a:ahLst/>
                  <a:rect l="l" t="t" r="r" b="b"/>
                  <a:pathLst>
                    <a:path w="51" h="48">
                      <a:moveTo>
                        <a:pt x="50" y="0"/>
                      </a:moveTo>
                      <a:lnTo>
                        <a:pt x="31" y="0"/>
                      </a:lnTo>
                      <a:lnTo>
                        <a:pt x="20" y="13"/>
                      </a:lnTo>
                      <a:lnTo>
                        <a:pt x="13" y="13"/>
                      </a:lnTo>
                      <a:lnTo>
                        <a:pt x="7" y="19"/>
                      </a:lnTo>
                      <a:lnTo>
                        <a:pt x="0" y="19"/>
                      </a:lnTo>
                      <a:lnTo>
                        <a:pt x="0" y="35"/>
                      </a:lnTo>
                      <a:lnTo>
                        <a:pt x="12" y="47"/>
                      </a:lnTo>
                      <a:lnTo>
                        <a:pt x="41" y="47"/>
                      </a:lnTo>
                      <a:lnTo>
                        <a:pt x="50" y="3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Freeform 14"/>
                <p:cNvSpPr/>
                <p:nvPr/>
              </p:nvSpPr>
              <p:spPr>
                <a:xfrm>
                  <a:off x="3287880" y="1333440"/>
                  <a:ext cx="715680" cy="932040"/>
                </a:xfrm>
                <a:custGeom>
                  <a:avLst/>
                  <a:gdLst/>
                  <a:ahLst/>
                  <a:rect l="l" t="t" r="r" b="b"/>
                  <a:pathLst>
                    <a:path w="451" h="587">
                      <a:moveTo>
                        <a:pt x="107" y="0"/>
                      </a:moveTo>
                      <a:lnTo>
                        <a:pt x="99" y="16"/>
                      </a:lnTo>
                      <a:lnTo>
                        <a:pt x="64" y="47"/>
                      </a:lnTo>
                      <a:lnTo>
                        <a:pt x="56" y="75"/>
                      </a:lnTo>
                      <a:lnTo>
                        <a:pt x="30" y="95"/>
                      </a:lnTo>
                      <a:lnTo>
                        <a:pt x="12" y="135"/>
                      </a:lnTo>
                      <a:lnTo>
                        <a:pt x="12" y="159"/>
                      </a:lnTo>
                      <a:lnTo>
                        <a:pt x="0" y="201"/>
                      </a:lnTo>
                      <a:lnTo>
                        <a:pt x="16" y="219"/>
                      </a:lnTo>
                      <a:lnTo>
                        <a:pt x="56" y="272"/>
                      </a:lnTo>
                      <a:lnTo>
                        <a:pt x="68" y="265"/>
                      </a:lnTo>
                      <a:lnTo>
                        <a:pt x="139" y="265"/>
                      </a:lnTo>
                      <a:lnTo>
                        <a:pt x="172" y="278"/>
                      </a:lnTo>
                      <a:lnTo>
                        <a:pt x="169" y="319"/>
                      </a:lnTo>
                      <a:lnTo>
                        <a:pt x="193" y="374"/>
                      </a:lnTo>
                      <a:lnTo>
                        <a:pt x="191" y="389"/>
                      </a:lnTo>
                      <a:lnTo>
                        <a:pt x="201" y="406"/>
                      </a:lnTo>
                      <a:lnTo>
                        <a:pt x="186" y="445"/>
                      </a:lnTo>
                      <a:lnTo>
                        <a:pt x="204" y="494"/>
                      </a:lnTo>
                      <a:lnTo>
                        <a:pt x="214" y="532"/>
                      </a:lnTo>
                      <a:lnTo>
                        <a:pt x="226" y="556"/>
                      </a:lnTo>
                      <a:lnTo>
                        <a:pt x="239" y="586"/>
                      </a:lnTo>
                      <a:lnTo>
                        <a:pt x="263" y="582"/>
                      </a:lnTo>
                      <a:lnTo>
                        <a:pt x="302" y="560"/>
                      </a:lnTo>
                      <a:lnTo>
                        <a:pt x="320" y="533"/>
                      </a:lnTo>
                      <a:lnTo>
                        <a:pt x="319" y="515"/>
                      </a:lnTo>
                      <a:lnTo>
                        <a:pt x="342" y="500"/>
                      </a:lnTo>
                      <a:lnTo>
                        <a:pt x="338" y="474"/>
                      </a:lnTo>
                      <a:lnTo>
                        <a:pt x="373" y="432"/>
                      </a:lnTo>
                      <a:lnTo>
                        <a:pt x="378" y="398"/>
                      </a:lnTo>
                      <a:lnTo>
                        <a:pt x="369" y="386"/>
                      </a:lnTo>
                      <a:lnTo>
                        <a:pt x="373" y="372"/>
                      </a:lnTo>
                      <a:lnTo>
                        <a:pt x="365" y="360"/>
                      </a:lnTo>
                      <a:lnTo>
                        <a:pt x="391" y="327"/>
                      </a:lnTo>
                      <a:lnTo>
                        <a:pt x="391" y="310"/>
                      </a:lnTo>
                      <a:lnTo>
                        <a:pt x="427" y="282"/>
                      </a:lnTo>
                      <a:lnTo>
                        <a:pt x="450" y="207"/>
                      </a:lnTo>
                      <a:lnTo>
                        <a:pt x="417" y="226"/>
                      </a:lnTo>
                      <a:lnTo>
                        <a:pt x="388" y="218"/>
                      </a:lnTo>
                      <a:lnTo>
                        <a:pt x="392" y="200"/>
                      </a:lnTo>
                      <a:lnTo>
                        <a:pt x="363" y="180"/>
                      </a:lnTo>
                      <a:lnTo>
                        <a:pt x="349" y="132"/>
                      </a:lnTo>
                      <a:lnTo>
                        <a:pt x="321" y="93"/>
                      </a:lnTo>
                      <a:lnTo>
                        <a:pt x="321" y="66"/>
                      </a:lnTo>
                      <a:lnTo>
                        <a:pt x="306" y="65"/>
                      </a:lnTo>
                      <a:lnTo>
                        <a:pt x="296" y="69"/>
                      </a:lnTo>
                      <a:lnTo>
                        <a:pt x="254" y="54"/>
                      </a:lnTo>
                      <a:lnTo>
                        <a:pt x="243" y="65"/>
                      </a:lnTo>
                      <a:lnTo>
                        <a:pt x="234" y="78"/>
                      </a:lnTo>
                      <a:lnTo>
                        <a:pt x="211" y="53"/>
                      </a:lnTo>
                      <a:lnTo>
                        <a:pt x="189" y="47"/>
                      </a:lnTo>
                      <a:lnTo>
                        <a:pt x="187" y="15"/>
                      </a:lnTo>
                      <a:lnTo>
                        <a:pt x="155" y="20"/>
                      </a:lnTo>
                      <a:lnTo>
                        <a:pt x="135" y="13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Freeform 15"/>
                <p:cNvSpPr/>
                <p:nvPr/>
              </p:nvSpPr>
              <p:spPr>
                <a:xfrm>
                  <a:off x="4940280" y="1566720"/>
                  <a:ext cx="27000" cy="4464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7" y="0"/>
                      </a:moveTo>
                      <a:lnTo>
                        <a:pt x="9" y="8"/>
                      </a:lnTo>
                      <a:lnTo>
                        <a:pt x="7" y="14"/>
                      </a:lnTo>
                      <a:lnTo>
                        <a:pt x="7" y="19"/>
                      </a:lnTo>
                      <a:lnTo>
                        <a:pt x="16" y="23"/>
                      </a:lnTo>
                      <a:lnTo>
                        <a:pt x="16" y="27"/>
                      </a:lnTo>
                      <a:lnTo>
                        <a:pt x="9" y="23"/>
                      </a:lnTo>
                      <a:lnTo>
                        <a:pt x="3" y="27"/>
                      </a:lnTo>
                      <a:lnTo>
                        <a:pt x="0" y="23"/>
                      </a:lnTo>
                      <a:lnTo>
                        <a:pt x="3" y="19"/>
                      </a:lnTo>
                      <a:lnTo>
                        <a:pt x="0" y="14"/>
                      </a:ln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Freeform 16"/>
                <p:cNvSpPr/>
                <p:nvPr/>
              </p:nvSpPr>
              <p:spPr>
                <a:xfrm>
                  <a:off x="4805280" y="1760400"/>
                  <a:ext cx="108000" cy="154080"/>
                </a:xfrm>
                <a:custGeom>
                  <a:avLst/>
                  <a:gdLst/>
                  <a:ahLst/>
                  <a:rect l="l" t="t" r="r" b="b"/>
                  <a:pathLst>
                    <a:path w="68" h="97">
                      <a:moveTo>
                        <a:pt x="0" y="48"/>
                      </a:moveTo>
                      <a:lnTo>
                        <a:pt x="24" y="48"/>
                      </a:lnTo>
                      <a:lnTo>
                        <a:pt x="52" y="0"/>
                      </a:lnTo>
                      <a:lnTo>
                        <a:pt x="67" y="28"/>
                      </a:lnTo>
                      <a:lnTo>
                        <a:pt x="55" y="96"/>
                      </a:lnTo>
                      <a:lnTo>
                        <a:pt x="5" y="80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Freeform 17"/>
                <p:cNvSpPr/>
                <p:nvPr/>
              </p:nvSpPr>
              <p:spPr>
                <a:xfrm>
                  <a:off x="5019840" y="1819440"/>
                  <a:ext cx="185400" cy="149040"/>
                </a:xfrm>
                <a:custGeom>
                  <a:avLst/>
                  <a:gdLst/>
                  <a:ahLst/>
                  <a:rect l="l" t="t" r="r" b="b"/>
                  <a:pathLst>
                    <a:path w="117" h="94">
                      <a:moveTo>
                        <a:pt x="7" y="22"/>
                      </a:moveTo>
                      <a:lnTo>
                        <a:pt x="0" y="0"/>
                      </a:lnTo>
                      <a:lnTo>
                        <a:pt x="39" y="9"/>
                      </a:lnTo>
                      <a:lnTo>
                        <a:pt x="95" y="32"/>
                      </a:lnTo>
                      <a:lnTo>
                        <a:pt x="95" y="49"/>
                      </a:lnTo>
                      <a:lnTo>
                        <a:pt x="116" y="93"/>
                      </a:lnTo>
                      <a:lnTo>
                        <a:pt x="73" y="51"/>
                      </a:lnTo>
                      <a:lnTo>
                        <a:pt x="44" y="54"/>
                      </a:lnTo>
                      <a:lnTo>
                        <a:pt x="7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Freeform 18"/>
                <p:cNvSpPr/>
                <p:nvPr/>
              </p:nvSpPr>
              <p:spPr>
                <a:xfrm>
                  <a:off x="5372280" y="2122560"/>
                  <a:ext cx="125280" cy="160200"/>
                </a:xfrm>
                <a:custGeom>
                  <a:avLst/>
                  <a:gdLst/>
                  <a:ahLst/>
                  <a:rect l="l" t="t" r="r" b="b"/>
                  <a:pathLst>
                    <a:path w="79" h="101">
                      <a:moveTo>
                        <a:pt x="48" y="0"/>
                      </a:moveTo>
                      <a:lnTo>
                        <a:pt x="78" y="30"/>
                      </a:lnTo>
                      <a:lnTo>
                        <a:pt x="16" y="100"/>
                      </a:lnTo>
                      <a:lnTo>
                        <a:pt x="0" y="84"/>
                      </a:lnTo>
                      <a:lnTo>
                        <a:pt x="45" y="39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Freeform 19"/>
                <p:cNvSpPr/>
                <p:nvPr/>
              </p:nvSpPr>
              <p:spPr>
                <a:xfrm>
                  <a:off x="3510000" y="1033560"/>
                  <a:ext cx="61920" cy="104760"/>
                </a:xfrm>
                <a:custGeom>
                  <a:avLst/>
                  <a:gdLst/>
                  <a:ahLst/>
                  <a:rect l="l" t="t" r="r" b="b"/>
                  <a:pathLst>
                    <a:path w="39" h="66">
                      <a:moveTo>
                        <a:pt x="38" y="51"/>
                      </a:moveTo>
                      <a:lnTo>
                        <a:pt x="28" y="43"/>
                      </a:lnTo>
                      <a:lnTo>
                        <a:pt x="28" y="14"/>
                      </a:lnTo>
                      <a:lnTo>
                        <a:pt x="33" y="8"/>
                      </a:lnTo>
                      <a:lnTo>
                        <a:pt x="24" y="8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14" y="27"/>
                      </a:lnTo>
                      <a:lnTo>
                        <a:pt x="18" y="31"/>
                      </a:lnTo>
                      <a:lnTo>
                        <a:pt x="18" y="39"/>
                      </a:lnTo>
                      <a:lnTo>
                        <a:pt x="16" y="39"/>
                      </a:lnTo>
                      <a:lnTo>
                        <a:pt x="9" y="46"/>
                      </a:lnTo>
                      <a:lnTo>
                        <a:pt x="9" y="53"/>
                      </a:lnTo>
                      <a:lnTo>
                        <a:pt x="0" y="65"/>
                      </a:lnTo>
                      <a:lnTo>
                        <a:pt x="29" y="65"/>
                      </a:lnTo>
                      <a:lnTo>
                        <a:pt x="38" y="5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Freeform 20"/>
                <p:cNvSpPr/>
                <p:nvPr/>
              </p:nvSpPr>
              <p:spPr>
                <a:xfrm>
                  <a:off x="3489480" y="106848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17" y="8"/>
                      </a:moveTo>
                      <a:lnTo>
                        <a:pt x="20" y="8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17" y="17"/>
                      </a:lnTo>
                      <a:lnTo>
                        <a:pt x="17" y="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Freeform 21"/>
                <p:cNvSpPr/>
                <p:nvPr/>
              </p:nvSpPr>
              <p:spPr>
                <a:xfrm>
                  <a:off x="3440160" y="100656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168" y="0"/>
                      </a:moveTo>
                      <a:lnTo>
                        <a:pt x="168" y="15"/>
                      </a:lnTo>
                      <a:lnTo>
                        <a:pt x="173" y="20"/>
                      </a:lnTo>
                      <a:lnTo>
                        <a:pt x="201" y="20"/>
                      </a:lnTo>
                      <a:lnTo>
                        <a:pt x="201" y="28"/>
                      </a:lnTo>
                      <a:lnTo>
                        <a:pt x="181" y="28"/>
                      </a:lnTo>
                      <a:lnTo>
                        <a:pt x="181" y="52"/>
                      </a:lnTo>
                      <a:lnTo>
                        <a:pt x="172" y="41"/>
                      </a:lnTo>
                      <a:lnTo>
                        <a:pt x="172" y="56"/>
                      </a:lnTo>
                      <a:lnTo>
                        <a:pt x="160" y="70"/>
                      </a:lnTo>
                      <a:lnTo>
                        <a:pt x="152" y="62"/>
                      </a:lnTo>
                      <a:lnTo>
                        <a:pt x="140" y="72"/>
                      </a:lnTo>
                      <a:lnTo>
                        <a:pt x="138" y="69"/>
                      </a:lnTo>
                      <a:lnTo>
                        <a:pt x="123" y="69"/>
                      </a:lnTo>
                      <a:lnTo>
                        <a:pt x="131" y="59"/>
                      </a:lnTo>
                      <a:lnTo>
                        <a:pt x="131" y="55"/>
                      </a:lnTo>
                      <a:lnTo>
                        <a:pt x="124" y="48"/>
                      </a:lnTo>
                      <a:lnTo>
                        <a:pt x="124" y="37"/>
                      </a:lnTo>
                      <a:lnTo>
                        <a:pt x="114" y="48"/>
                      </a:lnTo>
                      <a:lnTo>
                        <a:pt x="114" y="69"/>
                      </a:lnTo>
                      <a:lnTo>
                        <a:pt x="102" y="69"/>
                      </a:lnTo>
                      <a:lnTo>
                        <a:pt x="87" y="84"/>
                      </a:lnTo>
                      <a:lnTo>
                        <a:pt x="81" y="84"/>
                      </a:lnTo>
                      <a:lnTo>
                        <a:pt x="73" y="94"/>
                      </a:lnTo>
                      <a:lnTo>
                        <a:pt x="43" y="94"/>
                      </a:lnTo>
                      <a:lnTo>
                        <a:pt x="53" y="108"/>
                      </a:lnTo>
                      <a:lnTo>
                        <a:pt x="53" y="130"/>
                      </a:lnTo>
                      <a:lnTo>
                        <a:pt x="43" y="143"/>
                      </a:lnTo>
                      <a:lnTo>
                        <a:pt x="31" y="130"/>
                      </a:lnTo>
                      <a:lnTo>
                        <a:pt x="8" y="130"/>
                      </a:lnTo>
                      <a:lnTo>
                        <a:pt x="8" y="146"/>
                      </a:lnTo>
                      <a:lnTo>
                        <a:pt x="0" y="156"/>
                      </a:lnTo>
                      <a:lnTo>
                        <a:pt x="0" y="177"/>
                      </a:lnTo>
                      <a:lnTo>
                        <a:pt x="15" y="194"/>
                      </a:lnTo>
                      <a:lnTo>
                        <a:pt x="37" y="194"/>
                      </a:lnTo>
                      <a:lnTo>
                        <a:pt x="71" y="153"/>
                      </a:lnTo>
                      <a:lnTo>
                        <a:pt x="101" y="153"/>
                      </a:lnTo>
                      <a:lnTo>
                        <a:pt x="105" y="145"/>
                      </a:lnTo>
                      <a:lnTo>
                        <a:pt x="112" y="153"/>
                      </a:lnTo>
                      <a:lnTo>
                        <a:pt x="111" y="161"/>
                      </a:lnTo>
                      <a:lnTo>
                        <a:pt x="139" y="189"/>
                      </a:lnTo>
                      <a:lnTo>
                        <a:pt x="139" y="201"/>
                      </a:lnTo>
                      <a:lnTo>
                        <a:pt x="145" y="196"/>
                      </a:lnTo>
                      <a:lnTo>
                        <a:pt x="142" y="189"/>
                      </a:lnTo>
                      <a:lnTo>
                        <a:pt x="145" y="185"/>
                      </a:lnTo>
                      <a:lnTo>
                        <a:pt x="150" y="189"/>
                      </a:lnTo>
                      <a:lnTo>
                        <a:pt x="152" y="188"/>
                      </a:lnTo>
                      <a:lnTo>
                        <a:pt x="123" y="152"/>
                      </a:lnTo>
                      <a:lnTo>
                        <a:pt x="123" y="139"/>
                      </a:lnTo>
                      <a:lnTo>
                        <a:pt x="131" y="139"/>
                      </a:lnTo>
                      <a:lnTo>
                        <a:pt x="131" y="146"/>
                      </a:lnTo>
                      <a:lnTo>
                        <a:pt x="160" y="178"/>
                      </a:lnTo>
                      <a:lnTo>
                        <a:pt x="160" y="188"/>
                      </a:lnTo>
                      <a:lnTo>
                        <a:pt x="172" y="202"/>
                      </a:lnTo>
                      <a:lnTo>
                        <a:pt x="169" y="205"/>
                      </a:lnTo>
                      <a:lnTo>
                        <a:pt x="178" y="215"/>
                      </a:lnTo>
                      <a:lnTo>
                        <a:pt x="191" y="200"/>
                      </a:lnTo>
                      <a:lnTo>
                        <a:pt x="183" y="191"/>
                      </a:lnTo>
                      <a:lnTo>
                        <a:pt x="191" y="182"/>
                      </a:lnTo>
                      <a:lnTo>
                        <a:pt x="202" y="182"/>
                      </a:lnTo>
                      <a:lnTo>
                        <a:pt x="207" y="177"/>
                      </a:lnTo>
                      <a:lnTo>
                        <a:pt x="214" y="177"/>
                      </a:lnTo>
                      <a:lnTo>
                        <a:pt x="205" y="164"/>
                      </a:lnTo>
                      <a:lnTo>
                        <a:pt x="210" y="158"/>
                      </a:lnTo>
                      <a:lnTo>
                        <a:pt x="210" y="137"/>
                      </a:lnTo>
                      <a:lnTo>
                        <a:pt x="219" y="126"/>
                      </a:lnTo>
                      <a:lnTo>
                        <a:pt x="223" y="130"/>
                      </a:lnTo>
                      <a:lnTo>
                        <a:pt x="232" y="130"/>
                      </a:lnTo>
                      <a:lnTo>
                        <a:pt x="228" y="136"/>
                      </a:lnTo>
                      <a:lnTo>
                        <a:pt x="236" y="145"/>
                      </a:lnTo>
                      <a:lnTo>
                        <a:pt x="241" y="137"/>
                      </a:lnTo>
                      <a:lnTo>
                        <a:pt x="247" y="137"/>
                      </a:lnTo>
                      <a:lnTo>
                        <a:pt x="247" y="134"/>
                      </a:lnTo>
                      <a:lnTo>
                        <a:pt x="244" y="134"/>
                      </a:lnTo>
                      <a:lnTo>
                        <a:pt x="239" y="130"/>
                      </a:lnTo>
                      <a:lnTo>
                        <a:pt x="252" y="114"/>
                      </a:lnTo>
                      <a:lnTo>
                        <a:pt x="252" y="137"/>
                      </a:lnTo>
                      <a:lnTo>
                        <a:pt x="255" y="137"/>
                      </a:lnTo>
                      <a:lnTo>
                        <a:pt x="255" y="0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Freeform 22"/>
                <p:cNvSpPr/>
                <p:nvPr/>
              </p:nvSpPr>
              <p:spPr>
                <a:xfrm>
                  <a:off x="3613320" y="644400"/>
                  <a:ext cx="1728720" cy="1220760"/>
                </a:xfrm>
                <a:custGeom>
                  <a:avLst/>
                  <a:gdLst/>
                  <a:ahLst/>
                  <a:rect l="l" t="t" r="r" b="b"/>
                  <a:pathLst>
                    <a:path w="1089" h="769">
                      <a:moveTo>
                        <a:pt x="0" y="226"/>
                      </a:moveTo>
                      <a:lnTo>
                        <a:pt x="32" y="202"/>
                      </a:lnTo>
                      <a:lnTo>
                        <a:pt x="62" y="156"/>
                      </a:lnTo>
                      <a:lnTo>
                        <a:pt x="99" y="134"/>
                      </a:lnTo>
                      <a:lnTo>
                        <a:pt x="137" y="160"/>
                      </a:lnTo>
                      <a:lnTo>
                        <a:pt x="142" y="181"/>
                      </a:lnTo>
                      <a:lnTo>
                        <a:pt x="133" y="181"/>
                      </a:lnTo>
                      <a:lnTo>
                        <a:pt x="118" y="179"/>
                      </a:lnTo>
                      <a:lnTo>
                        <a:pt x="137" y="202"/>
                      </a:lnTo>
                      <a:lnTo>
                        <a:pt x="216" y="172"/>
                      </a:lnTo>
                      <a:lnTo>
                        <a:pt x="206" y="149"/>
                      </a:lnTo>
                      <a:lnTo>
                        <a:pt x="240" y="110"/>
                      </a:lnTo>
                      <a:lnTo>
                        <a:pt x="262" y="111"/>
                      </a:lnTo>
                      <a:lnTo>
                        <a:pt x="241" y="124"/>
                      </a:lnTo>
                      <a:lnTo>
                        <a:pt x="223" y="153"/>
                      </a:lnTo>
                      <a:lnTo>
                        <a:pt x="223" y="172"/>
                      </a:lnTo>
                      <a:lnTo>
                        <a:pt x="255" y="193"/>
                      </a:lnTo>
                      <a:lnTo>
                        <a:pt x="301" y="133"/>
                      </a:lnTo>
                      <a:lnTo>
                        <a:pt x="461" y="63"/>
                      </a:lnTo>
                      <a:lnTo>
                        <a:pt x="460" y="23"/>
                      </a:lnTo>
                      <a:lnTo>
                        <a:pt x="533" y="8"/>
                      </a:lnTo>
                      <a:lnTo>
                        <a:pt x="574" y="29"/>
                      </a:lnTo>
                      <a:lnTo>
                        <a:pt x="671" y="0"/>
                      </a:lnTo>
                      <a:lnTo>
                        <a:pt x="701" y="15"/>
                      </a:lnTo>
                      <a:lnTo>
                        <a:pt x="766" y="85"/>
                      </a:lnTo>
                      <a:lnTo>
                        <a:pt x="840" y="71"/>
                      </a:lnTo>
                      <a:lnTo>
                        <a:pt x="886" y="96"/>
                      </a:lnTo>
                      <a:lnTo>
                        <a:pt x="1001" y="91"/>
                      </a:lnTo>
                      <a:lnTo>
                        <a:pt x="1088" y="118"/>
                      </a:lnTo>
                      <a:lnTo>
                        <a:pt x="1080" y="156"/>
                      </a:lnTo>
                      <a:lnTo>
                        <a:pt x="1006" y="181"/>
                      </a:lnTo>
                      <a:lnTo>
                        <a:pt x="1019" y="206"/>
                      </a:lnTo>
                      <a:lnTo>
                        <a:pt x="987" y="220"/>
                      </a:lnTo>
                      <a:lnTo>
                        <a:pt x="985" y="270"/>
                      </a:lnTo>
                      <a:lnTo>
                        <a:pt x="957" y="304"/>
                      </a:lnTo>
                      <a:lnTo>
                        <a:pt x="945" y="273"/>
                      </a:lnTo>
                      <a:lnTo>
                        <a:pt x="961" y="244"/>
                      </a:lnTo>
                      <a:lnTo>
                        <a:pt x="958" y="184"/>
                      </a:lnTo>
                      <a:lnTo>
                        <a:pt x="929" y="215"/>
                      </a:lnTo>
                      <a:lnTo>
                        <a:pt x="906" y="232"/>
                      </a:lnTo>
                      <a:lnTo>
                        <a:pt x="884" y="205"/>
                      </a:lnTo>
                      <a:lnTo>
                        <a:pt x="868" y="273"/>
                      </a:lnTo>
                      <a:lnTo>
                        <a:pt x="885" y="273"/>
                      </a:lnTo>
                      <a:lnTo>
                        <a:pt x="881" y="318"/>
                      </a:lnTo>
                      <a:lnTo>
                        <a:pt x="861" y="366"/>
                      </a:lnTo>
                      <a:lnTo>
                        <a:pt x="837" y="385"/>
                      </a:lnTo>
                      <a:lnTo>
                        <a:pt x="857" y="417"/>
                      </a:lnTo>
                      <a:lnTo>
                        <a:pt x="844" y="439"/>
                      </a:lnTo>
                      <a:lnTo>
                        <a:pt x="839" y="420"/>
                      </a:lnTo>
                      <a:lnTo>
                        <a:pt x="839" y="413"/>
                      </a:lnTo>
                      <a:lnTo>
                        <a:pt x="823" y="402"/>
                      </a:lnTo>
                      <a:lnTo>
                        <a:pt x="797" y="416"/>
                      </a:lnTo>
                      <a:lnTo>
                        <a:pt x="820" y="469"/>
                      </a:lnTo>
                      <a:lnTo>
                        <a:pt x="828" y="496"/>
                      </a:lnTo>
                      <a:lnTo>
                        <a:pt x="801" y="569"/>
                      </a:lnTo>
                      <a:lnTo>
                        <a:pt x="751" y="589"/>
                      </a:lnTo>
                      <a:lnTo>
                        <a:pt x="710" y="585"/>
                      </a:lnTo>
                      <a:lnTo>
                        <a:pt x="730" y="615"/>
                      </a:lnTo>
                      <a:lnTo>
                        <a:pt x="732" y="657"/>
                      </a:lnTo>
                      <a:lnTo>
                        <a:pt x="703" y="706"/>
                      </a:lnTo>
                      <a:lnTo>
                        <a:pt x="670" y="679"/>
                      </a:lnTo>
                      <a:lnTo>
                        <a:pt x="665" y="708"/>
                      </a:lnTo>
                      <a:lnTo>
                        <a:pt x="690" y="732"/>
                      </a:lnTo>
                      <a:lnTo>
                        <a:pt x="711" y="768"/>
                      </a:lnTo>
                      <a:lnTo>
                        <a:pt x="676" y="747"/>
                      </a:lnTo>
                      <a:lnTo>
                        <a:pt x="634" y="626"/>
                      </a:lnTo>
                      <a:lnTo>
                        <a:pt x="583" y="593"/>
                      </a:lnTo>
                      <a:lnTo>
                        <a:pt x="545" y="596"/>
                      </a:lnTo>
                      <a:lnTo>
                        <a:pt x="497" y="665"/>
                      </a:lnTo>
                      <a:lnTo>
                        <a:pt x="503" y="689"/>
                      </a:lnTo>
                      <a:lnTo>
                        <a:pt x="487" y="738"/>
                      </a:lnTo>
                      <a:lnTo>
                        <a:pt x="471" y="738"/>
                      </a:lnTo>
                      <a:lnTo>
                        <a:pt x="416" y="636"/>
                      </a:lnTo>
                      <a:lnTo>
                        <a:pt x="416" y="592"/>
                      </a:lnTo>
                      <a:lnTo>
                        <a:pt x="404" y="608"/>
                      </a:lnTo>
                      <a:lnTo>
                        <a:pt x="373" y="607"/>
                      </a:lnTo>
                      <a:lnTo>
                        <a:pt x="385" y="580"/>
                      </a:lnTo>
                      <a:lnTo>
                        <a:pt x="336" y="545"/>
                      </a:lnTo>
                      <a:lnTo>
                        <a:pt x="275" y="545"/>
                      </a:lnTo>
                      <a:lnTo>
                        <a:pt x="223" y="510"/>
                      </a:lnTo>
                      <a:lnTo>
                        <a:pt x="220" y="545"/>
                      </a:lnTo>
                      <a:lnTo>
                        <a:pt x="263" y="577"/>
                      </a:lnTo>
                      <a:lnTo>
                        <a:pt x="278" y="576"/>
                      </a:lnTo>
                      <a:lnTo>
                        <a:pt x="234" y="620"/>
                      </a:lnTo>
                      <a:lnTo>
                        <a:pt x="190" y="630"/>
                      </a:lnTo>
                      <a:lnTo>
                        <a:pt x="190" y="605"/>
                      </a:lnTo>
                      <a:lnTo>
                        <a:pt x="127" y="518"/>
                      </a:lnTo>
                      <a:lnTo>
                        <a:pt x="119" y="495"/>
                      </a:lnTo>
                      <a:lnTo>
                        <a:pt x="153" y="467"/>
                      </a:lnTo>
                      <a:lnTo>
                        <a:pt x="149" y="432"/>
                      </a:lnTo>
                      <a:lnTo>
                        <a:pt x="149" y="393"/>
                      </a:lnTo>
                      <a:lnTo>
                        <a:pt x="166" y="385"/>
                      </a:lnTo>
                      <a:lnTo>
                        <a:pt x="149" y="366"/>
                      </a:lnTo>
                      <a:lnTo>
                        <a:pt x="149" y="226"/>
                      </a:lnTo>
                      <a:lnTo>
                        <a:pt x="61" y="226"/>
                      </a:lnTo>
                      <a:lnTo>
                        <a:pt x="86" y="193"/>
                      </a:lnTo>
                      <a:lnTo>
                        <a:pt x="84" y="181"/>
                      </a:lnTo>
                      <a:lnTo>
                        <a:pt x="55" y="210"/>
                      </a:lnTo>
                      <a:lnTo>
                        <a:pt x="45" y="226"/>
                      </a:lnTo>
                      <a:lnTo>
                        <a:pt x="0" y="2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Freeform 23"/>
                <p:cNvSpPr/>
                <p:nvPr/>
              </p:nvSpPr>
              <p:spPr>
                <a:xfrm>
                  <a:off x="4976640" y="1143000"/>
                  <a:ext cx="149400" cy="249120"/>
                </a:xfrm>
                <a:custGeom>
                  <a:avLst/>
                  <a:gdLst/>
                  <a:ahLst/>
                  <a:rect l="l" t="t" r="r" b="b"/>
                  <a:pathLst>
                    <a:path w="94" h="157">
                      <a:moveTo>
                        <a:pt x="63" y="0"/>
                      </a:moveTo>
                      <a:lnTo>
                        <a:pt x="63" y="20"/>
                      </a:lnTo>
                      <a:lnTo>
                        <a:pt x="55" y="33"/>
                      </a:lnTo>
                      <a:lnTo>
                        <a:pt x="57" y="54"/>
                      </a:lnTo>
                      <a:lnTo>
                        <a:pt x="47" y="82"/>
                      </a:lnTo>
                      <a:lnTo>
                        <a:pt x="31" y="108"/>
                      </a:lnTo>
                      <a:lnTo>
                        <a:pt x="7" y="125"/>
                      </a:lnTo>
                      <a:lnTo>
                        <a:pt x="0" y="154"/>
                      </a:lnTo>
                      <a:lnTo>
                        <a:pt x="10" y="156"/>
                      </a:lnTo>
                      <a:lnTo>
                        <a:pt x="10" y="129"/>
                      </a:lnTo>
                      <a:lnTo>
                        <a:pt x="44" y="127"/>
                      </a:lnTo>
                      <a:lnTo>
                        <a:pt x="69" y="109"/>
                      </a:lnTo>
                      <a:lnTo>
                        <a:pt x="69" y="72"/>
                      </a:lnTo>
                      <a:lnTo>
                        <a:pt x="77" y="58"/>
                      </a:lnTo>
                      <a:lnTo>
                        <a:pt x="64" y="34"/>
                      </a:lnTo>
                      <a:lnTo>
                        <a:pt x="82" y="27"/>
                      </a:lnTo>
                      <a:lnTo>
                        <a:pt x="93" y="8"/>
                      </a:lnTo>
                      <a:lnTo>
                        <a:pt x="69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Freeform 24"/>
                <p:cNvSpPr/>
                <p:nvPr/>
              </p:nvSpPr>
              <p:spPr>
                <a:xfrm>
                  <a:off x="4413240" y="1808280"/>
                  <a:ext cx="30240" cy="56880"/>
                </a:xfrm>
                <a:custGeom>
                  <a:avLst/>
                  <a:gdLst/>
                  <a:ahLst/>
                  <a:rect l="l" t="t" r="r" b="b"/>
                  <a:pathLst>
                    <a:path w="19" h="36">
                      <a:moveTo>
                        <a:pt x="9" y="0"/>
                      </a:moveTo>
                      <a:lnTo>
                        <a:pt x="0" y="16"/>
                      </a:lnTo>
                      <a:lnTo>
                        <a:pt x="6" y="35"/>
                      </a:lnTo>
                      <a:lnTo>
                        <a:pt x="18" y="2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Freeform 25"/>
                <p:cNvSpPr/>
                <p:nvPr/>
              </p:nvSpPr>
              <p:spPr>
                <a:xfrm>
                  <a:off x="4640400" y="1868400"/>
                  <a:ext cx="349200" cy="149400"/>
                </a:xfrm>
                <a:custGeom>
                  <a:avLst/>
                  <a:gdLst/>
                  <a:ahLst/>
                  <a:rect l="l" t="t" r="r" b="b"/>
                  <a:pathLst>
                    <a:path w="220" h="94">
                      <a:moveTo>
                        <a:pt x="0" y="0"/>
                      </a:moveTo>
                      <a:lnTo>
                        <a:pt x="33" y="7"/>
                      </a:lnTo>
                      <a:lnTo>
                        <a:pt x="82" y="41"/>
                      </a:lnTo>
                      <a:lnTo>
                        <a:pt x="75" y="60"/>
                      </a:lnTo>
                      <a:lnTo>
                        <a:pt x="115" y="77"/>
                      </a:lnTo>
                      <a:lnTo>
                        <a:pt x="219" y="77"/>
                      </a:lnTo>
                      <a:lnTo>
                        <a:pt x="106" y="93"/>
                      </a:lnTo>
                      <a:lnTo>
                        <a:pt x="75" y="60"/>
                      </a:lnTo>
                      <a:lnTo>
                        <a:pt x="46" y="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Freeform 26"/>
                <p:cNvSpPr/>
                <p:nvPr/>
              </p:nvSpPr>
              <p:spPr>
                <a:xfrm>
                  <a:off x="4917960" y="1992240"/>
                  <a:ext cx="374760" cy="351000"/>
                </a:xfrm>
                <a:custGeom>
                  <a:avLst/>
                  <a:gdLst/>
                  <a:ahLst/>
                  <a:rect l="l" t="t" r="r" b="b"/>
                  <a:pathLst>
                    <a:path w="236" h="221">
                      <a:moveTo>
                        <a:pt x="196" y="215"/>
                      </a:moveTo>
                      <a:lnTo>
                        <a:pt x="190" y="216"/>
                      </a:lnTo>
                      <a:lnTo>
                        <a:pt x="185" y="220"/>
                      </a:lnTo>
                      <a:lnTo>
                        <a:pt x="179" y="212"/>
                      </a:lnTo>
                      <a:lnTo>
                        <a:pt x="158" y="202"/>
                      </a:lnTo>
                      <a:lnTo>
                        <a:pt x="154" y="187"/>
                      </a:lnTo>
                      <a:lnTo>
                        <a:pt x="147" y="182"/>
                      </a:lnTo>
                      <a:lnTo>
                        <a:pt x="130" y="182"/>
                      </a:lnTo>
                      <a:lnTo>
                        <a:pt x="130" y="170"/>
                      </a:lnTo>
                      <a:lnTo>
                        <a:pt x="124" y="167"/>
                      </a:lnTo>
                      <a:lnTo>
                        <a:pt x="123" y="157"/>
                      </a:lnTo>
                      <a:lnTo>
                        <a:pt x="110" y="155"/>
                      </a:lnTo>
                      <a:lnTo>
                        <a:pt x="98" y="152"/>
                      </a:lnTo>
                      <a:lnTo>
                        <a:pt x="87" y="155"/>
                      </a:lnTo>
                      <a:lnTo>
                        <a:pt x="87" y="157"/>
                      </a:lnTo>
                      <a:lnTo>
                        <a:pt x="62" y="165"/>
                      </a:lnTo>
                      <a:lnTo>
                        <a:pt x="62" y="169"/>
                      </a:lnTo>
                      <a:lnTo>
                        <a:pt x="40" y="169"/>
                      </a:lnTo>
                      <a:lnTo>
                        <a:pt x="28" y="176"/>
                      </a:lnTo>
                      <a:lnTo>
                        <a:pt x="15" y="169"/>
                      </a:lnTo>
                      <a:lnTo>
                        <a:pt x="14" y="167"/>
                      </a:lnTo>
                      <a:lnTo>
                        <a:pt x="14" y="152"/>
                      </a:lnTo>
                      <a:lnTo>
                        <a:pt x="10" y="139"/>
                      </a:lnTo>
                      <a:lnTo>
                        <a:pt x="5" y="127"/>
                      </a:lnTo>
                      <a:lnTo>
                        <a:pt x="8" y="118"/>
                      </a:lnTo>
                      <a:lnTo>
                        <a:pt x="3" y="114"/>
                      </a:lnTo>
                      <a:lnTo>
                        <a:pt x="0" y="93"/>
                      </a:lnTo>
                      <a:lnTo>
                        <a:pt x="3" y="79"/>
                      </a:lnTo>
                      <a:lnTo>
                        <a:pt x="16" y="68"/>
                      </a:lnTo>
                      <a:lnTo>
                        <a:pt x="44" y="60"/>
                      </a:lnTo>
                      <a:lnTo>
                        <a:pt x="51" y="51"/>
                      </a:lnTo>
                      <a:lnTo>
                        <a:pt x="48" y="41"/>
                      </a:lnTo>
                      <a:lnTo>
                        <a:pt x="55" y="38"/>
                      </a:lnTo>
                      <a:lnTo>
                        <a:pt x="57" y="43"/>
                      </a:lnTo>
                      <a:lnTo>
                        <a:pt x="60" y="35"/>
                      </a:lnTo>
                      <a:lnTo>
                        <a:pt x="77" y="22"/>
                      </a:lnTo>
                      <a:lnTo>
                        <a:pt x="87" y="28"/>
                      </a:lnTo>
                      <a:lnTo>
                        <a:pt x="98" y="25"/>
                      </a:lnTo>
                      <a:lnTo>
                        <a:pt x="102" y="13"/>
                      </a:lnTo>
                      <a:lnTo>
                        <a:pt x="113" y="10"/>
                      </a:lnTo>
                      <a:lnTo>
                        <a:pt x="110" y="2"/>
                      </a:lnTo>
                      <a:lnTo>
                        <a:pt x="125" y="8"/>
                      </a:lnTo>
                      <a:lnTo>
                        <a:pt x="138" y="5"/>
                      </a:lnTo>
                      <a:lnTo>
                        <a:pt x="145" y="34"/>
                      </a:lnTo>
                      <a:lnTo>
                        <a:pt x="154" y="43"/>
                      </a:lnTo>
                      <a:lnTo>
                        <a:pt x="163" y="43"/>
                      </a:lnTo>
                      <a:lnTo>
                        <a:pt x="167" y="25"/>
                      </a:lnTo>
                      <a:lnTo>
                        <a:pt x="165" y="16"/>
                      </a:lnTo>
                      <a:lnTo>
                        <a:pt x="167" y="2"/>
                      </a:lnTo>
                      <a:lnTo>
                        <a:pt x="172" y="0"/>
                      </a:lnTo>
                      <a:lnTo>
                        <a:pt x="179" y="18"/>
                      </a:lnTo>
                      <a:lnTo>
                        <a:pt x="185" y="22"/>
                      </a:lnTo>
                      <a:lnTo>
                        <a:pt x="189" y="38"/>
                      </a:lnTo>
                      <a:lnTo>
                        <a:pt x="196" y="60"/>
                      </a:lnTo>
                      <a:lnTo>
                        <a:pt x="206" y="66"/>
                      </a:lnTo>
                      <a:lnTo>
                        <a:pt x="219" y="83"/>
                      </a:lnTo>
                      <a:lnTo>
                        <a:pt x="221" y="91"/>
                      </a:lnTo>
                      <a:lnTo>
                        <a:pt x="232" y="101"/>
                      </a:lnTo>
                      <a:lnTo>
                        <a:pt x="235" y="119"/>
                      </a:lnTo>
                      <a:lnTo>
                        <a:pt x="235" y="133"/>
                      </a:lnTo>
                      <a:lnTo>
                        <a:pt x="232" y="155"/>
                      </a:lnTo>
                      <a:lnTo>
                        <a:pt x="221" y="169"/>
                      </a:lnTo>
                      <a:lnTo>
                        <a:pt x="217" y="187"/>
                      </a:lnTo>
                      <a:lnTo>
                        <a:pt x="217" y="202"/>
                      </a:lnTo>
                      <a:lnTo>
                        <a:pt x="206" y="205"/>
                      </a:lnTo>
                      <a:lnTo>
                        <a:pt x="196" y="2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Freeform 27"/>
                <p:cNvSpPr/>
                <p:nvPr/>
              </p:nvSpPr>
              <p:spPr>
                <a:xfrm>
                  <a:off x="5216400" y="2362320"/>
                  <a:ext cx="2880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9" y="23"/>
                      </a:move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3" y="11"/>
                      </a:lnTo>
                      <a:lnTo>
                        <a:pt x="2" y="7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9" y="4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7" y="0"/>
                      </a:lnTo>
                      <a:lnTo>
                        <a:pt x="17" y="11"/>
                      </a:lnTo>
                      <a:lnTo>
                        <a:pt x="15" y="15"/>
                      </a:lnTo>
                      <a:lnTo>
                        <a:pt x="13" y="19"/>
                      </a:lnTo>
                      <a:lnTo>
                        <a:pt x="13" y="22"/>
                      </a:lnTo>
                      <a:lnTo>
                        <a:pt x="12" y="23"/>
                      </a:lnTo>
                      <a:lnTo>
                        <a:pt x="12" y="26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Freeform 28"/>
                <p:cNvSpPr/>
                <p:nvPr/>
              </p:nvSpPr>
              <p:spPr>
                <a:xfrm>
                  <a:off x="3909960" y="1960560"/>
                  <a:ext cx="41400" cy="168120"/>
                </a:xfrm>
                <a:custGeom>
                  <a:avLst/>
                  <a:gdLst/>
                  <a:ahLst/>
                  <a:rect l="l" t="t" r="r" b="b"/>
                  <a:pathLst>
                    <a:path w="26" h="106">
                      <a:moveTo>
                        <a:pt x="3" y="37"/>
                      </a:moveTo>
                      <a:lnTo>
                        <a:pt x="13" y="28"/>
                      </a:lnTo>
                      <a:lnTo>
                        <a:pt x="20" y="0"/>
                      </a:lnTo>
                      <a:lnTo>
                        <a:pt x="25" y="42"/>
                      </a:lnTo>
                      <a:lnTo>
                        <a:pt x="17" y="94"/>
                      </a:lnTo>
                      <a:lnTo>
                        <a:pt x="0" y="105"/>
                      </a:lnTo>
                      <a:lnTo>
                        <a:pt x="0" y="80"/>
                      </a:lnTo>
                      <a:lnTo>
                        <a:pt x="5" y="64"/>
                      </a:lnTo>
                      <a:lnTo>
                        <a:pt x="3" y="3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9" name="Rectangle 37"/>
          <p:cNvSpPr/>
          <p:nvPr/>
        </p:nvSpPr>
        <p:spPr>
          <a:xfrm>
            <a:off x="1676520" y="6438960"/>
            <a:ext cx="5581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ang, Introduction to Java Programming, Tenth Edition, (c) 2015 Pearson Education, Inc. All rights reserv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3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4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1E0B-AE8A-4B0A-A586-8F19A05FD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ml/UseBMIClass.bat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ml/TestCourse.bat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ml/TestStackOfIntegers.bat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ml/TestLoanClass.bat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28AA-7363-4C81-B394-1ED595861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1315800"/>
            <a:ext cx="7880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apter 10 Thinking in Obj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209088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209088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209088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6"/>
          <p:cNvSpPr/>
          <p:nvPr/>
        </p:nvSpPr>
        <p:spPr>
          <a:xfrm>
            <a:off x="0" y="195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171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402120" indent="-402120"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lare the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lare the constru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the getter and setter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the service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4021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culate the monthly pa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4021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culate the Total pa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the application class : Input the data ( yearly interest, number of years for the loan, loan amount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the application clas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4021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A Lo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4021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loan Date , Monthly payment, Total Pay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76A1-28AB-4061-978F-10A3833E7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2" descr="Image result for task"/>
          <p:cNvPicPr/>
          <p:nvPr/>
        </p:nvPicPr>
        <p:blipFill>
          <a:blip r:embed="rId1"/>
          <a:stretch/>
        </p:blipFill>
        <p:spPr>
          <a:xfrm>
            <a:off x="155520" y="4680"/>
            <a:ext cx="25621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85800" y="16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 to calculate the monthly pa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 to calculate the Total pa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112C-B66E-41AC-9D9E-3240DD3B3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1"/>
          <a:stretch/>
        </p:blipFill>
        <p:spPr>
          <a:xfrm>
            <a:off x="1116000" y="2354400"/>
            <a:ext cx="6418440" cy="172692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1"/>
          <p:cNvSpPr/>
          <p:nvPr/>
        </p:nvSpPr>
        <p:spPr>
          <a:xfrm>
            <a:off x="2189160" y="4799160"/>
            <a:ext cx="407196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getMonthlyPayment * numberOfYears * </a:t>
            </a:r>
            <a:r>
              <a:rPr b="0" lang="en-US" sz="1600" spc="-1" strike="noStrike">
                <a:solidFill>
                  <a:srgbClr val="008080"/>
                </a:solidFill>
                <a:latin typeface="Arial Unicode MS"/>
                <a:ea typeface="Times New Roman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ttribut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85800" y="165744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203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0979-7FF7-4733-AE3B-24E234013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2"/>
          <a:stretch/>
        </p:blipFill>
        <p:spPr>
          <a:xfrm>
            <a:off x="1077840" y="1662120"/>
            <a:ext cx="713124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nstru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Content Placeholder 4" descr=""/>
          <p:cNvPicPr/>
          <p:nvPr/>
        </p:nvPicPr>
        <p:blipFill>
          <a:blip r:embed="rId1"/>
          <a:stretch/>
        </p:blipFill>
        <p:spPr>
          <a:xfrm>
            <a:off x="351000" y="1739880"/>
            <a:ext cx="8275320" cy="4032360"/>
          </a:xfrm>
          <a:prstGeom prst="rect">
            <a:avLst/>
          </a:prstGeom>
          <a:ln w="0">
            <a:noFill/>
          </a:ln>
        </p:spPr>
      </p:pic>
      <p:sp>
        <p:nvSpPr>
          <p:cNvPr id="207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DA17-BBE9-4B0D-BF7B-C6E951F2D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etters and the set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Content Placeholder 4" descr=""/>
          <p:cNvPicPr/>
          <p:nvPr/>
        </p:nvPicPr>
        <p:blipFill>
          <a:blip r:embed="rId1"/>
          <a:stretch/>
        </p:blipFill>
        <p:spPr>
          <a:xfrm>
            <a:off x="685800" y="1198440"/>
            <a:ext cx="6259680" cy="5724720"/>
          </a:xfrm>
          <a:prstGeom prst="rect">
            <a:avLst/>
          </a:prstGeom>
          <a:ln w="0">
            <a:noFill/>
          </a:ln>
        </p:spPr>
      </p:pic>
      <p:sp>
        <p:nvSpPr>
          <p:cNvPr id="210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125A-C39C-4AE8-91E8-BF041C7A8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5" descr=""/>
          <p:cNvPicPr/>
          <p:nvPr/>
        </p:nvPicPr>
        <p:blipFill>
          <a:blip r:embed="rId2"/>
          <a:stretch/>
        </p:blipFill>
        <p:spPr>
          <a:xfrm>
            <a:off x="5305320" y="3044880"/>
            <a:ext cx="3841920" cy="8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16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 to calculate the monthly pa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 to calculate the Total pa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DB35-4989-40D1-ACD8-CC7013B67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808200" y="2873520"/>
            <a:ext cx="734364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pplicatio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 the data ( yearly interest, number of years for the loan, loan amount 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3621-941E-4122-802A-3090B41D7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647640" y="2930400"/>
            <a:ext cx="68500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pplicatio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Loan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lay loan Date , Monthly payment, Total Pay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D58A-392F-4A3E-8E0A-823386F15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5" descr=""/>
          <p:cNvPicPr/>
          <p:nvPr/>
        </p:nvPicPr>
        <p:blipFill>
          <a:blip r:embed="rId1"/>
          <a:stretch/>
        </p:blipFill>
        <p:spPr>
          <a:xfrm>
            <a:off x="165240" y="3476520"/>
            <a:ext cx="881352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D9E6-965E-4B71-9816-FAADEE7D5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93720" y="2030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MI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3371760" y="237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7"/>
          <p:cNvSpPr/>
          <p:nvPr/>
        </p:nvSpPr>
        <p:spPr>
          <a:xfrm>
            <a:off x="4648320" y="5943600"/>
            <a:ext cx="2133360" cy="533520"/>
          </a:xfrm>
          <a:custGeom>
            <a:avLst/>
            <a:gdLst>
              <a:gd name="textAreaLeft" fmla="*/ 34560 w 2133360"/>
              <a:gd name="textAreaRight" fmla="*/ 2098800 w 21333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86327" h="21600">
                <a:moveTo>
                  <a:pt x="0" y="0"/>
                </a:moveTo>
                <a:lnTo>
                  <a:pt x="86327" y="0"/>
                </a:lnTo>
                <a:lnTo>
                  <a:pt x="86327" y="21600"/>
                </a:lnTo>
                <a:lnTo>
                  <a:pt x="0" y="21600"/>
                </a:lnTo>
                <a:close/>
              </a:path>
              <a:path fill="lightenLess" w="86327" h="21600">
                <a:moveTo>
                  <a:pt x="0" y="0"/>
                </a:moveTo>
                <a:lnTo>
                  <a:pt x="86327" y="0"/>
                </a:lnTo>
                <a:lnTo>
                  <a:pt x="84927" y="1400"/>
                </a:lnTo>
                <a:lnTo>
                  <a:pt x="1400" y="1400"/>
                </a:lnTo>
                <a:close/>
              </a:path>
              <a:path fill="darken" w="86327" h="21600">
                <a:moveTo>
                  <a:pt x="86327" y="0"/>
                </a:moveTo>
                <a:lnTo>
                  <a:pt x="86327" y="21600"/>
                </a:lnTo>
                <a:lnTo>
                  <a:pt x="84927" y="20200"/>
                </a:lnTo>
                <a:lnTo>
                  <a:pt x="84927" y="1400"/>
                </a:lnTo>
                <a:close/>
              </a:path>
              <a:path fill="darkenLess" w="86327" h="21600">
                <a:moveTo>
                  <a:pt x="863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27" y="20200"/>
                </a:lnTo>
                <a:close/>
              </a:path>
              <a:path fill="lighten" w="863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Book Antiqua"/>
              </a:rPr>
              <a:t>UseBMI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8">
            <a:hlinkClick r:id="rId1"/>
          </p:cNvPr>
          <p:cNvSpPr/>
          <p:nvPr/>
        </p:nvSpPr>
        <p:spPr>
          <a:xfrm>
            <a:off x="7010280" y="5943600"/>
            <a:ext cx="1524240" cy="533520"/>
          </a:xfrm>
          <a:custGeom>
            <a:avLst/>
            <a:gdLst>
              <a:gd name="textAreaLeft" fmla="*/ 34560 w 1524240"/>
              <a:gd name="textAreaRight" fmla="*/ 1489680 w 15242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83" h="21600">
                <a:moveTo>
                  <a:pt x="0" y="0"/>
                </a:moveTo>
                <a:lnTo>
                  <a:pt x="61683" y="0"/>
                </a:lnTo>
                <a:lnTo>
                  <a:pt x="61683" y="21600"/>
                </a:lnTo>
                <a:lnTo>
                  <a:pt x="0" y="21600"/>
                </a:lnTo>
                <a:close/>
              </a:path>
              <a:path fill="lightenLess" w="61683" h="21600">
                <a:moveTo>
                  <a:pt x="0" y="0"/>
                </a:moveTo>
                <a:lnTo>
                  <a:pt x="61683" y="0"/>
                </a:lnTo>
                <a:lnTo>
                  <a:pt x="60283" y="1400"/>
                </a:lnTo>
                <a:lnTo>
                  <a:pt x="1400" y="1400"/>
                </a:lnTo>
                <a:close/>
              </a:path>
              <a:path fill="darken" w="61683" h="21600">
                <a:moveTo>
                  <a:pt x="61683" y="0"/>
                </a:moveTo>
                <a:lnTo>
                  <a:pt x="61683" y="21600"/>
                </a:lnTo>
                <a:lnTo>
                  <a:pt x="60283" y="20200"/>
                </a:lnTo>
                <a:lnTo>
                  <a:pt x="60283" y="1400"/>
                </a:lnTo>
                <a:close/>
              </a:path>
              <a:path fill="darkenLess" w="61683" h="21600">
                <a:moveTo>
                  <a:pt x="61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83" y="20200"/>
                </a:lnTo>
                <a:close/>
              </a:path>
              <a:path fill="lighten" w="61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a1ba"/>
          </a:solidFill>
          <a:ln w="0">
            <a:noFill/>
          </a:ln>
          <a:effectLst>
            <a:outerShdw dist="17819" dir="2700000" blurRad="0" rotWithShape="0">
              <a:srgbClr val="2261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9"/>
          <p:cNvSpPr/>
          <p:nvPr/>
        </p:nvSpPr>
        <p:spPr>
          <a:xfrm>
            <a:off x="2344680" y="5925960"/>
            <a:ext cx="1536840" cy="533520"/>
          </a:xfrm>
          <a:custGeom>
            <a:avLst/>
            <a:gdLst>
              <a:gd name="textAreaLeft" fmla="*/ 34560 w 1536840"/>
              <a:gd name="textAreaRight" fmla="*/ 1502280 w 1536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2193" h="21600">
                <a:moveTo>
                  <a:pt x="0" y="0"/>
                </a:moveTo>
                <a:lnTo>
                  <a:pt x="62193" y="0"/>
                </a:lnTo>
                <a:lnTo>
                  <a:pt x="62193" y="21600"/>
                </a:lnTo>
                <a:lnTo>
                  <a:pt x="0" y="21600"/>
                </a:lnTo>
                <a:close/>
              </a:path>
              <a:path fill="lightenLess" w="62193" h="21600">
                <a:moveTo>
                  <a:pt x="0" y="0"/>
                </a:moveTo>
                <a:lnTo>
                  <a:pt x="62193" y="0"/>
                </a:lnTo>
                <a:lnTo>
                  <a:pt x="60793" y="1400"/>
                </a:lnTo>
                <a:lnTo>
                  <a:pt x="1400" y="1400"/>
                </a:lnTo>
                <a:close/>
              </a:path>
              <a:path fill="darken" w="62193" h="21600">
                <a:moveTo>
                  <a:pt x="62193" y="0"/>
                </a:moveTo>
                <a:lnTo>
                  <a:pt x="62193" y="21600"/>
                </a:lnTo>
                <a:lnTo>
                  <a:pt x="60793" y="20200"/>
                </a:lnTo>
                <a:lnTo>
                  <a:pt x="60793" y="1400"/>
                </a:lnTo>
                <a:close/>
              </a:path>
              <a:path fill="darkenLess" w="62193" h="21600">
                <a:moveTo>
                  <a:pt x="621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793" y="20200"/>
                </a:lnTo>
                <a:close/>
              </a:path>
              <a:path fill="lighten" w="621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Book Antiqua"/>
              </a:rPr>
              <a:t>B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1"/>
          <p:cNvSpPr/>
          <p:nvPr/>
        </p:nvSpPr>
        <p:spPr>
          <a:xfrm>
            <a:off x="3056040" y="237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13"/>
          <p:cNvSpPr/>
          <p:nvPr/>
        </p:nvSpPr>
        <p:spPr>
          <a:xfrm>
            <a:off x="0" y="180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4"/>
          <p:cNvSpPr/>
          <p:nvPr/>
        </p:nvSpPr>
        <p:spPr>
          <a:xfrm>
            <a:off x="0" y="18064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6"/>
          <p:cNvSpPr/>
          <p:nvPr/>
        </p:nvSpPr>
        <p:spPr>
          <a:xfrm>
            <a:off x="2557440" y="17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8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20"/>
          <p:cNvSpPr/>
          <p:nvPr/>
        </p:nvSpPr>
        <p:spPr>
          <a:xfrm>
            <a:off x="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21"/>
          <p:cNvSpPr/>
          <p:nvPr/>
        </p:nvSpPr>
        <p:spPr>
          <a:xfrm>
            <a:off x="1800" y="4998240"/>
            <a:ext cx="24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23"/>
          <p:cNvSpPr/>
          <p:nvPr/>
        </p:nvSpPr>
        <p:spPr>
          <a:xfrm>
            <a:off x="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25"/>
          <p:cNvSpPr/>
          <p:nvPr/>
        </p:nvSpPr>
        <p:spPr>
          <a:xfrm>
            <a:off x="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" name="Object 24"/>
          <p:cNvGraphicFramePr/>
          <p:nvPr/>
        </p:nvGraphicFramePr>
        <p:xfrm>
          <a:off x="955800" y="1319040"/>
          <a:ext cx="6323040" cy="436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0" name="Object 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5800" y="1319040"/>
                    <a:ext cx="6323040" cy="43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AutoShape 26"/>
          <p:cNvSpPr/>
          <p:nvPr/>
        </p:nvSpPr>
        <p:spPr>
          <a:xfrm>
            <a:off x="1797120" y="5908680"/>
            <a:ext cx="468360" cy="576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76360"/>
              <a:gd name="textAreaBottom" fmla="*/ 546120 h 576360"/>
            </a:gdLst>
            <a:ahLst/>
            <a:rect l="textAreaLeft" t="textAreaTop" r="textAreaRight" b="textAreaBottom"/>
            <a:pathLst>
              <a:path w="21600" h="26577">
                <a:moveTo>
                  <a:pt x="0" y="0"/>
                </a:moveTo>
                <a:lnTo>
                  <a:pt x="21600" y="0"/>
                </a:lnTo>
                <a:lnTo>
                  <a:pt x="21600" y="26577"/>
                </a:lnTo>
                <a:lnTo>
                  <a:pt x="0" y="26577"/>
                </a:lnTo>
                <a:close/>
              </a:path>
              <a:path fill="lightenLess" w="21600" h="265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77">
                <a:moveTo>
                  <a:pt x="21600" y="0"/>
                </a:moveTo>
                <a:lnTo>
                  <a:pt x="21600" y="26577"/>
                </a:lnTo>
                <a:lnTo>
                  <a:pt x="20200" y="25177"/>
                </a:lnTo>
                <a:lnTo>
                  <a:pt x="20200" y="1400"/>
                </a:lnTo>
                <a:close/>
              </a:path>
              <a:path fill="darkenLess" w="21600" h="26577">
                <a:moveTo>
                  <a:pt x="21600" y="26577"/>
                </a:moveTo>
                <a:lnTo>
                  <a:pt x="0" y="26577"/>
                </a:lnTo>
                <a:lnTo>
                  <a:pt x="1400" y="25177"/>
                </a:lnTo>
                <a:lnTo>
                  <a:pt x="20200" y="25177"/>
                </a:lnTo>
                <a:close/>
              </a:path>
              <a:path fill="lighten" w="21600" h="26577">
                <a:moveTo>
                  <a:pt x="0" y="265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77"/>
                </a:lnTo>
                <a:close/>
              </a:path>
              <a:path fill="darkenLess" w="21600" h="26577">
                <a:moveTo>
                  <a:pt x="5273" y="6473"/>
                </a:moveTo>
                <a:lnTo>
                  <a:pt x="12271" y="6473"/>
                </a:lnTo>
                <a:lnTo>
                  <a:pt x="16327" y="9972"/>
                </a:lnTo>
                <a:lnTo>
                  <a:pt x="16327" y="20103"/>
                </a:lnTo>
                <a:lnTo>
                  <a:pt x="5273" y="20103"/>
                </a:lnTo>
                <a:close/>
              </a:path>
              <a:path fill="darken" w="21600" h="26577">
                <a:moveTo>
                  <a:pt x="12271" y="6473"/>
                </a:moveTo>
                <a:lnTo>
                  <a:pt x="16327" y="9972"/>
                </a:lnTo>
                <a:lnTo>
                  <a:pt x="12271" y="9972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27"/>
          <p:cNvSpPr/>
          <p:nvPr/>
        </p:nvSpPr>
        <p:spPr>
          <a:xfrm>
            <a:off x="4111560" y="5925960"/>
            <a:ext cx="468360" cy="576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76360"/>
              <a:gd name="textAreaBottom" fmla="*/ 546120 h 576360"/>
            </a:gdLst>
            <a:ahLst/>
            <a:rect l="textAreaLeft" t="textAreaTop" r="textAreaRight" b="textAreaBottom"/>
            <a:pathLst>
              <a:path w="21600" h="26577">
                <a:moveTo>
                  <a:pt x="0" y="0"/>
                </a:moveTo>
                <a:lnTo>
                  <a:pt x="21600" y="0"/>
                </a:lnTo>
                <a:lnTo>
                  <a:pt x="21600" y="26577"/>
                </a:lnTo>
                <a:lnTo>
                  <a:pt x="0" y="26577"/>
                </a:lnTo>
                <a:close/>
              </a:path>
              <a:path fill="lightenLess" w="21600" h="265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77">
                <a:moveTo>
                  <a:pt x="21600" y="0"/>
                </a:moveTo>
                <a:lnTo>
                  <a:pt x="21600" y="26577"/>
                </a:lnTo>
                <a:lnTo>
                  <a:pt x="20200" y="25177"/>
                </a:lnTo>
                <a:lnTo>
                  <a:pt x="20200" y="1400"/>
                </a:lnTo>
                <a:close/>
              </a:path>
              <a:path fill="darkenLess" w="21600" h="26577">
                <a:moveTo>
                  <a:pt x="21600" y="26577"/>
                </a:moveTo>
                <a:lnTo>
                  <a:pt x="0" y="26577"/>
                </a:lnTo>
                <a:lnTo>
                  <a:pt x="1400" y="25177"/>
                </a:lnTo>
                <a:lnTo>
                  <a:pt x="20200" y="25177"/>
                </a:lnTo>
                <a:close/>
              </a:path>
              <a:path fill="lighten" w="21600" h="26577">
                <a:moveTo>
                  <a:pt x="0" y="265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77"/>
                </a:lnTo>
                <a:close/>
              </a:path>
              <a:path fill="darkenLess" w="21600" h="26577">
                <a:moveTo>
                  <a:pt x="5273" y="6473"/>
                </a:moveTo>
                <a:lnTo>
                  <a:pt x="12271" y="6473"/>
                </a:lnTo>
                <a:lnTo>
                  <a:pt x="16327" y="9972"/>
                </a:lnTo>
                <a:lnTo>
                  <a:pt x="16327" y="20103"/>
                </a:lnTo>
                <a:lnTo>
                  <a:pt x="5273" y="20103"/>
                </a:lnTo>
                <a:close/>
              </a:path>
              <a:path fill="darken" w="21600" h="26577">
                <a:moveTo>
                  <a:pt x="12271" y="6473"/>
                </a:moveTo>
                <a:lnTo>
                  <a:pt x="16327" y="9972"/>
                </a:lnTo>
                <a:lnTo>
                  <a:pt x="12271" y="9972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Box 1"/>
          <p:cNvSpPr/>
          <p:nvPr/>
        </p:nvSpPr>
        <p:spPr>
          <a:xfrm rot="20708400">
            <a:off x="2035800" y="2371680"/>
            <a:ext cx="522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5050"/>
                </a:solidFill>
                <a:latin typeface="Times New Roman"/>
              </a:rPr>
              <a:t>Practice it @ hom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2" descr="Image result for task"/>
          <p:cNvPicPr/>
          <p:nvPr/>
        </p:nvPicPr>
        <p:blipFill>
          <a:blip r:embed="rId4"/>
          <a:stretch/>
        </p:blipFill>
        <p:spPr>
          <a:xfrm>
            <a:off x="155520" y="4680"/>
            <a:ext cx="25621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050D-840A-4829-8E33-463EA88B6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enefit of Object-Oriented Thin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19144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523880" y="1778040"/>
          <a:ext cx="6096240" cy="34797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ced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 organized into small functions that uses and changes the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 organized into ob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relations on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 data can be related to its own 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f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ilding big applications is more complicated and unmaintainab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sses provide more flexibility and modularity for building reusable software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nge on one data could affect the 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6BF9-9685-4C35-9779-2D9019E2E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5000" y="1316160"/>
            <a:ext cx="8874000" cy="57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create immutable objects from immutable classes to protect the contents of objects (§10.2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apply clas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bstrac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develop software (§10.5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explore the differences between th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rocedur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aradigm and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bject-orient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aradigm (§10.6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design classes that follow the class-design guidelines (§10.11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create objects for primitive values using th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wrapper classe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y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hor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o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loa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haract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(§10.12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simplify programming using automatic conversion between primitive types and wrapper class types (§10.13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use th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igInteg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igDecim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es for computing very large numbers with arbitrary precisions (§10.14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-</a:t>
            </a:r>
            <a:fld id="{6D5DF393-BD84-4171-9DBC-207F94AEE79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28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es in a software system can have various types of relationships to each 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28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of the most common relationship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Dependency: A </a:t>
            </a:r>
            <a:r>
              <a:rPr b="0" i="1" lang="en-US" sz="2800" spc="-1" strike="noStrike">
                <a:solidFill>
                  <a:srgbClr val="c00000"/>
                </a:solidFill>
                <a:latin typeface="Times New Roman"/>
              </a:rPr>
              <a:t>uses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Aggregation: A </a:t>
            </a:r>
            <a:r>
              <a:rPr b="0" i="1" lang="en-US" sz="2800" spc="-1" strike="noStrike">
                <a:solidFill>
                  <a:srgbClr val="c00000"/>
                </a:solidFill>
                <a:latin typeface="Times New Roman"/>
              </a:rPr>
              <a:t>has-a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Inheritance: A </a:t>
            </a:r>
            <a:r>
              <a:rPr b="0" i="1" lang="en-US" sz="2800" spc="-1" strike="noStrike">
                <a:solidFill>
                  <a:srgbClr val="c00000"/>
                </a:solidFill>
                <a:latin typeface="Times New Roman"/>
              </a:rPr>
              <a:t>is-a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28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's discuss dependency and aggregation fur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04 Pearson Addison-Wesley.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-</a:t>
            </a:r>
            <a:fld id="{790D9353-B2FE-43A9-9290-BC206E86DC3F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end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c00000"/>
                </a:solidFill>
                <a:latin typeface="Times New Roman"/>
              </a:rPr>
              <a:t>dependenc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ists when one class relies on another in some way, usually by invoking the methods of the 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8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've seen dependencies in many previous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-</a:t>
            </a:r>
            <a:fld id="{401BC7AB-AA5E-4659-AC42-C971816E9DF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end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1"/>
          <a:stretch/>
        </p:blipFill>
        <p:spPr>
          <a:xfrm>
            <a:off x="154080" y="1787400"/>
            <a:ext cx="8813880" cy="271800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1"/>
          <p:cNvSpPr/>
          <p:nvPr/>
        </p:nvSpPr>
        <p:spPr>
          <a:xfrm>
            <a:off x="3719520" y="1287360"/>
            <a:ext cx="17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Find 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Oval 2"/>
          <p:cNvSpPr/>
          <p:nvPr/>
        </p:nvSpPr>
        <p:spPr>
          <a:xfrm>
            <a:off x="4073400" y="3416400"/>
            <a:ext cx="3840120" cy="730080"/>
          </a:xfrm>
          <a:prstGeom prst="ellipse">
            <a:avLst/>
          </a:prstGeom>
          <a:noFill/>
          <a:ln w="1260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685800" y="165744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04 Pearson Addison-Wesley.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-</a:t>
            </a:r>
            <a:fld id="{0C81A6D6-CD03-4F04-BA9F-16BC04DB0E8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164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9600" y="1280880"/>
            <a:ext cx="86932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wner object is called  an aggregating object. OR is an object that is made up of other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ggregating object contains references to other objects as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instanc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bject object is called the aggregated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fore aggregation is a </a:t>
            </a:r>
            <a:r>
              <a:rPr b="0" i="1" lang="en-US" sz="2400" spc="-1" strike="noStrike">
                <a:solidFill>
                  <a:srgbClr val="c00000"/>
                </a:solidFill>
                <a:latin typeface="Times New Roman"/>
              </a:rPr>
              <a:t>has-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A car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</a:rPr>
              <a:t>has a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w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-</a:t>
            </a:r>
            <a:fld id="{56ACF24F-7BC5-4C24-83F1-8719225D5A7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164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438120" y="2286000"/>
            <a:ext cx="46483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  <a:ea typeface="Courier New"/>
              </a:rPr>
              <a:t>public class Student {</a:t>
            </a:r>
            <a:br>
              <a:rPr sz="1800"/>
            </a:br>
            <a:r>
              <a:rPr b="1" lang="en-US" sz="1800" spc="-1" strike="noStrike">
                <a:solidFill>
                  <a:srgbClr val="5f5f5f"/>
                </a:solidFill>
                <a:latin typeface="Courier New"/>
                <a:ea typeface="Courier New"/>
              </a:rPr>
              <a:t>  private int id;</a:t>
            </a:r>
            <a:br>
              <a:rPr sz="1800"/>
            </a:br>
            <a:r>
              <a:rPr b="1" lang="en-US" sz="1800" spc="-1" strike="noStrike">
                <a:solidFill>
                  <a:srgbClr val="5f5f5f"/>
                </a:solidFill>
                <a:latin typeface="Courier New"/>
                <a:ea typeface="Courier New"/>
              </a:rPr>
              <a:t>  private BirthDate birthDate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5f5f5f"/>
                </a:solidFill>
                <a:latin typeface="Courier New"/>
                <a:ea typeface="Courier New"/>
              </a:rPr>
              <a:t>  public Student(int ssn, </a:t>
            </a:r>
            <a:br>
              <a:rPr sz="1800"/>
            </a:br>
            <a:r>
              <a:rPr b="1" lang="en-US" sz="18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  int year, int month, int day) {</a:t>
            </a:r>
            <a:br>
              <a:rPr sz="1800"/>
            </a:br>
            <a:r>
              <a:rPr b="1" lang="en-US" sz="18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id = ssn;</a:t>
            </a:r>
            <a:br>
              <a:rPr sz="1800"/>
            </a:br>
            <a:r>
              <a:rPr b="1" lang="en-US" sz="18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birthDate = new BirthDate(year, month, day);</a:t>
            </a:r>
            <a:br>
              <a:rPr sz="1800"/>
            </a:br>
            <a:r>
              <a:rPr b="1" lang="en-US" sz="1800" spc="-1" strike="noStrike">
                <a:solidFill>
                  <a:srgbClr val="5f5f5f"/>
                </a:solidFill>
                <a:latin typeface="Courier New"/>
                <a:ea typeface="Courier New"/>
              </a:rPr>
              <a:t>  }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5f5f5f"/>
                </a:solidFill>
                <a:latin typeface="Courier New"/>
                <a:ea typeface="Courier New"/>
              </a:rPr>
              <a:t>  public int getId() {</a:t>
            </a:r>
            <a:br>
              <a:rPr sz="1800"/>
            </a:br>
            <a:r>
              <a:rPr b="1" lang="en-US" sz="18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return id;</a:t>
            </a:r>
            <a:br>
              <a:rPr sz="1800"/>
            </a:br>
            <a:r>
              <a:rPr b="1" lang="en-US" sz="1800" spc="-1" strike="noStrike">
                <a:solidFill>
                  <a:srgbClr val="5f5f5f"/>
                </a:solidFill>
                <a:latin typeface="Courier New"/>
                <a:ea typeface="Courier New"/>
              </a:rPr>
              <a:t>  }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5f5f5f"/>
                </a:solidFill>
                <a:latin typeface="Courier New"/>
                <a:ea typeface="Courier New"/>
              </a:rPr>
              <a:t>  public BirthDate getBirthDate() {</a:t>
            </a:r>
            <a:br>
              <a:rPr sz="1800"/>
            </a:br>
            <a:r>
              <a:rPr b="1" lang="en-US" sz="18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return birthDate;</a:t>
            </a:r>
            <a:br>
              <a:rPr sz="1800"/>
            </a:br>
            <a:r>
              <a:rPr b="1" lang="en-US" sz="1800" spc="-1" strike="noStrike">
                <a:solidFill>
                  <a:srgbClr val="5f5f5f"/>
                </a:solidFill>
                <a:latin typeface="Courier New"/>
                <a:ea typeface="Courier New"/>
              </a:rPr>
              <a:t>  }</a:t>
            </a:r>
            <a:br>
              <a:rPr sz="1800"/>
            </a:br>
            <a:r>
              <a:rPr b="1" lang="en-US" sz="1800" spc="-1" strike="noStrike">
                <a:solidFill>
                  <a:srgbClr val="5f5f5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3719520" y="1287360"/>
            <a:ext cx="17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Find 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7"/>
          <p:cNvSpPr/>
          <p:nvPr/>
        </p:nvSpPr>
        <p:spPr>
          <a:xfrm>
            <a:off x="423720" y="1722600"/>
            <a:ext cx="4800600" cy="358560"/>
          </a:xfrm>
          <a:prstGeom prst="ellipse">
            <a:avLst/>
          </a:prstGeom>
          <a:noFill/>
          <a:ln w="1260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04 Pearson Addison-Wesley.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-</a:t>
            </a:r>
            <a:fld id="{C98E05C4-BF7A-42CC-B820-6696F9E41DBC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69640" y="1434960"/>
            <a:ext cx="87217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n object is exclusively owned by an aggregating object , this relation called compos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tudents has a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o what about Students Address ?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C16D-B031-45C0-BB88-F543FC113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98720" y="463680"/>
            <a:ext cx="7772400" cy="51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Object Compos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Object 5"/>
          <p:cNvGraphicFramePr/>
          <p:nvPr/>
        </p:nvGraphicFramePr>
        <p:xfrm>
          <a:off x="203040" y="1136520"/>
          <a:ext cx="8401320" cy="17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" y="1136520"/>
                    <a:ext cx="8401320" cy="17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Rectangle 1"/>
          <p:cNvSpPr/>
          <p:nvPr/>
        </p:nvSpPr>
        <p:spPr>
          <a:xfrm>
            <a:off x="1998720" y="1281240"/>
            <a:ext cx="4838760" cy="52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210960" y="2738520"/>
            <a:ext cx="872208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tudent has a Name”, If an object is exclusively owned by an aggregating object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at does it called??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“ a student has an Address”, an address could be shared by more than one student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at does it called?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Picture 2" descr="Image result for think"/>
          <p:cNvPicPr/>
          <p:nvPr/>
        </p:nvPicPr>
        <p:blipFill>
          <a:blip r:embed="rId3"/>
          <a:stretch/>
        </p:blipFill>
        <p:spPr>
          <a:xfrm>
            <a:off x="-19080" y="7920"/>
            <a:ext cx="3371760" cy="135252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9"/>
          <p:cNvSpPr/>
          <p:nvPr/>
        </p:nvSpPr>
        <p:spPr>
          <a:xfrm>
            <a:off x="4495680" y="1433520"/>
            <a:ext cx="2494080" cy="5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5BA6-06C0-4D21-A71D-3C17C56C7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Object Compos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7" descr=""/>
          <p:cNvPicPr/>
          <p:nvPr/>
        </p:nvPicPr>
        <p:blipFill>
          <a:blip r:embed="rId1"/>
          <a:stretch/>
        </p:blipFill>
        <p:spPr>
          <a:xfrm>
            <a:off x="150840" y="1487520"/>
            <a:ext cx="8840880" cy="118260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3"/>
          <p:cNvSpPr/>
          <p:nvPr/>
        </p:nvSpPr>
        <p:spPr>
          <a:xfrm>
            <a:off x="328680" y="3179880"/>
            <a:ext cx="8486640" cy="32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sition is actually a special case of the aggregation relationsh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lass involved in a relationship may specify a multiplic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ultiplicity: how many of the class’s object are involved in the 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/ m..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4425-A99A-43E1-A35C-F380C7EE7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31840" y="1512360"/>
            <a:ext cx="8680320" cy="141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ggregation relationship is usually represented as a data field in the aggregating clas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68400" y="2122560"/>
            <a:ext cx="9075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68400" y="2243160"/>
            <a:ext cx="9075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" name="Object 6"/>
          <p:cNvGraphicFramePr/>
          <p:nvPr/>
        </p:nvGraphicFramePr>
        <p:xfrm>
          <a:off x="220680" y="2585880"/>
          <a:ext cx="8767800" cy="23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680" y="2585880"/>
                    <a:ext cx="8767800" cy="23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Rectangle 3"/>
          <p:cNvSpPr/>
          <p:nvPr/>
        </p:nvSpPr>
        <p:spPr>
          <a:xfrm>
            <a:off x="3029040" y="4989600"/>
            <a:ext cx="30798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wner object is called  an aggregating object. OR is an object that is made up of other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258840" y="4989600"/>
            <a:ext cx="277020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ubject object is called the aggregated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4FA0-2FBB-4403-AD5D-E02872D72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 Between Sam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55520" y="10472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gregation may exist between objects of the same class. For example, a person may have a supervis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190512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190512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190512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190512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190512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9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7" name="Object 10"/>
          <p:cNvGraphicFramePr/>
          <p:nvPr/>
        </p:nvGraphicFramePr>
        <p:xfrm>
          <a:off x="270000" y="2238480"/>
          <a:ext cx="5262480" cy="18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0" y="2238480"/>
                    <a:ext cx="5262480" cy="18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Rectangle 11"/>
          <p:cNvSpPr/>
          <p:nvPr/>
        </p:nvSpPr>
        <p:spPr>
          <a:xfrm>
            <a:off x="3151080" y="3967200"/>
            <a:ext cx="560880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 {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The type for the data is the class it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v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 supervisor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C419-DC2B-4627-9FD2-A5C9C092B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utable Objects an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295200" y="1397160"/>
            <a:ext cx="85345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 of an object cannot be changed once the object is create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 object is called an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utable objec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its class is called an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utable clas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324000" y="2921040"/>
            <a:ext cx="85341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EN??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 class with all private data fiel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t metho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295200" y="4896000"/>
            <a:ext cx="85345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 class with all private data fields and without mutators (Set) is not necessarily immutabl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IS it right??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A688-57BD-408B-BA3A-A438B74C2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 Between Sam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55520" y="10472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ppens if a person has several supervisor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190512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190512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190512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190512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8"/>
          <p:cNvSpPr/>
          <p:nvPr/>
        </p:nvSpPr>
        <p:spPr>
          <a:xfrm>
            <a:off x="190512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13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9" name="Object 12"/>
          <p:cNvGraphicFramePr/>
          <p:nvPr/>
        </p:nvGraphicFramePr>
        <p:xfrm>
          <a:off x="423720" y="2122560"/>
          <a:ext cx="4686480" cy="151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3720" y="2122560"/>
                    <a:ext cx="4686480" cy="15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Rectangle 15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Object 14"/>
          <p:cNvGraphicFramePr/>
          <p:nvPr/>
        </p:nvGraphicFramePr>
        <p:xfrm>
          <a:off x="4111560" y="4159080"/>
          <a:ext cx="4648320" cy="144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3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1560" y="4159080"/>
                    <a:ext cx="4648320" cy="14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737B-25A7-4D5F-AE87-5E63DAEB27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The Cours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3371760" y="237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AutoShape 4"/>
          <p:cNvSpPr/>
          <p:nvPr/>
        </p:nvSpPr>
        <p:spPr>
          <a:xfrm>
            <a:off x="4533840" y="5580000"/>
            <a:ext cx="2343240" cy="533520"/>
          </a:xfrm>
          <a:custGeom>
            <a:avLst/>
            <a:gdLst>
              <a:gd name="textAreaLeft" fmla="*/ 34560 w 2343240"/>
              <a:gd name="textAreaRight" fmla="*/ 2308680 w 23432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94819" h="21600">
                <a:moveTo>
                  <a:pt x="0" y="0"/>
                </a:moveTo>
                <a:lnTo>
                  <a:pt x="94819" y="0"/>
                </a:lnTo>
                <a:lnTo>
                  <a:pt x="94819" y="21600"/>
                </a:lnTo>
                <a:lnTo>
                  <a:pt x="0" y="21600"/>
                </a:lnTo>
                <a:close/>
              </a:path>
              <a:path fill="lightenLess" w="94819" h="21600">
                <a:moveTo>
                  <a:pt x="0" y="0"/>
                </a:moveTo>
                <a:lnTo>
                  <a:pt x="94819" y="0"/>
                </a:lnTo>
                <a:lnTo>
                  <a:pt x="93419" y="1400"/>
                </a:lnTo>
                <a:lnTo>
                  <a:pt x="1400" y="1400"/>
                </a:lnTo>
                <a:close/>
              </a:path>
              <a:path fill="darken" w="94819" h="21600">
                <a:moveTo>
                  <a:pt x="94819" y="0"/>
                </a:moveTo>
                <a:lnTo>
                  <a:pt x="94819" y="21600"/>
                </a:lnTo>
                <a:lnTo>
                  <a:pt x="93419" y="20200"/>
                </a:lnTo>
                <a:lnTo>
                  <a:pt x="93419" y="1400"/>
                </a:lnTo>
                <a:close/>
              </a:path>
              <a:path fill="darkenLess" w="94819" h="21600">
                <a:moveTo>
                  <a:pt x="948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3419" y="20200"/>
                </a:lnTo>
                <a:close/>
              </a:path>
              <a:path fill="lighten" w="948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Book Antiqua"/>
              </a:rPr>
              <a:t>Test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AutoShape 5">
            <a:hlinkClick r:id="rId1"/>
          </p:cNvPr>
          <p:cNvSpPr/>
          <p:nvPr/>
        </p:nvSpPr>
        <p:spPr>
          <a:xfrm>
            <a:off x="6991200" y="5580000"/>
            <a:ext cx="1524240" cy="533520"/>
          </a:xfrm>
          <a:custGeom>
            <a:avLst/>
            <a:gdLst>
              <a:gd name="textAreaLeft" fmla="*/ 34560 w 1524240"/>
              <a:gd name="textAreaRight" fmla="*/ 1489680 w 15242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83" h="21600">
                <a:moveTo>
                  <a:pt x="0" y="0"/>
                </a:moveTo>
                <a:lnTo>
                  <a:pt x="61683" y="0"/>
                </a:lnTo>
                <a:lnTo>
                  <a:pt x="61683" y="21600"/>
                </a:lnTo>
                <a:lnTo>
                  <a:pt x="0" y="21600"/>
                </a:lnTo>
                <a:close/>
              </a:path>
              <a:path fill="lightenLess" w="61683" h="21600">
                <a:moveTo>
                  <a:pt x="0" y="0"/>
                </a:moveTo>
                <a:lnTo>
                  <a:pt x="61683" y="0"/>
                </a:lnTo>
                <a:lnTo>
                  <a:pt x="60283" y="1400"/>
                </a:lnTo>
                <a:lnTo>
                  <a:pt x="1400" y="1400"/>
                </a:lnTo>
                <a:close/>
              </a:path>
              <a:path fill="darken" w="61683" h="21600">
                <a:moveTo>
                  <a:pt x="61683" y="0"/>
                </a:moveTo>
                <a:lnTo>
                  <a:pt x="61683" y="21600"/>
                </a:lnTo>
                <a:lnTo>
                  <a:pt x="60283" y="20200"/>
                </a:lnTo>
                <a:lnTo>
                  <a:pt x="60283" y="1400"/>
                </a:lnTo>
                <a:close/>
              </a:path>
              <a:path fill="darkenLess" w="61683" h="21600">
                <a:moveTo>
                  <a:pt x="61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83" y="20200"/>
                </a:lnTo>
                <a:close/>
              </a:path>
              <a:path fill="lighten" w="61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a1ba"/>
          </a:solidFill>
          <a:ln w="0">
            <a:noFill/>
          </a:ln>
          <a:effectLst>
            <a:outerShdw dist="17819" dir="2700000" blurRad="0" rotWithShape="0">
              <a:srgbClr val="2261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AutoShape 6"/>
          <p:cNvSpPr/>
          <p:nvPr/>
        </p:nvSpPr>
        <p:spPr>
          <a:xfrm>
            <a:off x="2344680" y="5541840"/>
            <a:ext cx="1287360" cy="533520"/>
          </a:xfrm>
          <a:custGeom>
            <a:avLst/>
            <a:gdLst>
              <a:gd name="textAreaLeft" fmla="*/ 34560 w 1287360"/>
              <a:gd name="textAreaRight" fmla="*/ 1252800 w 12873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099" h="21600">
                <a:moveTo>
                  <a:pt x="0" y="0"/>
                </a:moveTo>
                <a:lnTo>
                  <a:pt x="52099" y="0"/>
                </a:lnTo>
                <a:lnTo>
                  <a:pt x="52099" y="21600"/>
                </a:lnTo>
                <a:lnTo>
                  <a:pt x="0" y="21600"/>
                </a:lnTo>
                <a:close/>
              </a:path>
              <a:path fill="lightenLess" w="52099" h="21600">
                <a:moveTo>
                  <a:pt x="0" y="0"/>
                </a:moveTo>
                <a:lnTo>
                  <a:pt x="52099" y="0"/>
                </a:lnTo>
                <a:lnTo>
                  <a:pt x="50699" y="1400"/>
                </a:lnTo>
                <a:lnTo>
                  <a:pt x="1400" y="1400"/>
                </a:lnTo>
                <a:close/>
              </a:path>
              <a:path fill="darken" w="52099" h="21600">
                <a:moveTo>
                  <a:pt x="52099" y="0"/>
                </a:moveTo>
                <a:lnTo>
                  <a:pt x="52099" y="21600"/>
                </a:lnTo>
                <a:lnTo>
                  <a:pt x="50699" y="20200"/>
                </a:lnTo>
                <a:lnTo>
                  <a:pt x="50699" y="1400"/>
                </a:lnTo>
                <a:close/>
              </a:path>
              <a:path fill="darkenLess" w="52099" h="21600">
                <a:moveTo>
                  <a:pt x="520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699" y="20200"/>
                </a:lnTo>
                <a:close/>
              </a:path>
              <a:path fill="lighten" w="520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Book Antiqua"/>
              </a:rPr>
              <a:t>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056040" y="237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0" y="180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9"/>
          <p:cNvSpPr/>
          <p:nvPr/>
        </p:nvSpPr>
        <p:spPr>
          <a:xfrm>
            <a:off x="0" y="18064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2557440" y="17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11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2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15"/>
          <p:cNvSpPr/>
          <p:nvPr/>
        </p:nvSpPr>
        <p:spPr>
          <a:xfrm>
            <a:off x="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Object 14"/>
          <p:cNvGraphicFramePr/>
          <p:nvPr/>
        </p:nvGraphicFramePr>
        <p:xfrm>
          <a:off x="2201760" y="1547640"/>
          <a:ext cx="4738680" cy="355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8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1760" y="1547640"/>
                    <a:ext cx="4738680" cy="35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AutoShape 16"/>
          <p:cNvSpPr/>
          <p:nvPr/>
        </p:nvSpPr>
        <p:spPr>
          <a:xfrm>
            <a:off x="3957480" y="5580000"/>
            <a:ext cx="468360" cy="576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76360"/>
              <a:gd name="textAreaBottom" fmla="*/ 546120 h 576360"/>
            </a:gdLst>
            <a:ahLst/>
            <a:rect l="textAreaLeft" t="textAreaTop" r="textAreaRight" b="textAreaBottom"/>
            <a:pathLst>
              <a:path w="21600" h="26577">
                <a:moveTo>
                  <a:pt x="0" y="0"/>
                </a:moveTo>
                <a:lnTo>
                  <a:pt x="21600" y="0"/>
                </a:lnTo>
                <a:lnTo>
                  <a:pt x="21600" y="26577"/>
                </a:lnTo>
                <a:lnTo>
                  <a:pt x="0" y="26577"/>
                </a:lnTo>
                <a:close/>
              </a:path>
              <a:path fill="lightenLess" w="21600" h="265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77">
                <a:moveTo>
                  <a:pt x="21600" y="0"/>
                </a:moveTo>
                <a:lnTo>
                  <a:pt x="21600" y="26577"/>
                </a:lnTo>
                <a:lnTo>
                  <a:pt x="20200" y="25177"/>
                </a:lnTo>
                <a:lnTo>
                  <a:pt x="20200" y="1400"/>
                </a:lnTo>
                <a:close/>
              </a:path>
              <a:path fill="darkenLess" w="21600" h="26577">
                <a:moveTo>
                  <a:pt x="21600" y="26577"/>
                </a:moveTo>
                <a:lnTo>
                  <a:pt x="0" y="26577"/>
                </a:lnTo>
                <a:lnTo>
                  <a:pt x="1400" y="25177"/>
                </a:lnTo>
                <a:lnTo>
                  <a:pt x="20200" y="25177"/>
                </a:lnTo>
                <a:close/>
              </a:path>
              <a:path fill="lighten" w="21600" h="26577">
                <a:moveTo>
                  <a:pt x="0" y="265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77"/>
                </a:lnTo>
                <a:close/>
              </a:path>
              <a:path fill="darkenLess" w="21600" h="26577">
                <a:moveTo>
                  <a:pt x="5273" y="6473"/>
                </a:moveTo>
                <a:lnTo>
                  <a:pt x="12271" y="6473"/>
                </a:lnTo>
                <a:lnTo>
                  <a:pt x="16327" y="9972"/>
                </a:lnTo>
                <a:lnTo>
                  <a:pt x="16327" y="20103"/>
                </a:lnTo>
                <a:lnTo>
                  <a:pt x="5273" y="20103"/>
                </a:lnTo>
                <a:close/>
              </a:path>
              <a:path fill="darken" w="21600" h="26577">
                <a:moveTo>
                  <a:pt x="12271" y="6473"/>
                </a:moveTo>
                <a:lnTo>
                  <a:pt x="16327" y="9972"/>
                </a:lnTo>
                <a:lnTo>
                  <a:pt x="12271" y="9972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AutoShape 17"/>
          <p:cNvSpPr/>
          <p:nvPr/>
        </p:nvSpPr>
        <p:spPr>
          <a:xfrm>
            <a:off x="1768320" y="5502240"/>
            <a:ext cx="468360" cy="576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76360"/>
              <a:gd name="textAreaBottom" fmla="*/ 546120 h 576360"/>
            </a:gdLst>
            <a:ahLst/>
            <a:rect l="textAreaLeft" t="textAreaTop" r="textAreaRight" b="textAreaBottom"/>
            <a:pathLst>
              <a:path w="21600" h="26577">
                <a:moveTo>
                  <a:pt x="0" y="0"/>
                </a:moveTo>
                <a:lnTo>
                  <a:pt x="21600" y="0"/>
                </a:lnTo>
                <a:lnTo>
                  <a:pt x="21600" y="26577"/>
                </a:lnTo>
                <a:lnTo>
                  <a:pt x="0" y="26577"/>
                </a:lnTo>
                <a:close/>
              </a:path>
              <a:path fill="lightenLess" w="21600" h="265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77">
                <a:moveTo>
                  <a:pt x="21600" y="0"/>
                </a:moveTo>
                <a:lnTo>
                  <a:pt x="21600" y="26577"/>
                </a:lnTo>
                <a:lnTo>
                  <a:pt x="20200" y="25177"/>
                </a:lnTo>
                <a:lnTo>
                  <a:pt x="20200" y="1400"/>
                </a:lnTo>
                <a:close/>
              </a:path>
              <a:path fill="darkenLess" w="21600" h="26577">
                <a:moveTo>
                  <a:pt x="21600" y="26577"/>
                </a:moveTo>
                <a:lnTo>
                  <a:pt x="0" y="26577"/>
                </a:lnTo>
                <a:lnTo>
                  <a:pt x="1400" y="25177"/>
                </a:lnTo>
                <a:lnTo>
                  <a:pt x="20200" y="25177"/>
                </a:lnTo>
                <a:close/>
              </a:path>
              <a:path fill="lighten" w="21600" h="26577">
                <a:moveTo>
                  <a:pt x="0" y="265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77"/>
                </a:lnTo>
                <a:close/>
              </a:path>
              <a:path fill="darkenLess" w="21600" h="26577">
                <a:moveTo>
                  <a:pt x="5273" y="6473"/>
                </a:moveTo>
                <a:lnTo>
                  <a:pt x="12271" y="6473"/>
                </a:lnTo>
                <a:lnTo>
                  <a:pt x="16327" y="9972"/>
                </a:lnTo>
                <a:lnTo>
                  <a:pt x="16327" y="20103"/>
                </a:lnTo>
                <a:lnTo>
                  <a:pt x="5273" y="20103"/>
                </a:lnTo>
                <a:close/>
              </a:path>
              <a:path fill="darken" w="21600" h="26577">
                <a:moveTo>
                  <a:pt x="12271" y="6473"/>
                </a:moveTo>
                <a:lnTo>
                  <a:pt x="16327" y="9972"/>
                </a:lnTo>
                <a:lnTo>
                  <a:pt x="12271" y="9972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D523-2D65-4EFA-8DF3-977C607C6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Picture 4" descr=""/>
          <p:cNvPicPr/>
          <p:nvPr/>
        </p:nvPicPr>
        <p:blipFill>
          <a:blip r:embed="rId1"/>
          <a:stretch/>
        </p:blipFill>
        <p:spPr>
          <a:xfrm>
            <a:off x="0" y="1382760"/>
            <a:ext cx="4954680" cy="4427640"/>
          </a:xfrm>
          <a:prstGeom prst="rect">
            <a:avLst/>
          </a:prstGeom>
          <a:ln w="0">
            <a:noFill/>
          </a:ln>
        </p:spPr>
      </p:pic>
      <p:pic>
        <p:nvPicPr>
          <p:cNvPr id="344" name="Content Placeholder 5" descr=""/>
          <p:cNvPicPr/>
          <p:nvPr/>
        </p:nvPicPr>
        <p:blipFill>
          <a:blip r:embed="rId2"/>
          <a:stretch/>
        </p:blipFill>
        <p:spPr>
          <a:xfrm>
            <a:off x="4294080" y="673200"/>
            <a:ext cx="480240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77880" y="2122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se a Student should be represented as a String type only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you modify the code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13F5-F550-4FD9-83EF-F2A48A54B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Picture 2" descr="Image result for think"/>
          <p:cNvPicPr/>
          <p:nvPr/>
        </p:nvPicPr>
        <p:blipFill>
          <a:blip r:embed="rId1"/>
          <a:stretch/>
        </p:blipFill>
        <p:spPr>
          <a:xfrm>
            <a:off x="-19080" y="7920"/>
            <a:ext cx="33717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1460-8D87-4C0D-8944-9A6E3C83A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ing the StackOfIntegers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38862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27702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0" y="23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1800" y="4250880"/>
            <a:ext cx="1130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8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Picture 11" descr=""/>
          <p:cNvPicPr/>
          <p:nvPr/>
        </p:nvPicPr>
        <p:blipFill>
          <a:blip r:embed="rId1"/>
          <a:stretch/>
        </p:blipFill>
        <p:spPr>
          <a:xfrm>
            <a:off x="158760" y="1650960"/>
            <a:ext cx="882648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3F03-E94A-43AD-85D9-6452ADEAD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StackOfIntege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3"/>
          <p:cNvSpPr/>
          <p:nvPr/>
        </p:nvSpPr>
        <p:spPr>
          <a:xfrm>
            <a:off x="1420920" y="5770440"/>
            <a:ext cx="4114800" cy="533520"/>
          </a:xfrm>
          <a:custGeom>
            <a:avLst/>
            <a:gdLst>
              <a:gd name="textAreaLeft" fmla="*/ 34560 w 4114800"/>
              <a:gd name="textAreaRight" fmla="*/ 4080240 w 4114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66493" h="21600">
                <a:moveTo>
                  <a:pt x="0" y="0"/>
                </a:moveTo>
                <a:lnTo>
                  <a:pt x="166493" y="0"/>
                </a:lnTo>
                <a:lnTo>
                  <a:pt x="166493" y="21600"/>
                </a:lnTo>
                <a:lnTo>
                  <a:pt x="0" y="21600"/>
                </a:lnTo>
                <a:close/>
              </a:path>
              <a:path fill="lightenLess" w="166493" h="21600">
                <a:moveTo>
                  <a:pt x="0" y="0"/>
                </a:moveTo>
                <a:lnTo>
                  <a:pt x="166493" y="0"/>
                </a:lnTo>
                <a:lnTo>
                  <a:pt x="165093" y="1400"/>
                </a:lnTo>
                <a:lnTo>
                  <a:pt x="1400" y="1400"/>
                </a:lnTo>
                <a:close/>
              </a:path>
              <a:path fill="darken" w="166493" h="21600">
                <a:moveTo>
                  <a:pt x="166493" y="0"/>
                </a:moveTo>
                <a:lnTo>
                  <a:pt x="166493" y="21600"/>
                </a:lnTo>
                <a:lnTo>
                  <a:pt x="165093" y="20200"/>
                </a:lnTo>
                <a:lnTo>
                  <a:pt x="165093" y="1400"/>
                </a:lnTo>
                <a:close/>
              </a:path>
              <a:path fill="darkenLess" w="166493" h="21600">
                <a:moveTo>
                  <a:pt x="1664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5093" y="20200"/>
                </a:lnTo>
                <a:close/>
              </a:path>
              <a:path fill="lighten" w="1664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Book Antiqua"/>
                <a:ea typeface="Times New Roman"/>
              </a:rPr>
              <a:t>StackOfInte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38862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27702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0" y="23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1800" y="4250880"/>
            <a:ext cx="1130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8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utoShape 10"/>
          <p:cNvSpPr/>
          <p:nvPr/>
        </p:nvSpPr>
        <p:spPr>
          <a:xfrm>
            <a:off x="846000" y="5734080"/>
            <a:ext cx="468360" cy="576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76360"/>
              <a:gd name="textAreaBottom" fmla="*/ 546120 h 576360"/>
            </a:gdLst>
            <a:ahLst/>
            <a:rect l="textAreaLeft" t="textAreaTop" r="textAreaRight" b="textAreaBottom"/>
            <a:pathLst>
              <a:path w="21600" h="26577">
                <a:moveTo>
                  <a:pt x="0" y="0"/>
                </a:moveTo>
                <a:lnTo>
                  <a:pt x="21600" y="0"/>
                </a:lnTo>
                <a:lnTo>
                  <a:pt x="21600" y="26577"/>
                </a:lnTo>
                <a:lnTo>
                  <a:pt x="0" y="26577"/>
                </a:lnTo>
                <a:close/>
              </a:path>
              <a:path fill="lightenLess" w="21600" h="265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77">
                <a:moveTo>
                  <a:pt x="21600" y="0"/>
                </a:moveTo>
                <a:lnTo>
                  <a:pt x="21600" y="26577"/>
                </a:lnTo>
                <a:lnTo>
                  <a:pt x="20200" y="25177"/>
                </a:lnTo>
                <a:lnTo>
                  <a:pt x="20200" y="1400"/>
                </a:lnTo>
                <a:close/>
              </a:path>
              <a:path fill="darkenLess" w="21600" h="26577">
                <a:moveTo>
                  <a:pt x="21600" y="26577"/>
                </a:moveTo>
                <a:lnTo>
                  <a:pt x="0" y="26577"/>
                </a:lnTo>
                <a:lnTo>
                  <a:pt x="1400" y="25177"/>
                </a:lnTo>
                <a:lnTo>
                  <a:pt x="20200" y="25177"/>
                </a:lnTo>
                <a:close/>
              </a:path>
              <a:path fill="lighten" w="21600" h="26577">
                <a:moveTo>
                  <a:pt x="0" y="265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77"/>
                </a:lnTo>
                <a:close/>
              </a:path>
              <a:path fill="darkenLess" w="21600" h="26577">
                <a:moveTo>
                  <a:pt x="5273" y="6473"/>
                </a:moveTo>
                <a:lnTo>
                  <a:pt x="12271" y="6473"/>
                </a:lnTo>
                <a:lnTo>
                  <a:pt x="16327" y="9972"/>
                </a:lnTo>
                <a:lnTo>
                  <a:pt x="16327" y="20103"/>
                </a:lnTo>
                <a:lnTo>
                  <a:pt x="5273" y="20103"/>
                </a:lnTo>
                <a:close/>
              </a:path>
              <a:path fill="darken" w="21600" h="26577">
                <a:moveTo>
                  <a:pt x="12271" y="6473"/>
                </a:moveTo>
                <a:lnTo>
                  <a:pt x="16327" y="9972"/>
                </a:lnTo>
                <a:lnTo>
                  <a:pt x="12271" y="9972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Picture 12" descr=""/>
          <p:cNvPicPr/>
          <p:nvPr/>
        </p:nvPicPr>
        <p:blipFill>
          <a:blip r:embed="rId1"/>
          <a:stretch/>
        </p:blipFill>
        <p:spPr>
          <a:xfrm>
            <a:off x="195120" y="1590840"/>
            <a:ext cx="863928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478D-1000-4916-BB5D-E964B59D6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The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StackOfIntege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AutoShape 3">
            <a:hlinkClick r:id="rId1"/>
          </p:cNvPr>
          <p:cNvSpPr/>
          <p:nvPr/>
        </p:nvSpPr>
        <p:spPr>
          <a:xfrm>
            <a:off x="5916600" y="55483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a1ba"/>
          </a:solidFill>
          <a:ln w="0">
            <a:noFill/>
          </a:ln>
          <a:effectLst>
            <a:outerShdw dist="17819" dir="2700000" blurRad="0" rotWithShape="0">
              <a:srgbClr val="2261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AutoShape 4"/>
          <p:cNvSpPr/>
          <p:nvPr/>
        </p:nvSpPr>
        <p:spPr>
          <a:xfrm>
            <a:off x="1420920" y="5624640"/>
            <a:ext cx="4114800" cy="533160"/>
          </a:xfrm>
          <a:custGeom>
            <a:avLst/>
            <a:gdLst>
              <a:gd name="textAreaLeft" fmla="*/ 34560 w 4114800"/>
              <a:gd name="textAreaRight" fmla="*/ 4080240 w 4114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166606" h="21600">
                <a:moveTo>
                  <a:pt x="0" y="0"/>
                </a:moveTo>
                <a:lnTo>
                  <a:pt x="166606" y="0"/>
                </a:lnTo>
                <a:lnTo>
                  <a:pt x="166606" y="21600"/>
                </a:lnTo>
                <a:lnTo>
                  <a:pt x="0" y="21600"/>
                </a:lnTo>
                <a:close/>
              </a:path>
              <a:path fill="lightenLess" w="166606" h="21600">
                <a:moveTo>
                  <a:pt x="0" y="0"/>
                </a:moveTo>
                <a:lnTo>
                  <a:pt x="166606" y="0"/>
                </a:lnTo>
                <a:lnTo>
                  <a:pt x="165206" y="1400"/>
                </a:lnTo>
                <a:lnTo>
                  <a:pt x="1400" y="1400"/>
                </a:lnTo>
                <a:close/>
              </a:path>
              <a:path fill="darken" w="166606" h="21600">
                <a:moveTo>
                  <a:pt x="166606" y="0"/>
                </a:moveTo>
                <a:lnTo>
                  <a:pt x="166606" y="21600"/>
                </a:lnTo>
                <a:lnTo>
                  <a:pt x="165206" y="20200"/>
                </a:lnTo>
                <a:lnTo>
                  <a:pt x="165206" y="1400"/>
                </a:lnTo>
                <a:close/>
              </a:path>
              <a:path fill="darkenLess" w="166606" h="21600">
                <a:moveTo>
                  <a:pt x="166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5206" y="20200"/>
                </a:lnTo>
                <a:close/>
              </a:path>
              <a:path fill="lighten" w="166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Book Antiqua"/>
                <a:ea typeface="Times New Roman"/>
              </a:rPr>
              <a:t>TestStackOfInte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38862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27702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0" y="23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Object 8"/>
          <p:cNvGraphicFramePr/>
          <p:nvPr/>
        </p:nvGraphicFramePr>
        <p:xfrm>
          <a:off x="108000" y="1536840"/>
          <a:ext cx="370368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6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536840"/>
                    <a:ext cx="370368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Rectangle 9"/>
          <p:cNvSpPr/>
          <p:nvPr/>
        </p:nvSpPr>
        <p:spPr>
          <a:xfrm>
            <a:off x="1800" y="3530160"/>
            <a:ext cx="1130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10"/>
          <p:cNvSpPr/>
          <p:nvPr/>
        </p:nvSpPr>
        <p:spPr>
          <a:xfrm>
            <a:off x="846000" y="5587920"/>
            <a:ext cx="468360" cy="576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76360"/>
              <a:gd name="textAreaBottom" fmla="*/ 546120 h 576360"/>
            </a:gdLst>
            <a:ahLst/>
            <a:rect l="textAreaLeft" t="textAreaTop" r="textAreaRight" b="textAreaBottom"/>
            <a:pathLst>
              <a:path w="21600" h="26577">
                <a:moveTo>
                  <a:pt x="0" y="0"/>
                </a:moveTo>
                <a:lnTo>
                  <a:pt x="21600" y="0"/>
                </a:lnTo>
                <a:lnTo>
                  <a:pt x="21600" y="26577"/>
                </a:lnTo>
                <a:lnTo>
                  <a:pt x="0" y="26577"/>
                </a:lnTo>
                <a:close/>
              </a:path>
              <a:path fill="lightenLess" w="21600" h="265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77">
                <a:moveTo>
                  <a:pt x="21600" y="0"/>
                </a:moveTo>
                <a:lnTo>
                  <a:pt x="21600" y="26577"/>
                </a:lnTo>
                <a:lnTo>
                  <a:pt x="20200" y="25177"/>
                </a:lnTo>
                <a:lnTo>
                  <a:pt x="20200" y="1400"/>
                </a:lnTo>
                <a:close/>
              </a:path>
              <a:path fill="darkenLess" w="21600" h="26577">
                <a:moveTo>
                  <a:pt x="21600" y="26577"/>
                </a:moveTo>
                <a:lnTo>
                  <a:pt x="0" y="26577"/>
                </a:lnTo>
                <a:lnTo>
                  <a:pt x="1400" y="25177"/>
                </a:lnTo>
                <a:lnTo>
                  <a:pt x="20200" y="25177"/>
                </a:lnTo>
                <a:close/>
              </a:path>
              <a:path fill="lighten" w="21600" h="26577">
                <a:moveTo>
                  <a:pt x="0" y="265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77"/>
                </a:lnTo>
                <a:close/>
              </a:path>
              <a:path fill="darkenLess" w="21600" h="26577">
                <a:moveTo>
                  <a:pt x="5273" y="6473"/>
                </a:moveTo>
                <a:lnTo>
                  <a:pt x="12271" y="6473"/>
                </a:lnTo>
                <a:lnTo>
                  <a:pt x="16327" y="9972"/>
                </a:lnTo>
                <a:lnTo>
                  <a:pt x="16327" y="20103"/>
                </a:lnTo>
                <a:lnTo>
                  <a:pt x="5273" y="20103"/>
                </a:lnTo>
                <a:close/>
              </a:path>
              <a:path fill="darken" w="21600" h="26577">
                <a:moveTo>
                  <a:pt x="12271" y="6473"/>
                </a:moveTo>
                <a:lnTo>
                  <a:pt x="16327" y="9972"/>
                </a:lnTo>
                <a:lnTo>
                  <a:pt x="12271" y="9972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Picture 1" descr=""/>
          <p:cNvPicPr/>
          <p:nvPr/>
        </p:nvPicPr>
        <p:blipFill>
          <a:blip r:embed="rId4"/>
          <a:stretch/>
        </p:blipFill>
        <p:spPr>
          <a:xfrm>
            <a:off x="3938760" y="1577880"/>
            <a:ext cx="3956040" cy="7779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"/>
          <p:cNvPicPr/>
          <p:nvPr/>
        </p:nvPicPr>
        <p:blipFill>
          <a:blip r:embed="rId5"/>
          <a:stretch/>
        </p:blipFill>
        <p:spPr>
          <a:xfrm>
            <a:off x="3919680" y="2336760"/>
            <a:ext cx="4010040" cy="14288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"/>
          <p:cNvPicPr/>
          <p:nvPr/>
        </p:nvPicPr>
        <p:blipFill>
          <a:blip r:embed="rId6"/>
          <a:stretch/>
        </p:blipFill>
        <p:spPr>
          <a:xfrm>
            <a:off x="3511440" y="3160800"/>
            <a:ext cx="5634000" cy="18208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"/>
          <p:cNvPicPr/>
          <p:nvPr/>
        </p:nvPicPr>
        <p:blipFill>
          <a:blip r:embed="rId7"/>
          <a:stretch/>
        </p:blipFill>
        <p:spPr>
          <a:xfrm>
            <a:off x="3805200" y="3681360"/>
            <a:ext cx="5060880" cy="8859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"/>
          <p:cNvPicPr/>
          <p:nvPr/>
        </p:nvPicPr>
        <p:blipFill>
          <a:blip r:embed="rId8"/>
          <a:stretch/>
        </p:blipFill>
        <p:spPr>
          <a:xfrm>
            <a:off x="3689280" y="3424320"/>
            <a:ext cx="5924520" cy="12016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"/>
          <p:cNvPicPr/>
          <p:nvPr/>
        </p:nvPicPr>
        <p:blipFill>
          <a:blip r:embed="rId9"/>
          <a:stretch/>
        </p:blipFill>
        <p:spPr>
          <a:xfrm>
            <a:off x="3505320" y="3673440"/>
            <a:ext cx="6021360" cy="12621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"/>
          <p:cNvPicPr/>
          <p:nvPr/>
        </p:nvPicPr>
        <p:blipFill>
          <a:blip r:embed="rId10"/>
          <a:stretch/>
        </p:blipFill>
        <p:spPr>
          <a:xfrm>
            <a:off x="3594240" y="3711600"/>
            <a:ext cx="526572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87240" y="193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e do if we want to calculate an equation depending on th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axim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umber on an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tge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ge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e do if th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tge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will be entered as a string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CE86-17EA-426F-B929-3E8E4A922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Picture 2" descr="Image result for think"/>
          <p:cNvPicPr/>
          <p:nvPr/>
        </p:nvPicPr>
        <p:blipFill>
          <a:blip r:embed="rId1"/>
          <a:stretch/>
        </p:blipFill>
        <p:spPr>
          <a:xfrm>
            <a:off x="-19080" y="7920"/>
            <a:ext cx="3371760" cy="135252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2"/>
          <p:cNvSpPr/>
          <p:nvPr/>
        </p:nvSpPr>
        <p:spPr>
          <a:xfrm>
            <a:off x="-28440" y="528480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6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Wrapper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F1EF-E901-44BC-AF73-EBF631545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5EE2-3DA1-4D0F-A675-70B8B91D6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apper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2114640" y="254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7"/>
          <p:cNvSpPr/>
          <p:nvPr/>
        </p:nvSpPr>
        <p:spPr>
          <a:xfrm>
            <a:off x="1154160" y="4443480"/>
            <a:ext cx="660564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Let’s work on the common Cla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Inte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Picture 12" descr="http://jeetutorial.com/wp-content/uploads/2015/07/wrapper-class.jpg"/>
          <p:cNvPicPr/>
          <p:nvPr/>
        </p:nvPicPr>
        <p:blipFill>
          <a:blip r:embed="rId1"/>
          <a:stretch/>
        </p:blipFill>
        <p:spPr>
          <a:xfrm>
            <a:off x="1998720" y="1487520"/>
            <a:ext cx="514656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Slide Number Placeholder 2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AFEF-4ADE-47DD-8C8F-CF9D2777C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3A3D-412C-4DE7-91DE-717760E8A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Integ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46000" y="1944360"/>
            <a:ext cx="777240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 x= 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 x= new Integer (5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 x= new Integer (“5”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Box 1"/>
          <p:cNvSpPr/>
          <p:nvPr/>
        </p:nvSpPr>
        <p:spPr>
          <a:xfrm>
            <a:off x="633240" y="3274920"/>
            <a:ext cx="551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e Wrapper class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have no-arg constructors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The creation is similar to the String Class, so what is common between them 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Box 2"/>
          <p:cNvSpPr/>
          <p:nvPr/>
        </p:nvSpPr>
        <p:spPr>
          <a:xfrm>
            <a:off x="5762520" y="3489480"/>
            <a:ext cx="7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7"/>
          <p:cNvSpPr/>
          <p:nvPr/>
        </p:nvSpPr>
        <p:spPr>
          <a:xfrm>
            <a:off x="900000" y="5302080"/>
            <a:ext cx="543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The instances of all wrapper classes are immutable, i.e., their internal values cannot be changed once the objects are crea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4" name="Object 8"/>
          <p:cNvGraphicFramePr/>
          <p:nvPr/>
        </p:nvGraphicFramePr>
        <p:xfrm>
          <a:off x="6014880" y="3890880"/>
          <a:ext cx="2981520" cy="484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4880" y="3890880"/>
                    <a:ext cx="2981520" cy="48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4266-9AE8-4C25-A570-582FE59EF6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5160" y="1699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309600" y="995400"/>
            <a:ext cx="48020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Courier New"/>
                <a:ea typeface="Courier New"/>
              </a:rPr>
              <a:t>public class Student {</a:t>
            </a:r>
            <a:br>
              <a:rPr sz="1400"/>
            </a:br>
            <a:r>
              <a:rPr b="1" lang="en-US" sz="1400" spc="-1" strike="noStrike">
                <a:solidFill>
                  <a:srgbClr val="5f5f5f"/>
                </a:solidFill>
                <a:latin typeface="Courier New"/>
                <a:ea typeface="Courier New"/>
              </a:rPr>
              <a:t>  private int id;</a:t>
            </a:r>
            <a:br>
              <a:rPr sz="1400"/>
            </a:br>
            <a:r>
              <a:rPr b="1" lang="en-US" sz="1400" spc="-1" strike="noStrike">
                <a:solidFill>
                  <a:srgbClr val="5f5f5f"/>
                </a:solidFill>
                <a:latin typeface="Courier New"/>
                <a:ea typeface="Courier New"/>
              </a:rPr>
              <a:t>  private BirthDate birthDate;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5f5f5f"/>
                </a:solidFill>
                <a:latin typeface="Courier New"/>
                <a:ea typeface="Courier New"/>
              </a:rPr>
              <a:t>  public Student(int ssn, </a:t>
            </a:r>
            <a:br>
              <a:rPr sz="1400"/>
            </a:br>
            <a:r>
              <a:rPr b="1" lang="en-US" sz="14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  int year, int month, int day) {</a:t>
            </a:r>
            <a:br>
              <a:rPr sz="1400"/>
            </a:br>
            <a:r>
              <a:rPr b="1" lang="en-US" sz="14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id = ssn;</a:t>
            </a:r>
            <a:br>
              <a:rPr sz="1400"/>
            </a:br>
            <a:r>
              <a:rPr b="1" lang="en-US" sz="14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birthDate = new BirthDate(year, month, day);</a:t>
            </a:r>
            <a:br>
              <a:rPr sz="1400"/>
            </a:br>
            <a:r>
              <a:rPr b="1" lang="en-US" sz="1400" spc="-1" strike="noStrike">
                <a:solidFill>
                  <a:srgbClr val="5f5f5f"/>
                </a:solidFill>
                <a:latin typeface="Courier New"/>
                <a:ea typeface="Courier New"/>
              </a:rPr>
              <a:t>  }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5f5f5f"/>
                </a:solidFill>
                <a:latin typeface="Courier New"/>
                <a:ea typeface="Courier New"/>
              </a:rPr>
              <a:t>  public int getId() {</a:t>
            </a:r>
            <a:br>
              <a:rPr sz="1400"/>
            </a:br>
            <a:r>
              <a:rPr b="1" lang="en-US" sz="14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return id;</a:t>
            </a:r>
            <a:br>
              <a:rPr sz="1400"/>
            </a:br>
            <a:r>
              <a:rPr b="1" lang="en-US" sz="1400" spc="-1" strike="noStrike">
                <a:solidFill>
                  <a:srgbClr val="5f5f5f"/>
                </a:solidFill>
                <a:latin typeface="Courier New"/>
                <a:ea typeface="Courier New"/>
              </a:rPr>
              <a:t>  }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5f5f5f"/>
                </a:solidFill>
                <a:latin typeface="Courier New"/>
                <a:ea typeface="Courier New"/>
              </a:rPr>
              <a:t>  public BirthDate getBirthDate() {</a:t>
            </a:r>
            <a:br>
              <a:rPr sz="1400"/>
            </a:br>
            <a:r>
              <a:rPr b="1" lang="en-US" sz="14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return birthDate;</a:t>
            </a:r>
            <a:br>
              <a:rPr sz="1400"/>
            </a:br>
            <a:r>
              <a:rPr b="1" lang="en-US" sz="1400" spc="-1" strike="noStrike">
                <a:solidFill>
                  <a:srgbClr val="5f5f5f"/>
                </a:solidFill>
                <a:latin typeface="Courier New"/>
                <a:ea typeface="Courier New"/>
              </a:rPr>
              <a:t>  }</a:t>
            </a:r>
            <a:br>
              <a:rPr sz="1400"/>
            </a:br>
            <a:r>
              <a:rPr b="1" lang="en-US" sz="1400" spc="-1" strike="noStrike">
                <a:solidFill>
                  <a:srgbClr val="5f5f5f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4799160" y="590400"/>
            <a:ext cx="4495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5f5f5f"/>
                </a:solidFill>
                <a:latin typeface="Courier New"/>
                <a:ea typeface="Courier New"/>
              </a:rPr>
              <a:t>public class BirthDate {</a:t>
            </a:r>
            <a:br>
              <a:rPr sz="1500"/>
            </a:br>
            <a:r>
              <a:rPr b="1" lang="en-US" sz="1500" spc="-1" strike="noStrike">
                <a:solidFill>
                  <a:srgbClr val="5f5f5f"/>
                </a:solidFill>
                <a:latin typeface="Courier New"/>
                <a:ea typeface="Courier New"/>
              </a:rPr>
              <a:t>  private int year;</a:t>
            </a:r>
            <a:br>
              <a:rPr sz="1500"/>
            </a:br>
            <a:r>
              <a:rPr b="1" lang="en-US" sz="1500" spc="-1" strike="noStrike">
                <a:solidFill>
                  <a:srgbClr val="5f5f5f"/>
                </a:solidFill>
                <a:latin typeface="Courier New"/>
                <a:ea typeface="Courier New"/>
              </a:rPr>
              <a:t>  private int month;</a:t>
            </a:r>
            <a:br>
              <a:rPr sz="1500"/>
            </a:br>
            <a:r>
              <a:rPr b="1" lang="en-US" sz="1500" spc="-1" strike="noStrike">
                <a:solidFill>
                  <a:srgbClr val="5f5f5f"/>
                </a:solidFill>
                <a:latin typeface="Courier New"/>
                <a:ea typeface="Courier New"/>
              </a:rPr>
              <a:t>  private int day;</a:t>
            </a:r>
            <a:br>
              <a:rPr sz="1500"/>
            </a:br>
            <a:r>
              <a:rPr b="1" lang="en-US" sz="1500" spc="-1" strike="noStrike">
                <a:solidFill>
                  <a:srgbClr val="5f5f5f"/>
                </a:solidFill>
                <a:latin typeface="Courier New"/>
                <a:ea typeface="Courier New"/>
              </a:rPr>
              <a:t>  </a:t>
            </a:r>
            <a:br>
              <a:rPr sz="1500"/>
            </a:br>
            <a:r>
              <a:rPr b="1" lang="en-US" sz="1500" spc="-1" strike="noStrike">
                <a:solidFill>
                  <a:srgbClr val="5f5f5f"/>
                </a:solidFill>
                <a:latin typeface="Courier New"/>
                <a:ea typeface="Courier New"/>
              </a:rPr>
              <a:t>  public BirthDate(int newYear, </a:t>
            </a:r>
            <a:br>
              <a:rPr sz="1500"/>
            </a:br>
            <a:r>
              <a:rPr b="1" lang="en-US" sz="15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  int newMonth, int newDay) {</a:t>
            </a:r>
            <a:br>
              <a:rPr sz="1500"/>
            </a:br>
            <a:r>
              <a:rPr b="1" lang="en-US" sz="15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year = newYear;</a:t>
            </a:r>
            <a:br>
              <a:rPr sz="1500"/>
            </a:br>
            <a:r>
              <a:rPr b="1" lang="en-US" sz="15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month = newMonth;</a:t>
            </a:r>
            <a:br>
              <a:rPr sz="1500"/>
            </a:br>
            <a:r>
              <a:rPr b="1" lang="en-US" sz="15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day = newDay;</a:t>
            </a:r>
            <a:br>
              <a:rPr sz="1500"/>
            </a:br>
            <a:r>
              <a:rPr b="1" lang="en-US" sz="1500" spc="-1" strike="noStrike">
                <a:solidFill>
                  <a:srgbClr val="5f5f5f"/>
                </a:solidFill>
                <a:latin typeface="Courier New"/>
                <a:ea typeface="Courier New"/>
              </a:rPr>
              <a:t>  }</a:t>
            </a:r>
            <a:br>
              <a:rPr sz="1500"/>
            </a:br>
            <a:r>
              <a:rPr b="1" lang="en-US" sz="1500" spc="-1" strike="noStrike">
                <a:solidFill>
                  <a:srgbClr val="5f5f5f"/>
                </a:solidFill>
                <a:latin typeface="Courier New"/>
                <a:ea typeface="Courier New"/>
              </a:rPr>
              <a:t>  </a:t>
            </a:r>
            <a:br>
              <a:rPr sz="1500"/>
            </a:br>
            <a:r>
              <a:rPr b="1" lang="en-US" sz="1500" spc="-1" strike="noStrike">
                <a:solidFill>
                  <a:srgbClr val="5f5f5f"/>
                </a:solidFill>
                <a:latin typeface="Courier New"/>
                <a:ea typeface="Courier New"/>
              </a:rPr>
              <a:t>  public void setYear(int newYear) {</a:t>
            </a:r>
            <a:br>
              <a:rPr sz="1500"/>
            </a:br>
            <a:r>
              <a:rPr b="1" lang="en-US" sz="15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year = newYear;</a:t>
            </a:r>
            <a:br>
              <a:rPr sz="1500"/>
            </a:br>
            <a:r>
              <a:rPr b="1" lang="en-US" sz="1500" spc="-1" strike="noStrike">
                <a:solidFill>
                  <a:srgbClr val="5f5f5f"/>
                </a:solidFill>
                <a:latin typeface="Courier New"/>
                <a:ea typeface="Courier New"/>
              </a:rPr>
              <a:t>  }</a:t>
            </a:r>
            <a:br>
              <a:rPr sz="1500"/>
            </a:br>
            <a:r>
              <a:rPr b="1" lang="en-US" sz="1500" spc="-1" strike="noStrike">
                <a:solidFill>
                  <a:srgbClr val="5f5f5f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495360" y="4722840"/>
            <a:ext cx="83059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ourier New"/>
                <a:ea typeface="Courier New"/>
              </a:rPr>
              <a:t>public class Test {</a:t>
            </a:r>
            <a:br>
              <a:rPr sz="1600"/>
            </a:br>
            <a:r>
              <a:rPr b="1" lang="en-US" sz="1600" spc="-1" strike="noStrike">
                <a:solidFill>
                  <a:srgbClr val="5f5f5f"/>
                </a:solidFill>
                <a:latin typeface="Courier New"/>
                <a:ea typeface="Courier New"/>
              </a:rPr>
              <a:t>  public static void main(String[] args) {</a:t>
            </a:r>
            <a:br>
              <a:rPr sz="1600"/>
            </a:br>
            <a:r>
              <a:rPr b="1" lang="en-US" sz="16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Student student = new Student(111223333, 1970, 5, 3);</a:t>
            </a:r>
            <a:br>
              <a:rPr sz="1600"/>
            </a:br>
            <a:r>
              <a:rPr b="1" lang="en-US" sz="16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BirthDate date = student.getBirthDate();</a:t>
            </a:r>
            <a:br>
              <a:rPr sz="1600"/>
            </a:br>
            <a:r>
              <a:rPr b="1" lang="en-US" sz="16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date.setYear(2010); // Now the student birth year is changed!</a:t>
            </a:r>
            <a:br>
              <a:rPr sz="1600"/>
            </a:br>
            <a:r>
              <a:rPr b="1" lang="en-US" sz="1600" spc="-1" strike="noStrike">
                <a:solidFill>
                  <a:srgbClr val="5f5f5f"/>
                </a:solidFill>
                <a:latin typeface="Courier New"/>
                <a:ea typeface="Courier New"/>
              </a:rPr>
              <a:t>  }</a:t>
            </a:r>
            <a:br>
              <a:rPr sz="1600"/>
            </a:br>
            <a:r>
              <a:rPr b="1" lang="en-US" sz="1600" spc="-1" strike="noStrike">
                <a:solidFill>
                  <a:srgbClr val="5f5f5f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2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5F93-7035-4C4D-9E6B-19FE7E918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9E7C-2BEC-4A1C-B6B1-B64632937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eric Wrapper Class Constructo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 construct a wrapper object either from a primitive data type value or from a string representing the numeric valu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structors for Integer and Double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Integer(int valu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Integer(String 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Double(double valu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Double(String 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Slide Number Placeholder 2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8EC6-11B3-4BFA-AF24-108127144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CED0-3210-46DD-BF9A-E48CC6E79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eric Wrapper Class Constant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447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numerical wrapper class has the const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AX_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presents the maximum value of the corresponding primitive data type. F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y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ho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teg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IN_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presents the minimum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y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ho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lo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IN_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presents the minimu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lo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llowing statements displ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ximum integer (2,147,483,647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inimum positive float (1.4E-45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ximum double floating-point number (1.79769313486231570e+308d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4" name="Object 8"/>
          <p:cNvGraphicFramePr/>
          <p:nvPr/>
        </p:nvGraphicFramePr>
        <p:xfrm>
          <a:off x="6016680" y="3938760"/>
          <a:ext cx="2441520" cy="198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6680" y="3938760"/>
                    <a:ext cx="244152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Slide Number Placeholder 2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F7C6-D3BF-4969-8135-424802C49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E27B-FB14-479E-A706-9483EB1F8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66560" y="1412640"/>
            <a:ext cx="8686800" cy="44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can we have a primitive type from an object re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Picture 2" descr="Image result for think"/>
          <p:cNvPicPr/>
          <p:nvPr/>
        </p:nvPicPr>
        <p:blipFill>
          <a:blip r:embed="rId1"/>
          <a:stretch/>
        </p:blipFill>
        <p:spPr>
          <a:xfrm>
            <a:off x="-19080" y="7920"/>
            <a:ext cx="3371760" cy="135252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1"/>
          <p:cNvSpPr/>
          <p:nvPr/>
        </p:nvSpPr>
        <p:spPr>
          <a:xfrm>
            <a:off x="1482480" y="2046240"/>
            <a:ext cx="62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umeric Wrapper Class Conversion Method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2" name="Object 8"/>
          <p:cNvGraphicFramePr/>
          <p:nvPr/>
        </p:nvGraphicFramePr>
        <p:xfrm>
          <a:off x="2378160" y="2698920"/>
          <a:ext cx="4429080" cy="361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3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78160" y="2698920"/>
                    <a:ext cx="4429080" cy="36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23998067-31A6-4386-96F2-1F6501BF0E7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70000" y="28548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utomatic Conversion Between Primitive Types and Wrapper Class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69696"/>
                </a:solidFill>
                <a:latin typeface="Times New Roman"/>
              </a:rPr>
              <a:t>Autobox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automatic conversion of a primitive value to a corresponding wrapper obje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de2c28"/>
                </a:solidFill>
                <a:latin typeface="Courier New"/>
              </a:rPr>
              <a:t>Integer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2c28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e2c28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e2c28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e2c28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de2c28"/>
                </a:solidFill>
                <a:latin typeface="Courier New"/>
              </a:rPr>
              <a:t>int num = 4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2c28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e2c28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e2c28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e2c28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de2c28"/>
                </a:solidFill>
                <a:latin typeface="Courier New"/>
              </a:rPr>
              <a:t>obj = nu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ssignment creates the appropriate </a:t>
            </a:r>
            <a:r>
              <a:rPr b="0" lang="en-US" sz="2000" spc="-1" strike="noStrike">
                <a:solidFill>
                  <a:srgbClr val="969696"/>
                </a:solidFill>
                <a:latin typeface="Courier New"/>
              </a:rPr>
              <a:t>Integ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verse conversion (called </a:t>
            </a:r>
            <a:r>
              <a:rPr b="0" i="1" lang="en-US" sz="2000" spc="-1" strike="noStrike">
                <a:solidFill>
                  <a:srgbClr val="969696"/>
                </a:solidFill>
                <a:latin typeface="Times New Roman"/>
              </a:rPr>
              <a:t>unbox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lso occurs automatically as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2c28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e2c28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e2c28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e2c28"/>
                </a:solidFill>
                <a:latin typeface="Courier New"/>
              </a:rPr>
              <a:t>Integer obj=4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2c28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e2c28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e2c28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e2c28"/>
                </a:solidFill>
                <a:latin typeface="Courier New"/>
              </a:rPr>
              <a:t>int nu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2c28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e2c28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e2c28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e2c28"/>
                </a:solidFill>
                <a:latin typeface="Courier New"/>
              </a:rPr>
              <a:t>num =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Slide Number Placeholder 2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773D-8D49-48BD-9922-22FF90772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8828-BA8C-45D8-9D84-9A0BBD74B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12400" y="5155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utomatic Conversion Between Primitive Types and Wrapper Class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7823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rimitive type and wrapper classes to be converted automaticall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1030"/>
          <p:cNvSpPr/>
          <p:nvPr/>
        </p:nvSpPr>
        <p:spPr>
          <a:xfrm>
            <a:off x="214308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2" name="Object 1029"/>
          <p:cNvGraphicFramePr/>
          <p:nvPr/>
        </p:nvGraphicFramePr>
        <p:xfrm>
          <a:off x="271440" y="2425680"/>
          <a:ext cx="5284800" cy="6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3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40" y="2425680"/>
                    <a:ext cx="528480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4" name="Object 1029"/>
          <p:cNvGraphicFramePr/>
          <p:nvPr/>
        </p:nvGraphicFramePr>
        <p:xfrm>
          <a:off x="5397480" y="2496960"/>
          <a:ext cx="3506760" cy="99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5" name="Object 10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7480" y="2496960"/>
                    <a:ext cx="3506760" cy="9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Object 1029"/>
          <p:cNvGraphicFramePr/>
          <p:nvPr/>
        </p:nvGraphicFramePr>
        <p:xfrm>
          <a:off x="270000" y="3676680"/>
          <a:ext cx="5286240" cy="128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7" name="Object 102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0000" y="3676680"/>
                    <a:ext cx="5286240" cy="12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8" name="Object 1029"/>
          <p:cNvGraphicFramePr/>
          <p:nvPr/>
        </p:nvGraphicFramePr>
        <p:xfrm>
          <a:off x="5299200" y="3719520"/>
          <a:ext cx="3705120" cy="99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9" name="Object 10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99200" y="3719520"/>
                    <a:ext cx="3705120" cy="99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lide Number Placeholder 2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5440-AFD5-4664-86B9-164D3F3F8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BCB4-CC7A-4C36-AE51-78C0835D5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66560" y="1412640"/>
            <a:ext cx="8686800" cy="44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can we deal if a number is entered as a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Picture 2" descr="Image result for think"/>
          <p:cNvPicPr/>
          <p:nvPr/>
        </p:nvPicPr>
        <p:blipFill>
          <a:blip r:embed="rId1"/>
          <a:stretch/>
        </p:blipFill>
        <p:spPr>
          <a:xfrm>
            <a:off x="-19080" y="7920"/>
            <a:ext cx="3371760" cy="135252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1"/>
          <p:cNvSpPr/>
          <p:nvPr/>
        </p:nvSpPr>
        <p:spPr>
          <a:xfrm>
            <a:off x="1304280" y="2046240"/>
            <a:ext cx="65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umeric Wrapper Class Static valueOf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6" name="Object 8"/>
          <p:cNvGraphicFramePr/>
          <p:nvPr/>
        </p:nvGraphicFramePr>
        <p:xfrm>
          <a:off x="466560" y="2816280"/>
          <a:ext cx="3254400" cy="307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6560" y="2816280"/>
                    <a:ext cx="3254400" cy="30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Rectangle 3"/>
          <p:cNvSpPr/>
          <p:nvPr/>
        </p:nvSpPr>
        <p:spPr>
          <a:xfrm>
            <a:off x="3683160" y="3268800"/>
            <a:ext cx="545760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ethod creates a new object initialized to the value represented by the specified string.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er integerObject = Integer.valueOf("12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9" name="Straight Arrow Connector 3"/>
          <p:cNvCxnSpPr/>
          <p:nvPr/>
        </p:nvCxnSpPr>
        <p:spPr>
          <a:xfrm flipV="1">
            <a:off x="3352320" y="4272840"/>
            <a:ext cx="567720" cy="972360"/>
          </a:xfrm>
          <a:prstGeom prst="straightConnector1">
            <a:avLst/>
          </a:prstGeom>
          <a:ln w="12600">
            <a:solidFill>
              <a:srgbClr val="ff5050"/>
            </a:solidFill>
            <a:miter/>
            <a:tailEnd len="med" type="triangle" w="med"/>
          </a:ln>
        </p:spPr>
      </p:cxnSp>
      <p:sp>
        <p:nvSpPr>
          <p:cNvPr id="450" name="Rectangle 3"/>
          <p:cNvSpPr/>
          <p:nvPr/>
        </p:nvSpPr>
        <p:spPr>
          <a:xfrm>
            <a:off x="3919680" y="4867200"/>
            <a:ext cx="464976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s a numeric string into an int value and the parseDouble method in the Double class parses a numeric string into a double valu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Straight Arrow Connector 13"/>
          <p:cNvCxnSpPr/>
          <p:nvPr/>
        </p:nvCxnSpPr>
        <p:spPr>
          <a:xfrm flipV="1">
            <a:off x="3162240" y="5560200"/>
            <a:ext cx="559080" cy="18360"/>
          </a:xfrm>
          <a:prstGeom prst="straightConnector1">
            <a:avLst/>
          </a:prstGeom>
          <a:ln w="12600">
            <a:solidFill>
              <a:srgbClr val="ff505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33E2CBDE-6655-4FF5-93D2-2FB518ACE868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577800" y="274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apper classes contain methods that help manage the associated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8"/>
          <p:cNvGrpSpPr/>
          <p:nvPr/>
        </p:nvGrpSpPr>
        <p:grpSpPr>
          <a:xfrm>
            <a:off x="685800" y="4167360"/>
            <a:ext cx="9144000" cy="1942560"/>
            <a:chOff x="685800" y="4167360"/>
            <a:chExt cx="9144000" cy="1942560"/>
          </a:xfrm>
        </p:grpSpPr>
        <p:sp>
          <p:nvSpPr>
            <p:cNvPr id="455" name="Text Box 4"/>
            <p:cNvSpPr/>
            <p:nvPr/>
          </p:nvSpPr>
          <p:spPr>
            <a:xfrm>
              <a:off x="685800" y="4167360"/>
              <a:ext cx="9144000" cy="19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69696"/>
                  </a:solidFill>
                  <a:latin typeface="Times New Roman"/>
                </a:rPr>
                <a:t>static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String toBinaryString ( </a:t>
              </a:r>
              <a:r>
                <a:rPr b="1" lang="en-US" sz="1600" spc="-1" strike="noStrike">
                  <a:solidFill>
                    <a:srgbClr val="969696"/>
                  </a:solidFill>
                  <a:latin typeface="Times New Roman"/>
                </a:rPr>
                <a:t>int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num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69696"/>
                  </a:solidFill>
                  <a:latin typeface="Times New Roman"/>
                </a:rPr>
                <a:t>stati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tring tohexString ( </a:t>
              </a:r>
              <a:r>
                <a:rPr b="1" lang="en-US" sz="1600" spc="-1" strike="noStrike">
                  <a:solidFill>
                    <a:srgbClr val="969696"/>
                  </a:solidFill>
                  <a:latin typeface="Times New Roman"/>
                </a:rPr>
                <a:t>int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num);                      </a:t>
              </a:r>
              <a:r>
                <a:rPr b="1" lang="en-US" sz="1600" spc="-1" strike="noStrike">
                  <a:solidFill>
                    <a:srgbClr val="ff4c00"/>
                  </a:solidFill>
                  <a:latin typeface="Times New Roman"/>
                </a:rPr>
                <a:t>Return a string representa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69696"/>
                  </a:solidFill>
                  <a:latin typeface="Times New Roman"/>
                </a:rPr>
                <a:t>stati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tring toOctalString ( </a:t>
              </a:r>
              <a:r>
                <a:rPr b="1" lang="en-US" sz="1600" spc="-1" strike="noStrike">
                  <a:solidFill>
                    <a:srgbClr val="969696"/>
                  </a:solidFill>
                  <a:latin typeface="Times New Roman"/>
                </a:rPr>
                <a:t>int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num)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969696"/>
                  </a:solidFill>
                  <a:latin typeface="Times New Roman"/>
                </a:rPr>
                <a:t>EX : System.out.print (Integer.toBinaryString(6));    110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AutoShape 5"/>
            <p:cNvSpPr/>
            <p:nvPr/>
          </p:nvSpPr>
          <p:spPr>
            <a:xfrm>
              <a:off x="4602240" y="4340160"/>
              <a:ext cx="304560" cy="129564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57" name="Picture 2" descr="Image result for think"/>
          <p:cNvPicPr/>
          <p:nvPr/>
        </p:nvPicPr>
        <p:blipFill>
          <a:blip r:embed="rId1"/>
          <a:stretch/>
        </p:blipFill>
        <p:spPr>
          <a:xfrm>
            <a:off x="-19080" y="7920"/>
            <a:ext cx="3371760" cy="1352520"/>
          </a:xfrm>
          <a:prstGeom prst="rect">
            <a:avLst/>
          </a:prstGeom>
          <a:ln w="0">
            <a:noFill/>
          </a:ln>
        </p:spPr>
      </p:pic>
      <p:sp>
        <p:nvSpPr>
          <p:cNvPr id="458" name="TextBox 2"/>
          <p:cNvSpPr/>
          <p:nvPr/>
        </p:nvSpPr>
        <p:spPr>
          <a:xfrm>
            <a:off x="685800" y="1798560"/>
            <a:ext cx="829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s there a way to covert a number to binary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Slide Number Placeholder 2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DFFE-FFAE-4C9D-BFBF-F5E5928427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4DE0-C30C-4B6B-970F-9D53E2C9B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gInteger and Big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98160" y="2046240"/>
            <a:ext cx="8458200" cy="107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need to compute with very large integers or high precision floating-point value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1"/>
          <p:cNvSpPr/>
          <p:nvPr/>
        </p:nvSpPr>
        <p:spPr>
          <a:xfrm>
            <a:off x="1422360" y="3619440"/>
            <a:ext cx="618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BigIntege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BigDecimal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classes in 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java.math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packag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1019520" y="5316480"/>
            <a:ext cx="27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mu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5" name="Straight Arrow Connector 4"/>
          <p:cNvCxnSpPr/>
          <p:nvPr/>
        </p:nvCxnSpPr>
        <p:spPr>
          <a:xfrm>
            <a:off x="4379400" y="3121200"/>
            <a:ext cx="1080" cy="576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7CD1-C49A-4F29-A2E0-32F9A4DCD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lass is Immutab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304920" y="1739880"/>
            <a:ext cx="85341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For a class to be immutable, it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mu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Mark all data fields privat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Provide no mutator method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o accessor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method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that would return a reference to a mutable data fiel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object.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12FA-7D6C-4C1C-88D6-13A6CDEB4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358920" y="663480"/>
            <a:ext cx="8785080" cy="52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44D1-B59F-4F27-9E3B-BC7727468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Abstraction and Encaps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10680" y="1931760"/>
            <a:ext cx="853452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abstraction means to separate class implementation from the use of the clas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ser of the class does not need to know how the class is implemen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tail of implementation is encapsulated and hidden from the user.  Class implementation is like a black box hidden from the us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9144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0297-8135-424E-A6A9-A9AD55CF7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Abstraction and Encaps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17160" y="1969560"/>
            <a:ext cx="853452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etter and Setter or other methods are the class contract. Signatures of public metho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s use the class through the contract of the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19144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35AF-02CF-4BA9-9591-A00C481D8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828800" y="2570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ing the Loa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3371760" y="237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4648320" y="5943600"/>
            <a:ext cx="2133360" cy="533520"/>
          </a:xfrm>
          <a:custGeom>
            <a:avLst/>
            <a:gdLst>
              <a:gd name="textAreaLeft" fmla="*/ 34560 w 2133360"/>
              <a:gd name="textAreaRight" fmla="*/ 2098800 w 21333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86327" h="21600">
                <a:moveTo>
                  <a:pt x="0" y="0"/>
                </a:moveTo>
                <a:lnTo>
                  <a:pt x="86327" y="0"/>
                </a:lnTo>
                <a:lnTo>
                  <a:pt x="86327" y="21600"/>
                </a:lnTo>
                <a:lnTo>
                  <a:pt x="0" y="21600"/>
                </a:lnTo>
                <a:close/>
              </a:path>
              <a:path fill="lightenLess" w="86327" h="21600">
                <a:moveTo>
                  <a:pt x="0" y="0"/>
                </a:moveTo>
                <a:lnTo>
                  <a:pt x="86327" y="0"/>
                </a:lnTo>
                <a:lnTo>
                  <a:pt x="84927" y="1400"/>
                </a:lnTo>
                <a:lnTo>
                  <a:pt x="1400" y="1400"/>
                </a:lnTo>
                <a:close/>
              </a:path>
              <a:path fill="darken" w="86327" h="21600">
                <a:moveTo>
                  <a:pt x="86327" y="0"/>
                </a:moveTo>
                <a:lnTo>
                  <a:pt x="86327" y="21600"/>
                </a:lnTo>
                <a:lnTo>
                  <a:pt x="84927" y="20200"/>
                </a:lnTo>
                <a:lnTo>
                  <a:pt x="84927" y="1400"/>
                </a:lnTo>
                <a:close/>
              </a:path>
              <a:path fill="darkenLess" w="86327" h="21600">
                <a:moveTo>
                  <a:pt x="863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27" y="20200"/>
                </a:lnTo>
                <a:close/>
              </a:path>
              <a:path fill="lighten" w="863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Book Antiqua"/>
              </a:rPr>
              <a:t>TestLoan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5">
            <a:hlinkClick r:id="rId1"/>
          </p:cNvPr>
          <p:cNvSpPr/>
          <p:nvPr/>
        </p:nvSpPr>
        <p:spPr>
          <a:xfrm>
            <a:off x="7010280" y="5943600"/>
            <a:ext cx="1524240" cy="533520"/>
          </a:xfrm>
          <a:custGeom>
            <a:avLst/>
            <a:gdLst>
              <a:gd name="textAreaLeft" fmla="*/ 34560 w 1524240"/>
              <a:gd name="textAreaRight" fmla="*/ 1489680 w 15242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83" h="21600">
                <a:moveTo>
                  <a:pt x="0" y="0"/>
                </a:moveTo>
                <a:lnTo>
                  <a:pt x="61683" y="0"/>
                </a:lnTo>
                <a:lnTo>
                  <a:pt x="61683" y="21600"/>
                </a:lnTo>
                <a:lnTo>
                  <a:pt x="0" y="21600"/>
                </a:lnTo>
                <a:close/>
              </a:path>
              <a:path fill="lightenLess" w="61683" h="21600">
                <a:moveTo>
                  <a:pt x="0" y="0"/>
                </a:moveTo>
                <a:lnTo>
                  <a:pt x="61683" y="0"/>
                </a:lnTo>
                <a:lnTo>
                  <a:pt x="60283" y="1400"/>
                </a:lnTo>
                <a:lnTo>
                  <a:pt x="1400" y="1400"/>
                </a:lnTo>
                <a:close/>
              </a:path>
              <a:path fill="darken" w="61683" h="21600">
                <a:moveTo>
                  <a:pt x="61683" y="0"/>
                </a:moveTo>
                <a:lnTo>
                  <a:pt x="61683" y="21600"/>
                </a:lnTo>
                <a:lnTo>
                  <a:pt x="60283" y="20200"/>
                </a:lnTo>
                <a:lnTo>
                  <a:pt x="60283" y="1400"/>
                </a:lnTo>
                <a:close/>
              </a:path>
              <a:path fill="darkenLess" w="61683" h="21600">
                <a:moveTo>
                  <a:pt x="61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83" y="20200"/>
                </a:lnTo>
                <a:close/>
              </a:path>
              <a:path fill="lighten" w="61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a1ba"/>
          </a:solidFill>
          <a:ln w="0">
            <a:noFill/>
          </a:ln>
          <a:effectLst>
            <a:outerShdw dist="17819" dir="2700000" blurRad="0" rotWithShape="0">
              <a:srgbClr val="2261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6"/>
          <p:cNvSpPr/>
          <p:nvPr/>
        </p:nvSpPr>
        <p:spPr>
          <a:xfrm>
            <a:off x="2651040" y="592596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Book Antiqua"/>
              </a:rPr>
              <a:t>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056040" y="237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0" y="180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0" y="18064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2557440" y="17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2"/>
          <p:cNvSpPr/>
          <p:nvPr/>
        </p:nvSpPr>
        <p:spPr>
          <a:xfrm>
            <a:off x="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13"/>
          <p:cNvGraphicFramePr/>
          <p:nvPr/>
        </p:nvGraphicFramePr>
        <p:xfrm>
          <a:off x="2206800" y="1631880"/>
          <a:ext cx="5348160" cy="485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6800" y="1631880"/>
                    <a:ext cx="5348160" cy="48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Rectangle 14"/>
          <p:cNvSpPr/>
          <p:nvPr/>
        </p:nvSpPr>
        <p:spPr>
          <a:xfrm>
            <a:off x="1800" y="4998240"/>
            <a:ext cx="24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15"/>
          <p:cNvSpPr/>
          <p:nvPr/>
        </p:nvSpPr>
        <p:spPr>
          <a:xfrm>
            <a:off x="4071960" y="5886360"/>
            <a:ext cx="468360" cy="576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76360"/>
              <a:gd name="textAreaBottom" fmla="*/ 546120 h 576360"/>
            </a:gdLst>
            <a:ahLst/>
            <a:rect l="textAreaLeft" t="textAreaTop" r="textAreaRight" b="textAreaBottom"/>
            <a:pathLst>
              <a:path w="21600" h="26577">
                <a:moveTo>
                  <a:pt x="0" y="0"/>
                </a:moveTo>
                <a:lnTo>
                  <a:pt x="21600" y="0"/>
                </a:lnTo>
                <a:lnTo>
                  <a:pt x="21600" y="26577"/>
                </a:lnTo>
                <a:lnTo>
                  <a:pt x="0" y="26577"/>
                </a:lnTo>
                <a:close/>
              </a:path>
              <a:path fill="lightenLess" w="21600" h="265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77">
                <a:moveTo>
                  <a:pt x="21600" y="0"/>
                </a:moveTo>
                <a:lnTo>
                  <a:pt x="21600" y="26577"/>
                </a:lnTo>
                <a:lnTo>
                  <a:pt x="20200" y="25177"/>
                </a:lnTo>
                <a:lnTo>
                  <a:pt x="20200" y="1400"/>
                </a:lnTo>
                <a:close/>
              </a:path>
              <a:path fill="darkenLess" w="21600" h="26577">
                <a:moveTo>
                  <a:pt x="21600" y="26577"/>
                </a:moveTo>
                <a:lnTo>
                  <a:pt x="0" y="26577"/>
                </a:lnTo>
                <a:lnTo>
                  <a:pt x="1400" y="25177"/>
                </a:lnTo>
                <a:lnTo>
                  <a:pt x="20200" y="25177"/>
                </a:lnTo>
                <a:close/>
              </a:path>
              <a:path fill="lighten" w="21600" h="26577">
                <a:moveTo>
                  <a:pt x="0" y="265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77"/>
                </a:lnTo>
                <a:close/>
              </a:path>
              <a:path fill="darkenLess" w="21600" h="26577">
                <a:moveTo>
                  <a:pt x="5273" y="6473"/>
                </a:moveTo>
                <a:lnTo>
                  <a:pt x="12271" y="6473"/>
                </a:lnTo>
                <a:lnTo>
                  <a:pt x="16327" y="9972"/>
                </a:lnTo>
                <a:lnTo>
                  <a:pt x="16327" y="20103"/>
                </a:lnTo>
                <a:lnTo>
                  <a:pt x="5273" y="20103"/>
                </a:lnTo>
                <a:close/>
              </a:path>
              <a:path fill="darken" w="21600" h="26577">
                <a:moveTo>
                  <a:pt x="12271" y="6473"/>
                </a:moveTo>
                <a:lnTo>
                  <a:pt x="16327" y="9972"/>
                </a:lnTo>
                <a:lnTo>
                  <a:pt x="12271" y="9972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16"/>
          <p:cNvSpPr/>
          <p:nvPr/>
        </p:nvSpPr>
        <p:spPr>
          <a:xfrm>
            <a:off x="2027160" y="5908680"/>
            <a:ext cx="468360" cy="576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76360"/>
              <a:gd name="textAreaBottom" fmla="*/ 546120 h 576360"/>
            </a:gdLst>
            <a:ahLst/>
            <a:rect l="textAreaLeft" t="textAreaTop" r="textAreaRight" b="textAreaBottom"/>
            <a:pathLst>
              <a:path w="21600" h="26577">
                <a:moveTo>
                  <a:pt x="0" y="0"/>
                </a:moveTo>
                <a:lnTo>
                  <a:pt x="21600" y="0"/>
                </a:lnTo>
                <a:lnTo>
                  <a:pt x="21600" y="26577"/>
                </a:lnTo>
                <a:lnTo>
                  <a:pt x="0" y="26577"/>
                </a:lnTo>
                <a:close/>
              </a:path>
              <a:path fill="lightenLess" w="21600" h="265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77">
                <a:moveTo>
                  <a:pt x="21600" y="0"/>
                </a:moveTo>
                <a:lnTo>
                  <a:pt x="21600" y="26577"/>
                </a:lnTo>
                <a:lnTo>
                  <a:pt x="20200" y="25177"/>
                </a:lnTo>
                <a:lnTo>
                  <a:pt x="20200" y="1400"/>
                </a:lnTo>
                <a:close/>
              </a:path>
              <a:path fill="darkenLess" w="21600" h="26577">
                <a:moveTo>
                  <a:pt x="21600" y="26577"/>
                </a:moveTo>
                <a:lnTo>
                  <a:pt x="0" y="26577"/>
                </a:lnTo>
                <a:lnTo>
                  <a:pt x="1400" y="25177"/>
                </a:lnTo>
                <a:lnTo>
                  <a:pt x="20200" y="25177"/>
                </a:lnTo>
                <a:close/>
              </a:path>
              <a:path fill="lighten" w="21600" h="26577">
                <a:moveTo>
                  <a:pt x="0" y="265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77"/>
                </a:lnTo>
                <a:close/>
              </a:path>
              <a:path fill="darkenLess" w="21600" h="26577">
                <a:moveTo>
                  <a:pt x="5273" y="6473"/>
                </a:moveTo>
                <a:lnTo>
                  <a:pt x="12271" y="6473"/>
                </a:lnTo>
                <a:lnTo>
                  <a:pt x="16327" y="9972"/>
                </a:lnTo>
                <a:lnTo>
                  <a:pt x="16327" y="20103"/>
                </a:lnTo>
                <a:lnTo>
                  <a:pt x="5273" y="20103"/>
                </a:lnTo>
                <a:close/>
              </a:path>
              <a:path fill="darken" w="21600" h="26577">
                <a:moveTo>
                  <a:pt x="12271" y="6473"/>
                </a:moveTo>
                <a:lnTo>
                  <a:pt x="16327" y="9972"/>
                </a:lnTo>
                <a:lnTo>
                  <a:pt x="12271" y="9972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Box 1"/>
          <p:cNvSpPr/>
          <p:nvPr/>
        </p:nvSpPr>
        <p:spPr>
          <a:xfrm>
            <a:off x="2725560" y="1100160"/>
            <a:ext cx="743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6 Groups, Each group will perform a 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Box 2"/>
          <p:cNvSpPr/>
          <p:nvPr/>
        </p:nvSpPr>
        <p:spPr>
          <a:xfrm>
            <a:off x="5532480" y="1990800"/>
            <a:ext cx="292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2" descr="Image result for task"/>
          <p:cNvPicPr/>
          <p:nvPr/>
        </p:nvPicPr>
        <p:blipFill>
          <a:blip r:embed="rId4"/>
          <a:stretch/>
        </p:blipFill>
        <p:spPr>
          <a:xfrm>
            <a:off x="155520" y="4680"/>
            <a:ext cx="25621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0T17:31:50Z</dcterms:created>
  <dc:creator>Y. Daniel Liang</dc:creator>
  <dc:description/>
  <dc:language>en-US</dc:language>
  <cp:lastModifiedBy>AREEJ MAATOG SALEEM ALHOTHALI</cp:lastModifiedBy>
  <dcterms:modified xsi:type="dcterms:W3CDTF">2019-08-31T05:08:51Z</dcterms:modified>
  <cp:revision>327</cp:revision>
  <dc:subject/>
  <dc:title>Chapter 6 Objects and Classes</dc:title>
</cp:coreProperties>
</file>