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tif" ContentType="image/tiff"/>
  <Override PartName="/ppt/media/image3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0E07F-4BBF-4072-A903-DAB822037E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77027-F9B6-4B6F-A1CE-16780835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DB6B6-8FF9-4099-9A16-3ADF7A55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BBA65-F0A6-4592-ACFA-CD3063E4E3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52F9C-F95A-435A-BA68-0AB1D43B95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B4765-1E18-43AC-A720-80F78F20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A442F-5EC8-466F-89A0-B0547281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DE31C-9F70-4770-9BF6-8BA66CDD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E8F36-9A86-43CC-BF76-BAFD45B7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20E32-BC92-4192-A932-FAB6703D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1CD0A-3033-45AB-B660-34A3D824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D6778-40D0-46D2-9BA5-0688DF3F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05056-5DEA-4FE1-8C70-F3673CBD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55760-73BD-4936-BD5F-3378640D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1C5E3-836A-4B44-9CA3-03F31369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0BE57-1963-48FB-98EB-31A8768F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2091D-ED2C-479D-8D58-77AF7E9E17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DD899-6886-48F8-A77E-82556E24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2936D-C171-4E4C-A3C9-1CF2943F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DD480-0B64-4BE7-82D9-1CD42837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48D6F-6AFE-4CA1-AD98-5BF382CA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47E9B-9F3C-4B57-A230-74D3BFE2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F8244-5BDB-479D-9893-D79A861C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ED485-0E73-4F94-9645-E08A85F8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37AB-B2FF-4A91-AD87-7FCA13A0E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6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Tenth Edition, (c) 2015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f5f5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Rectangle 37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Tenth Edition, (c) 2015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D1D6-45EA-435F-BFF6-81A5776C7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t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t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t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ml/PalindromeIgnoreNonAlphanumeric.bat" TargetMode="External"/><Relationship Id="rId2" Type="http://schemas.openxmlformats.org/officeDocument/2006/relationships/hyperlink" Target="http://www.cs.armstrong.edu/liang/intro10e/html/PalindromeIgnoreNonAlphanumeric.html" TargetMode="Externa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4F1F-D785-4B44-A8B2-13E7FEF20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1880" y="2612880"/>
            <a:ext cx="7880400" cy="6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pter 9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tr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209088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209088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209088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472B-B052-4E8B-95FC-F59F486AC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C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3432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Object 7"/>
          <p:cNvGraphicFramePr/>
          <p:nvPr/>
        </p:nvGraphicFramePr>
        <p:xfrm>
          <a:off x="160200" y="990720"/>
          <a:ext cx="8823600" cy="24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990720"/>
                    <a:ext cx="882360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8"/>
          <p:cNvSpPr/>
          <p:nvPr/>
        </p:nvSpPr>
        <p:spPr>
          <a:xfrm>
            <a:off x="228600" y="1447920"/>
            <a:ext cx="5105520" cy="2952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5867280" y="2438280"/>
            <a:ext cx="2895840" cy="9144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7653-3587-4915-BE97-7A0FBBFCB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C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23432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Object 7"/>
          <p:cNvGraphicFramePr/>
          <p:nvPr/>
        </p:nvGraphicFramePr>
        <p:xfrm>
          <a:off x="160200" y="990720"/>
          <a:ext cx="8823600" cy="24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990720"/>
                    <a:ext cx="882360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8"/>
          <p:cNvSpPr/>
          <p:nvPr/>
        </p:nvSpPr>
        <p:spPr>
          <a:xfrm>
            <a:off x="152280" y="1828800"/>
            <a:ext cx="5105520" cy="2952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5791320" y="1219320"/>
            <a:ext cx="838080" cy="2952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2DD0-D440-434C-8C6A-BF832869C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280" y="3886200"/>
            <a:ext cx="28195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 == s is false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 == s3 is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23432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3048120" y="3809880"/>
            <a:ext cx="58672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 new object is created if you use the new operat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f you use the string initializer, no new object is created if the interned object is already cre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7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Object 18"/>
          <p:cNvGraphicFramePr/>
          <p:nvPr/>
        </p:nvGraphicFramePr>
        <p:xfrm>
          <a:off x="152280" y="1066680"/>
          <a:ext cx="8763120" cy="23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76312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1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57CF-7710-475C-8A1F-473E068C93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92240" y="279360"/>
            <a:ext cx="9794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ring s1=“te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ring s2= new String(s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2==s1                                          =&gt;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/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  <a:ea typeface="ＭＳ Ｐゴシック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w String("test").equals("test”) =&gt;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/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  <a:ea typeface="ＭＳ Ｐゴシック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w String("test") == "test”         =&gt;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/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  <a:ea typeface="ＭＳ Ｐゴシック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w String("test") == new String("test") =&gt;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/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  <a:ea typeface="ＭＳ Ｐゴシック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"test" == "test"  =&gt;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/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  <a:ea typeface="ＭＳ Ｐゴシック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"test" == “Test" =&gt;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/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  <a:ea typeface="ＭＳ Ｐゴシック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"test" == "te" + "st” =&gt;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/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  <a:ea typeface="ＭＳ Ｐゴシック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itle 1"/>
          <p:cNvSpPr/>
          <p:nvPr/>
        </p:nvSpPr>
        <p:spPr>
          <a:xfrm>
            <a:off x="4762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Your Knowled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12" descr=""/>
          <p:cNvPicPr/>
          <p:nvPr/>
        </p:nvPicPr>
        <p:blipFill>
          <a:blip r:embed="rId1"/>
          <a:stretch/>
        </p:blipFill>
        <p:spPr>
          <a:xfrm>
            <a:off x="6769080" y="263520"/>
            <a:ext cx="22734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37BE-8F2C-401A-BBD2-AB7658422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lacing and Splitting String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Object 5"/>
          <p:cNvGraphicFramePr/>
          <p:nvPr/>
        </p:nvGraphicFramePr>
        <p:xfrm>
          <a:off x="1735200" y="1893960"/>
          <a:ext cx="574992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1893960"/>
                    <a:ext cx="574992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5"/>
          <p:cNvGraphicFramePr/>
          <p:nvPr/>
        </p:nvGraphicFramePr>
        <p:xfrm>
          <a:off x="162000" y="3581280"/>
          <a:ext cx="8756640" cy="294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2000" y="3581280"/>
                    <a:ext cx="8756640" cy="29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67D9-8AD5-4CCD-8D9F-70B94B8054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"Welcome".replaceFirst("e", "AB") returns 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WABlc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"Welcome".replace("e", "AB") returns 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WABlcomA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"Welcome".replace("el", "AB") returns 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WABc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"Welcome".replaceAll(”e", "AB") returns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WABlc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"/>
          <p:cNvSpPr/>
          <p:nvPr/>
        </p:nvSpPr>
        <p:spPr>
          <a:xfrm>
            <a:off x="7183440" y="914400"/>
            <a:ext cx="165096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228600" y="2981160"/>
            <a:ext cx="211932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228600" y="3840120"/>
            <a:ext cx="196200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0373-80EA-4625-A1DC-BEA02444F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itting a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[] tokens = "Java#HTML#Perl".split("#", 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i = 0; i &lt; tokens.length; i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(tokens[i] + " 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228600" y="3581280"/>
            <a:ext cx="8763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HTML 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228600" y="28195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"/>
          <p:cNvSpPr/>
          <p:nvPr/>
        </p:nvSpPr>
        <p:spPr>
          <a:xfrm>
            <a:off x="0" y="3429000"/>
            <a:ext cx="345744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80880" y="37339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HTML 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202C-C929-4C6E-8D00-E990BD5E3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ing, Replacing and Splitting by Patter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14200" y="17395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ca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tch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, o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li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string by specifying a pattern. This is an extremely useful and powerful feature, commonly known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egular express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Regular expression is complex to beginning student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FE5B-8A64-4280-9ED5-016B30C04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gular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28576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271476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gular expres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abbreviat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string that describes a pattern for matching a set of strings. Regular expression is a powerful tool for string manipulations. You can use regular expressions for matching, replacing, and splitting string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152280" y="152280"/>
            <a:ext cx="137160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endix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6473-A3DA-4709-B48B-9B1DBCE16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1920" y="1002960"/>
            <a:ext cx="2916360" cy="197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gular Expression Synta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28576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0" y="10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152280" y="152280"/>
            <a:ext cx="137160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endix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10" descr=""/>
          <p:cNvPicPr/>
          <p:nvPr/>
        </p:nvPicPr>
        <p:blipFill>
          <a:blip r:embed="rId1"/>
          <a:stretch/>
        </p:blipFill>
        <p:spPr>
          <a:xfrm>
            <a:off x="3475080" y="0"/>
            <a:ext cx="526104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D51C-5123-41C2-B316-CA377C596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5000" y="1108080"/>
            <a:ext cx="8874000" cy="57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structing a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taining String length and Retrieving Individual Character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catenation - Substrings - Comparis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ng Convers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nding a Character or a Substring in a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versions between Strings and Array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verting Characters and Numeric Values to Strin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use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to process immutable strings (§9.1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use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ingBuil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ingBuff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es to process mutable strings (§9.1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55D5-3677-4C9A-B724-87987F641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ching Str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28576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69640" y="26474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Java".matches("Java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Java".equals("Java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270000" y="4133880"/>
            <a:ext cx="69339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Java is fun".matches("Java.*"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Java is cool".matches("Java.*"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Java is powerful".matches("Java.*"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152280" y="152280"/>
            <a:ext cx="137160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endix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Object 8"/>
          <p:cNvGraphicFramePr/>
          <p:nvPr/>
        </p:nvGraphicFramePr>
        <p:xfrm>
          <a:off x="152280" y="1122480"/>
          <a:ext cx="8928360" cy="31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22480"/>
                    <a:ext cx="8928360" cy="31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67EB-56B3-4341-958F-9E9A76BDB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lacing and Splitting Str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28576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" name="Object 8"/>
          <p:cNvGraphicFramePr/>
          <p:nvPr/>
        </p:nvGraphicFramePr>
        <p:xfrm>
          <a:off x="-6480" y="1292400"/>
          <a:ext cx="8928360" cy="31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1292400"/>
                    <a:ext cx="8928360" cy="31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Rectangle 10"/>
          <p:cNvSpPr/>
          <p:nvPr/>
        </p:nvSpPr>
        <p:spPr>
          <a:xfrm>
            <a:off x="152280" y="152280"/>
            <a:ext cx="137160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endix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Object 8"/>
          <p:cNvGraphicFramePr/>
          <p:nvPr/>
        </p:nvGraphicFramePr>
        <p:xfrm>
          <a:off x="260280" y="3149640"/>
          <a:ext cx="8928000" cy="317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0280" y="3149640"/>
                    <a:ext cx="892800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07D3-E5DA-4138-BF02-5E2B00B84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s = "Java Java Java".replaceAll("v\\w", "wi")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380880" y="19810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s = "Java Java Java".replaceFirst("v\\w", "wi")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304920" y="31240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[] s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"Java1HTML2Perl".split("\\d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152280" y="152280"/>
            <a:ext cx="137160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endix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E5C9-41B5-414B-99EB-B6D8B619F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ing, Replacing and Splitting by Patter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replaceAll, replaceFirst, and split methods can be used with a regular expression. For example, the following statement returns a new string that replaces $, +, or # in "a+b$#c" by the string NN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693720" y="3121200"/>
            <a:ext cx="86868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String s = "a+b$#c".replaceAll("[$+#]", "NNN"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System.out.println(s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Here the regular expression [$+#] specifies a pattern that matches $, +, or #. So, the output is aNNNbNNNNNNc.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FC10-5BB6-4A68-B68C-B79A2AC7D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ing, Replacing and Splitting by Patter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following statement splits the string into an array of strings delimited by some punctuation mark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String[] tokens = "Java,C?C#,C++".split("[.,:;?]"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for (int i = 0; i &lt; tokens.length; i++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System.out.println(tokens[i]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689040" y="1050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output each of the following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31520" y="1931760"/>
            <a:ext cx="7373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as".matches(".s"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mk".matches(".s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mst".matches(".s"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amms".matches(".s"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mas".matches("..s"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abc".matches("\\d"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1".matches("\\d"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4443".matches("\\d"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323abc".matches("\\d"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abc".matches("\\D"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1".matches("\\D"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4443abc".matches("\\D"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mak123".matches("\\D*\\d*"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1F08-151C-44A9-AD99-1AA9FD371036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itle 1"/>
          <p:cNvSpPr/>
          <p:nvPr/>
        </p:nvSpPr>
        <p:spPr>
          <a:xfrm>
            <a:off x="4762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Your Knowled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12" descr=""/>
          <p:cNvPicPr/>
          <p:nvPr/>
        </p:nvPicPr>
        <p:blipFill>
          <a:blip r:embed="rId1"/>
          <a:stretch/>
        </p:blipFill>
        <p:spPr>
          <a:xfrm>
            <a:off x="6769080" y="263520"/>
            <a:ext cx="22734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5C57-BAAB-413E-9911-B6FDE835E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 Character and Numbers to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ing class provides several static valueOf methods for converting a character, an array of characters, and numeric values to string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methods have the same nam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different argument types char, char[], double, long, int, and floa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.valueOf(5.44).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‘5’, ‘.’, ‘4’, and ‘4’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DF34-04A0-4492-A67C-B09B5F9FD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StringBuff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StringBuff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is an alternative to the 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. In general, a StringBuilder/StringBuffer can be used wherever a string is used. StringBuilder/StringBuffer is more flexible than String. You can add, insert, or append new contents into a string buffer, whereas the value of a String object is fixed once the string is creat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0DE8-68E9-42D4-8BE0-A0B7A477F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onstr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152280" y="49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5"/>
          <p:cNvGraphicFramePr/>
          <p:nvPr/>
        </p:nvGraphicFramePr>
        <p:xfrm>
          <a:off x="380880" y="3352680"/>
          <a:ext cx="8763120" cy="21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352680"/>
                    <a:ext cx="876312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3"/>
          <p:cNvSpPr/>
          <p:nvPr/>
        </p:nvSpPr>
        <p:spPr>
          <a:xfrm>
            <a:off x="838080" y="1747800"/>
            <a:ext cx="777240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Builder x= new StringBuilder 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Builder x= new StringBuilder (1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Builder x= new StringBuilder (“CPCS203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D2D9-60C8-4294-9CE8-58B75FDF8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ying Strings in the Buil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0" y="12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Object 5"/>
          <p:cNvGraphicFramePr/>
          <p:nvPr/>
        </p:nvGraphicFramePr>
        <p:xfrm>
          <a:off x="0" y="1495440"/>
          <a:ext cx="9277200" cy="22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95440"/>
                    <a:ext cx="927720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1"/>
          <p:cNvSpPr/>
          <p:nvPr/>
        </p:nvSpPr>
        <p:spPr>
          <a:xfrm>
            <a:off x="222120" y="4273560"/>
            <a:ext cx="737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Builder x= new StringBuilder ("arwa linjawi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x.append("abdulaziz",2,7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2559960" y="556884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wa linjawidul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DC89-51D7-4826-BDB7-FBB05C78E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9321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structing a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message = "Welcome to Java“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message = new String("Welcome to Java“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 = new String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1FFD-47F7-4CB6-AB1F-80F025329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ying Strings in the Buil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Object 5"/>
          <p:cNvGraphicFramePr/>
          <p:nvPr/>
        </p:nvGraphicFramePr>
        <p:xfrm>
          <a:off x="-9360" y="1728720"/>
          <a:ext cx="9131040" cy="23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728720"/>
                    <a:ext cx="9131040" cy="23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Rectangle 5"/>
          <p:cNvSpPr/>
          <p:nvPr/>
        </p:nvSpPr>
        <p:spPr>
          <a:xfrm>
            <a:off x="2559960" y="556884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wa dulazlinjaw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501480" y="4351320"/>
            <a:ext cx="737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Builder x= new StringBuilder ("arwa linjawi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x.insert(5,"abdulaziz",2,7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5313-93E9-4A91-86C3-E182AD29A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ying Strings in the Buil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Object 5"/>
          <p:cNvGraphicFramePr/>
          <p:nvPr/>
        </p:nvGraphicFramePr>
        <p:xfrm>
          <a:off x="1593720" y="1158840"/>
          <a:ext cx="5748480" cy="18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158840"/>
                    <a:ext cx="574848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5"/>
          <p:cNvGraphicFramePr/>
          <p:nvPr/>
        </p:nvGraphicFramePr>
        <p:xfrm>
          <a:off x="808200" y="2637000"/>
          <a:ext cx="8256600" cy="186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8200" y="2637000"/>
                    <a:ext cx="825660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Rectangle 1"/>
          <p:cNvSpPr/>
          <p:nvPr/>
        </p:nvSpPr>
        <p:spPr>
          <a:xfrm>
            <a:off x="453960" y="4840200"/>
            <a:ext cx="802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Builder x= new StringBuilder ("arwa linjawi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setCharAt(3,'y'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4845960" y="557856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wy linjaw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8DB4-B6CF-4FB4-A7BE-3FDBEC7DB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Builder.append("Java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Builder.insert(11, "HTML and 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Builder.delete(8, 11) changes the builder to Welcome Ja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Builder.deleteCharAt(8) changes the builder to Welcome o Ja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Builder.reverse() changes the builder to avaJ ot emocl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Builder.replace(11, 15, "HTML"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the builder to Welcome to HTM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Builder.setCharAt(0, 'w') sets the builder to welcome to Jav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6CF0-DB4B-48EB-AC7C-297E9BE11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Str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apaci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eng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etLeng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harA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Object 5"/>
          <p:cNvGraphicFramePr/>
          <p:nvPr/>
        </p:nvGraphicFramePr>
        <p:xfrm>
          <a:off x="311040" y="2133720"/>
          <a:ext cx="8672760" cy="36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2133720"/>
                    <a:ext cx="8672760" cy="36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B6C7-0739-4971-8F3A-F3C1E1AF3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433440"/>
            <a:ext cx="8758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Builder x= new StringBuilder ("arwa abdulaziz allinjawi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x.capacity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x.length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setLength(8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Builder y= new StringBuilder ("arwa allinjawi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y.length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y.capacity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.trimToSiz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y.capacity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5916600" y="3736800"/>
            <a:ext cx="176688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wa a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689040" y="1050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output of the following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731520" y="1931760"/>
            <a:ext cx="7373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Builder sb =new StringBuilde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sb.append("Welcome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sb.append(" to Java"));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sb.insert(11, "HTML and "));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sb.delete(8, 11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sb.deleteCharAt(8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sb.revers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sb.replace(11, 15, "HTML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b.setCharAt(0, 'w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s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8192-D8A5-4012-8F0F-3135508BFFD6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itle 1"/>
          <p:cNvSpPr/>
          <p:nvPr/>
        </p:nvSpPr>
        <p:spPr>
          <a:xfrm>
            <a:off x="4762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Your Knowled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Picture 12" descr=""/>
          <p:cNvPicPr/>
          <p:nvPr/>
        </p:nvPicPr>
        <p:blipFill>
          <a:blip r:embed="rId1"/>
          <a:stretch/>
        </p:blipFill>
        <p:spPr>
          <a:xfrm>
            <a:off x="6769080" y="263520"/>
            <a:ext cx="22734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51CA-3813-4001-9678-C6996AB43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ing Palindromes Ignoring Non-alphanumeric Character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240" y="2590920"/>
            <a:ext cx="8915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gives a program that counts the number of occurrence of each letter in a string. Assume the letters are not case-sensitiv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4"/>
          <p:cNvSpPr/>
          <p:nvPr/>
        </p:nvSpPr>
        <p:spPr>
          <a:xfrm>
            <a:off x="1371600" y="5029200"/>
            <a:ext cx="5562720" cy="533520"/>
          </a:xfrm>
          <a:custGeom>
            <a:avLst/>
            <a:gdLst>
              <a:gd name="textAreaLeft" fmla="*/ 34560 w 5562720"/>
              <a:gd name="textAreaRight" fmla="*/ 5528160 w 5562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25074" h="21600">
                <a:moveTo>
                  <a:pt x="0" y="0"/>
                </a:moveTo>
                <a:lnTo>
                  <a:pt x="225074" y="0"/>
                </a:lnTo>
                <a:lnTo>
                  <a:pt x="225074" y="21600"/>
                </a:lnTo>
                <a:lnTo>
                  <a:pt x="0" y="21600"/>
                </a:lnTo>
                <a:close/>
              </a:path>
              <a:path fill="lightenLess" w="225074" h="21600">
                <a:moveTo>
                  <a:pt x="0" y="0"/>
                </a:moveTo>
                <a:lnTo>
                  <a:pt x="225074" y="0"/>
                </a:lnTo>
                <a:lnTo>
                  <a:pt x="223674" y="1400"/>
                </a:lnTo>
                <a:lnTo>
                  <a:pt x="1400" y="1400"/>
                </a:lnTo>
                <a:close/>
              </a:path>
              <a:path fill="darken" w="225074" h="21600">
                <a:moveTo>
                  <a:pt x="225074" y="0"/>
                </a:moveTo>
                <a:lnTo>
                  <a:pt x="225074" y="21600"/>
                </a:lnTo>
                <a:lnTo>
                  <a:pt x="223674" y="20200"/>
                </a:lnTo>
                <a:lnTo>
                  <a:pt x="223674" y="1400"/>
                </a:lnTo>
                <a:close/>
              </a:path>
              <a:path fill="darkenLess" w="225074" h="21600">
                <a:moveTo>
                  <a:pt x="2250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74" y="20200"/>
                </a:lnTo>
                <a:close/>
              </a:path>
              <a:path fill="lighten" w="2250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  <a:ea typeface="Times New Roman"/>
              </a:rPr>
              <a:t>PalindromeIgnoreNonAlphanumeric</a:t>
            </a: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>
            <a:hlinkClick r:id="rId1"/>
          </p:cNvPr>
          <p:cNvSpPr/>
          <p:nvPr/>
        </p:nvSpPr>
        <p:spPr>
          <a:xfrm>
            <a:off x="7238880" y="49528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6">
            <a:hlinkClick r:id="rId2"/>
          </p:cNvPr>
          <p:cNvSpPr/>
          <p:nvPr/>
        </p:nvSpPr>
        <p:spPr>
          <a:xfrm>
            <a:off x="762120" y="502920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1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7788-E1FB-4104-9029-ABFD4ED75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349200" y="197640"/>
            <a:ext cx="8794800" cy="350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import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java.util.Scanner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PalindromeIgnoreNonAlphanumer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/** Main method */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main(String[] args)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// Create a Scanner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canner input = 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Scanner(System.in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// Prompt the user to enter a string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ystem.out.print(</a:t>
            </a:r>
            <a:r>
              <a:rPr b="0" lang="en-US" sz="1400" spc="-1" strike="noStrike">
                <a:solidFill>
                  <a:srgbClr val="008000"/>
                </a:solidFill>
                <a:latin typeface="Arial Unicode MS"/>
              </a:rPr>
              <a:t>"Enter a string: "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tring s = input.nextLin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// Display result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ystem.out.println(</a:t>
            </a:r>
            <a:r>
              <a:rPr b="0" lang="en-US" sz="1400" spc="-1" strike="noStrike">
                <a:solidFill>
                  <a:srgbClr val="008000"/>
                </a:solidFill>
                <a:latin typeface="Arial Unicode MS"/>
              </a:rPr>
              <a:t>"Ignoring non-alphanumeric characters, \nis "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+ s + </a:t>
            </a:r>
            <a:r>
              <a:rPr b="0" lang="en-US" sz="1400" spc="-1" strike="noStrike">
                <a:solidFill>
                  <a:srgbClr val="008000"/>
                </a:solidFill>
                <a:latin typeface="Arial Unicode MS"/>
              </a:rPr>
              <a:t>" a palindrome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Arial Unicode MS"/>
              </a:rPr>
              <a:t>"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+ isPalindrome(s)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**************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1346040" y="3774960"/>
            <a:ext cx="5975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/** Return true if a string is a palindrome */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boolean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isPalindrome(String s)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// Create a new string by eliminating non-alphanumeric chars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tring s1 = filter(s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// Create a new string that is the reversal of s1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tring s2 = reverse(s1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// Compare if the reversal is the same as the original string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s2.equals(s1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1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49FF-9181-4656-8F89-1786259BC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1"/>
          <p:cNvSpPr/>
          <p:nvPr/>
        </p:nvSpPr>
        <p:spPr>
          <a:xfrm>
            <a:off x="1230480" y="3553920"/>
            <a:ext cx="8794440" cy="201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/** Create a new string by reversing a specified string */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String reverse(String s)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tringBuilder stringBuilder = 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StringBuilder(s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tringBuilder.reverse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// Invoke reverse in StringBuilder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stringBuilder.toString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1230480" y="787320"/>
            <a:ext cx="72277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/** Create a new string by eliminating non-alphanumeric chars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String filter(String s)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// Create a string builder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tringBuilder stringBuilder = 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StringBuilder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// Examine each char in the string to skip alphanumeric ch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for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(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i = </a:t>
            </a:r>
            <a:r>
              <a:rPr b="0" lang="en-US" sz="1400" spc="-1" strike="noStrike">
                <a:solidFill>
                  <a:srgbClr val="008080"/>
                </a:solidFill>
                <a:latin typeface="Arial Unicode MS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; i &lt; s.length(); i++)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(Character.isLetterOrDigit(s.charAt(i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{ stringBuilder.append(s.charAt(i)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8b0000"/>
                </a:solidFill>
                <a:latin typeface="Arial Unicode MS"/>
              </a:rPr>
              <a:t>// Return a new filtered string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stringBuilder.toString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//*********************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52D4-D642-4810-9692-130A143A9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newString = new String(stringLiteral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essage = new String("Welcome to Java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ince strings are used frequently, Java provides a shorthand initializer for creating a str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essage = "Welcome to Java"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1437-ADEC-44A9-8645-06F5058CE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ngs Are Immu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 String object is immutable; its contents cannot be changed. Does the following code change the contents of the stri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s = "Java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"HTML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2028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028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2028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2028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2028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7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9A71-0878-4C2E-A61B-D2F4B75A9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ce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19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s = "Java"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"HTML"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2028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2028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2028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2028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028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Object 11"/>
          <p:cNvGraphicFramePr/>
          <p:nvPr/>
        </p:nvGraphicFramePr>
        <p:xfrm>
          <a:off x="152280" y="3505320"/>
          <a:ext cx="8839440" cy="23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505320"/>
                    <a:ext cx="883944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Rectangle 12"/>
          <p:cNvSpPr/>
          <p:nvPr/>
        </p:nvSpPr>
        <p:spPr>
          <a:xfrm>
            <a:off x="1066680" y="1447920"/>
            <a:ext cx="3124440" cy="4572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152280" y="3352680"/>
            <a:ext cx="3962520" cy="25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0364-0BBB-4C19-97E3-E7D916249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ce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419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s = "Java"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"HTML"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028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2028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2028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2028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028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Object 11"/>
          <p:cNvGraphicFramePr/>
          <p:nvPr/>
        </p:nvGraphicFramePr>
        <p:xfrm>
          <a:off x="152280" y="3505320"/>
          <a:ext cx="8839440" cy="23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505320"/>
                    <a:ext cx="883944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Rectangle 12"/>
          <p:cNvSpPr/>
          <p:nvPr/>
        </p:nvSpPr>
        <p:spPr>
          <a:xfrm>
            <a:off x="1371600" y="2209680"/>
            <a:ext cx="3124080" cy="38124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4114800" y="3429000"/>
            <a:ext cx="4876920" cy="25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62B0-7CD0-45FA-BDFE-073604B6C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d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strings are immutable and are frequently used, to improve efficiency and save memory, the JVM uses a unique instance for string literals with the same character sequence. Such an instance is called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intern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For example, the following statement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C8CC-DA10-41C8-A03E-C7C3C5E75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C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23432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Object 9"/>
          <p:cNvGraphicFramePr/>
          <p:nvPr/>
        </p:nvGraphicFramePr>
        <p:xfrm>
          <a:off x="152280" y="1295280"/>
          <a:ext cx="8823600" cy="24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5280"/>
                    <a:ext cx="882360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11"/>
          <p:cNvSpPr/>
          <p:nvPr/>
        </p:nvSpPr>
        <p:spPr>
          <a:xfrm>
            <a:off x="228600" y="1371600"/>
            <a:ext cx="5105520" cy="2952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5791320" y="1295280"/>
            <a:ext cx="3047760" cy="11430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Y. Daniel Liang</dc:creator>
  <dc:description/>
  <dc:language>en-US</dc:language>
  <cp:lastModifiedBy>AREEJ MAATOG SALEEM ALHOTHALI</cp:lastModifiedBy>
  <dcterms:modified xsi:type="dcterms:W3CDTF">2019-08-30T08:35:59Z</dcterms:modified>
  <cp:revision>294</cp:revision>
  <dc:subject/>
  <dc:title>Chapter 6 Objects and Classes</dc:title>
</cp:coreProperties>
</file>