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tif" ContentType="image/tiff"/>
  <Override PartName="/ppt/media/image3.png" ContentType="image/png"/>
  <Override PartName="/ppt/media/image4.png" ContentType="image/png"/>
  <Override PartName="/ppt/media/image5.tif" ContentType="image/tiff"/>
  <Override PartName="/ppt/media/image9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tif" ContentType="image/tif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D54B-5F7F-43D8-97E7-77B243A931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BF7-E01E-4955-B442-8FD83B7134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C72F-51AD-433A-B1C8-A65175A27C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D9DD-3B11-48E6-AD84-33D544AF9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5CAD-61EE-4F24-ADCA-13C7AFD2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93DC-08A8-480F-80E8-7C776552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57A9-603A-4B0F-871A-F13B834377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CBAE9-DEEB-49BB-8DE6-47F2B6E5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E5A97-DABD-42FB-A5C1-B6092A3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3C146-E30B-4F96-A049-28747CF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7BDBA-60E9-4945-8FC2-6337921F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BE90-459C-49DB-B7F6-0DCD345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6BC44-3EF9-4B1C-9F88-D9FAF3EF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B4FEE-ED3D-4EA0-A9DE-01DE44B6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BE6E-A7E4-4EA2-B2F5-EFB37B33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8BB25-C69A-489C-8858-69AFD6A8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8A12C-127E-4622-A9F3-B48F6E1A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950EA-288D-4332-B5C9-BEDBD298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60658-65FD-47AD-A3B7-FADCC4C8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44F2D-4831-4512-ACFA-C29D28C2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45B9-3566-48A8-8594-2346A412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35A7-DAE1-44E9-A3D4-3F22AD59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4EE7-D36A-47FD-B950-E581467B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766A-69BB-44CC-9B63-F417C685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1FAD-962E-4014-8A84-870C5036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1599-0CDC-4AE8-B135-9A2534E2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3CE1-C7B1-4660-856C-73A1E566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B349-CD76-48D4-AFC6-E16782ED0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7C45-CFC8-4BAD-A9A1-D9719D604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ml/TestFileClass.bat" TargetMode="External"/><Relationship Id="rId2" Type="http://schemas.openxmlformats.org/officeDocument/2006/relationships/hyperlink" Target="http://www.cs.armstrong.edu/liang/intro10e/html/TestFileClas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t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tif"/><Relationship Id="rId2" Type="http://schemas.openxmlformats.org/officeDocument/2006/relationships/image" Target="../media/image5.t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ml/ReplaceText.bat" TargetMode="External"/><Relationship Id="rId2" Type="http://schemas.openxmlformats.org/officeDocument/2006/relationships/hyperlink" Target="http://www.cs.armstrong.edu/liang/intro10e/html/ReplaceText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t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48AE-9CCE-4B27-B99F-49A0310D2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4000" y="1955520"/>
            <a:ext cx="8077320" cy="16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4 Text 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1100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 file =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c:\book\test.dat"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AbsolutePath(): St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CanonicalPath():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Name():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Path():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getParent():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D290-198F-42FD-AFC8-1A09E1C69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FEB2-B484-4EA8-8195-57101D107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Explore Fil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370480" y="586728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TestFile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>
            <a:hlinkClick r:id="rId1"/>
          </p:cNvPr>
          <p:cNvSpPr/>
          <p:nvPr/>
        </p:nvSpPr>
        <p:spPr>
          <a:xfrm>
            <a:off x="765648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21940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221940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">
            <a:hlinkClick r:id="rId2"/>
          </p:cNvPr>
          <p:cNvSpPr/>
          <p:nvPr/>
        </p:nvSpPr>
        <p:spPr>
          <a:xfrm>
            <a:off x="4761000" y="58672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3"/>
          <a:stretch/>
        </p:blipFill>
        <p:spPr>
          <a:xfrm>
            <a:off x="76320" y="1143000"/>
            <a:ext cx="6019560" cy="4191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6019920" y="1906560"/>
            <a:ext cx="38862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it exist?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le has 543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be read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be written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a directory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a file?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absolute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hidden?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 path is c:\ags10e\etext2014\firsttime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\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modified on Wed Dec 31 19:00:00 EST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Straight Arrow Connector 2"/>
          <p:cNvCxnSpPr/>
          <p:nvPr/>
        </p:nvCxnSpPr>
        <p:spPr>
          <a:xfrm>
            <a:off x="5257440" y="2057040"/>
            <a:ext cx="762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Straight Arrow Connector 12"/>
          <p:cNvCxnSpPr/>
          <p:nvPr/>
        </p:nvCxnSpPr>
        <p:spPr>
          <a:xfrm>
            <a:off x="5866920" y="2285640"/>
            <a:ext cx="229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Straight Arrow Connector 15"/>
          <p:cNvCxnSpPr/>
          <p:nvPr/>
        </p:nvCxnSpPr>
        <p:spPr>
          <a:xfrm>
            <a:off x="5334120" y="2514240"/>
            <a:ext cx="762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Straight Arrow Connector 16"/>
          <p:cNvCxnSpPr/>
          <p:nvPr/>
        </p:nvCxnSpPr>
        <p:spPr>
          <a:xfrm>
            <a:off x="5790960" y="2742840"/>
            <a:ext cx="229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Straight Arrow Connector 17"/>
          <p:cNvCxnSpPr/>
          <p:nvPr/>
        </p:nvCxnSpPr>
        <p:spPr>
          <a:xfrm>
            <a:off x="5790960" y="2971440"/>
            <a:ext cx="229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Straight Arrow Connector 18"/>
          <p:cNvCxnSpPr/>
          <p:nvPr/>
        </p:nvCxnSpPr>
        <p:spPr>
          <a:xfrm>
            <a:off x="5257440" y="3200040"/>
            <a:ext cx="762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Straight Arrow Connector 20"/>
          <p:cNvCxnSpPr/>
          <p:nvPr/>
        </p:nvCxnSpPr>
        <p:spPr>
          <a:xfrm>
            <a:off x="5638320" y="3504960"/>
            <a:ext cx="3819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Straight Arrow Connector 22"/>
          <p:cNvCxnSpPr/>
          <p:nvPr/>
        </p:nvCxnSpPr>
        <p:spPr>
          <a:xfrm>
            <a:off x="5333760" y="3733560"/>
            <a:ext cx="686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Straight Arrow Connector 24"/>
          <p:cNvCxnSpPr/>
          <p:nvPr/>
        </p:nvCxnSpPr>
        <p:spPr>
          <a:xfrm>
            <a:off x="4191120" y="4038120"/>
            <a:ext cx="1829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Straight Arrow Connector 26"/>
          <p:cNvCxnSpPr/>
          <p:nvPr/>
        </p:nvCxnSpPr>
        <p:spPr>
          <a:xfrm>
            <a:off x="4343040" y="4647960"/>
            <a:ext cx="1677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6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ABD9-461E-4BD4-8578-1235A9336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Content Placeholder 10" descr=""/>
          <p:cNvPicPr/>
          <p:nvPr/>
        </p:nvPicPr>
        <p:blipFill>
          <a:blip r:embed="rId1"/>
          <a:srcRect l="2327" t="0" r="0" b="0"/>
          <a:stretch/>
        </p:blipFill>
        <p:spPr>
          <a:xfrm>
            <a:off x="190440" y="1400040"/>
            <a:ext cx="7315200" cy="5457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6400" y="152352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 you use the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e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ass for I/O?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29AC-91A0-4A05-8139-7C7AEF2DA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" descr="Image result for think"/>
          <p:cNvPicPr/>
          <p:nvPr/>
        </p:nvPicPr>
        <p:blipFill>
          <a:blip r:embed="rId1"/>
          <a:stretch/>
        </p:blipFill>
        <p:spPr>
          <a:xfrm>
            <a:off x="81000" y="763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EFF2-0453-428C-9F26-58FEC209F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57400" y="180720"/>
            <a:ext cx="635472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 I/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encapsulates the properties of a file or a path, but does not contain the methods for reading/writing data from/to a file. In order to perform I/O, you need to create objects using appropriate Java I/O classes. The objects contain the methods for reading/writing data from/to a file. This section introduces how to read/write strings and numeric values from/to a text file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ntWri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12" descr="Image result for Pen"/>
          <p:cNvPicPr/>
          <p:nvPr/>
        </p:nvPicPr>
        <p:blipFill>
          <a:blip r:embed="rId1"/>
          <a:stretch/>
        </p:blipFill>
        <p:spPr>
          <a:xfrm>
            <a:off x="3048120" y="5207040"/>
            <a:ext cx="457200" cy="7365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8"/>
          <p:cNvSpPr/>
          <p:nvPr/>
        </p:nvSpPr>
        <p:spPr>
          <a:xfrm>
            <a:off x="777960" y="4269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2894040" y="4459320"/>
            <a:ext cx="7668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Data Using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intWri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PrintWriter(file: F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PrintWriter(filename: 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rint(s: String):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ray: char[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: int , long, float, 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: 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so contains the overloaded println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so contains the overloaded printf method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779C-89DB-4241-8BFC-FB7184F1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D179-4DF1-41A0-A799-AA5A25F54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70311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Data Using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a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Scanner(source: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Scanner(source: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clos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hasNext(): boo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():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Byte():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Short():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Int():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Long():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Float():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nextDouble():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useDelimiter(pattern: String): 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4F96-310E-4D1A-A823-BA790F4A9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Content Placeholder 4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781680" cy="535464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3C5B-3D1F-440A-92F3-48E295155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477720" y="2422440"/>
            <a:ext cx="2266920" cy="226872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C601-61CA-44BC-B826-B91B70ADA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692280" y="3181320"/>
            <a:ext cx="155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75000"/>
              <a:buFont typeface="Times New Roman"/>
              <a:buAutoNum type="arabicPlain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5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5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itle 1"/>
          <p:cNvSpPr/>
          <p:nvPr/>
        </p:nvSpPr>
        <p:spPr>
          <a:xfrm>
            <a:off x="324000" y="204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3"/>
          <p:cNvSpPr/>
          <p:nvPr/>
        </p:nvSpPr>
        <p:spPr>
          <a:xfrm>
            <a:off x="603360" y="1542960"/>
            <a:ext cx="68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xt file has the following text what is the output of the following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1014120" y="451656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3"/>
          <a:stretch/>
        </p:blipFill>
        <p:spPr>
          <a:xfrm>
            <a:off x="2743200" y="2595600"/>
            <a:ext cx="63468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B4B0-0263-4A47-84C6-9993F5EB0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ou need to enter 100 students’ name and ID, How would you do that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800" y="905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800" y="2064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800" y="3215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4267080" y="3124080"/>
            <a:ext cx="1752840" cy="2210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762120" y="3124080"/>
            <a:ext cx="2133360" cy="762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Conso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766800" y="4572000"/>
            <a:ext cx="2133720" cy="762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Straight Arrow Connector 4"/>
          <p:cNvCxnSpPr>
            <a:stCxn id="157" idx="3"/>
          </p:cNvCxnSpPr>
          <p:nvPr/>
        </p:nvCxnSpPr>
        <p:spPr>
          <a:xfrm>
            <a:off x="2895480" y="350496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Straight Arrow Connector 7"/>
          <p:cNvCxnSpPr>
            <a:stCxn id="158" idx="3"/>
          </p:cNvCxnSpPr>
          <p:nvPr/>
        </p:nvCxnSpPr>
        <p:spPr>
          <a:xfrm>
            <a:off x="2900520" y="4952520"/>
            <a:ext cx="1367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Rectangle 8"/>
          <p:cNvSpPr/>
          <p:nvPr/>
        </p:nvSpPr>
        <p:spPr>
          <a:xfrm>
            <a:off x="2895480" y="3124080"/>
            <a:ext cx="129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LTStd-Roman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LTStd-Roman"/>
              </a:rPr>
              <a:t>temporary l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932560" y="4648320"/>
            <a:ext cx="12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LTStd-Roman"/>
              </a:rPr>
              <a:t>perman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LTStd-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Image result for think"/>
          <p:cNvPicPr/>
          <p:nvPr/>
        </p:nvPicPr>
        <p:blipFill>
          <a:blip r:embed="rId1"/>
          <a:stretch/>
        </p:blipFill>
        <p:spPr>
          <a:xfrm>
            <a:off x="81000" y="763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6501-AB20-41A3-84FE-EFF5D8C9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Replacing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class nam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placeTex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replaces a string in a text file with a new string. The filename and strings are passed as an input as follow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File.txt targetFile.txt oldString old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xample, invo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.txt Target.txt Hello H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s all the occurrenc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d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d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urce.tx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saves the new fil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rget.tx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4267080" y="5334120"/>
            <a:ext cx="2057400" cy="53316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3310" h="21600">
                <a:moveTo>
                  <a:pt x="0" y="0"/>
                </a:moveTo>
                <a:lnTo>
                  <a:pt x="83310" y="0"/>
                </a:lnTo>
                <a:lnTo>
                  <a:pt x="83310" y="21600"/>
                </a:lnTo>
                <a:lnTo>
                  <a:pt x="0" y="21600"/>
                </a:lnTo>
                <a:close/>
              </a:path>
              <a:path fill="lightenLess" w="83310" h="21600">
                <a:moveTo>
                  <a:pt x="0" y="0"/>
                </a:moveTo>
                <a:lnTo>
                  <a:pt x="83310" y="0"/>
                </a:lnTo>
                <a:lnTo>
                  <a:pt x="81910" y="1400"/>
                </a:lnTo>
                <a:lnTo>
                  <a:pt x="1400" y="1400"/>
                </a:lnTo>
                <a:close/>
              </a:path>
              <a:path fill="darken" w="83310" h="21600">
                <a:moveTo>
                  <a:pt x="83310" y="0"/>
                </a:moveTo>
                <a:lnTo>
                  <a:pt x="83310" y="21600"/>
                </a:lnTo>
                <a:lnTo>
                  <a:pt x="81910" y="20200"/>
                </a:lnTo>
                <a:lnTo>
                  <a:pt x="81910" y="1400"/>
                </a:lnTo>
                <a:close/>
              </a:path>
              <a:path fill="darkenLess" w="83310" h="21600">
                <a:moveTo>
                  <a:pt x="83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910" y="20200"/>
                </a:lnTo>
                <a:close/>
              </a:path>
              <a:path fill="lighten" w="83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Replace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5">
            <a:hlinkClick r:id="rId1"/>
          </p:cNvPr>
          <p:cNvSpPr/>
          <p:nvPr/>
        </p:nvSpPr>
        <p:spPr>
          <a:xfrm>
            <a:off x="6553080" y="53341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6">
            <a:hlinkClick r:id="rId2"/>
          </p:cNvPr>
          <p:cNvSpPr/>
          <p:nvPr/>
        </p:nvSpPr>
        <p:spPr>
          <a:xfrm>
            <a:off x="3657600" y="533412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Less" w="21600" h="26560">
                <a:moveTo>
                  <a:pt x="5273" y="6465"/>
                </a:moveTo>
                <a:lnTo>
                  <a:pt x="12271" y="6465"/>
                </a:lnTo>
                <a:lnTo>
                  <a:pt x="16327" y="9964"/>
                </a:lnTo>
                <a:lnTo>
                  <a:pt x="16327" y="20095"/>
                </a:lnTo>
                <a:lnTo>
                  <a:pt x="5273" y="20095"/>
                </a:lnTo>
                <a:close/>
              </a:path>
              <a:path fill="darken" w="21600" h="26560">
                <a:moveTo>
                  <a:pt x="12271" y="6465"/>
                </a:moveTo>
                <a:lnTo>
                  <a:pt x="16327" y="9964"/>
                </a:lnTo>
                <a:lnTo>
                  <a:pt x="12271" y="9964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920" y="152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 t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java.util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lass Testing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tatic void main(String[] args) throws Excep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 in= new Scanner(System.i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out.println("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Please Enter the sourcefile , targetfile, oldstring, new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[] mainStrings=(in.nextLine()).split("\\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f (mainStrings.length != 4) {     System.out.println( “</a:t>
            </a:r>
            <a:r>
              <a:rPr b="0" lang="en-US" sz="1100" spc="-1" strike="noStrike">
                <a:solidFill>
                  <a:srgbClr val="0070c0"/>
                </a:solidFill>
                <a:latin typeface="Times New Roman"/>
              </a:rPr>
              <a:t>You should enter sourceFile targetFile oldStr newSt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exit(1); 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// Check if source file ex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ourceFile = new File(mainStrings[0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(!sourceFile.exists()) {        System.out.println("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Source fi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+ mainStrings[0] + "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does not ex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exit(2); 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// Check if target file ex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targetFile = new File(mainStrings[1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(targetFile.exists()) {          System.out.println("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Target fi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+ mainStrings[1] + "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already exi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exit(3);   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b050"/>
                </a:solidFill>
                <a:latin typeface="Times New Roman"/>
              </a:rPr>
              <a:t>// Create input and output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 input = new Scanner(sourceFi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Writer output = new PrintWriter(targetFi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{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(input.hasNext()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 s1 = input.nextLin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 s2 = s1.replaceAll(mainStrings[2], mainStrings[3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println(s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9E0E-89B4-4098-9287-6B24019F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Content Placeholder 6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645320" cy="3454200"/>
          </a:xfrm>
          <a:prstGeom prst="rect">
            <a:avLst/>
          </a:prstGeom>
          <a:ln w="0">
            <a:noFill/>
          </a:ln>
        </p:spPr>
      </p:pic>
      <p:sp>
        <p:nvSpPr>
          <p:cNvPr id="26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2B3C-A5DD-4ADE-B54E-FBDB2AD48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681480" y="190008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itle 1"/>
          <p:cNvSpPr/>
          <p:nvPr/>
        </p:nvSpPr>
        <p:spPr>
          <a:xfrm>
            <a:off x="324000" y="204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Your Knowled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3" descr=""/>
          <p:cNvPicPr/>
          <p:nvPr/>
        </p:nvPicPr>
        <p:blipFill>
          <a:blip r:embed="rId2"/>
          <a:stretch/>
        </p:blipFill>
        <p:spPr>
          <a:xfrm>
            <a:off x="6769080" y="263520"/>
            <a:ext cx="2273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7CC3-BC83-43CA-AA04-71A7ABC00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cover file/directory properties, to delete and rename files/directories, and to create directories u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(§14.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data to a file u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Wri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(§14.11.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data from a file u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(§14.11.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nderstand how data is read using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§14.11.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 program that replaces text in a file (§14.11.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3202-99F5-4865-9F88-DE8C29258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s intended to provide an abstraction that deals with most of the machine-dependent complexities of files and path names in a machine-independent fashion. The filename is a string.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s a wrapper  class for the file name and its directory p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File(pathname: 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 file =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c:\book\test.dat"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 file =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le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c:\book"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File(parent: String, child: 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File(parent: File, child: 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786-BB0F-4420-ADD6-3DF47BEB4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0" y="2587680"/>
            <a:ext cx="2362320" cy="627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6743880" y="32148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72000" y="266688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6705720" y="33814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isDirectory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isFile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isAbsolute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isHidden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exists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canRead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canWrite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C8FE-0D06-43B5-A232-BA0445132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lastModified():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length():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listFile(): File[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delete(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renameTo(dest: File): 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B980-D5E4-45AD-A39F-3B90E575B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754A-EF08-4E6B-BDF3-568A27BD3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14308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8536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file properties and manipulating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19440" y="1955880"/>
            <a:ext cx="40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AbsolutePa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)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119480" y="1797120"/>
            <a:ext cx="519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comple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 or represented by the File object. A file or directory might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absolute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280" y="36766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getCanonicalPath():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986280" y="3537000"/>
            <a:ext cx="48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 unique and complete path except that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s 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s, such as "." and "..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5160" y="513252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getPath():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986280" y="5029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complete directory and file name represented by the File object and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be relative to current dire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05920" y="1600200"/>
            <a:ext cx="848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ir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 and 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ir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two directories and 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est.tx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 file is in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ir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:\dir1 and C:\dir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ossible absolute path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at refer to test.txt are: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 C:\dir1\test.txt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:\dir1\.\test.txt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:\dir2\..\dir1\test.tx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anonical path refer to test.txt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:\temp\test.tx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hat are the possible path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02EA-5996-4239-88BE-EB281E53D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5562720" y="3887640"/>
            <a:ext cx="3276360" cy="1941840"/>
            <a:chOff x="5562720" y="3887640"/>
            <a:chExt cx="3276360" cy="1941840"/>
          </a:xfrm>
        </p:grpSpPr>
        <p:pic>
          <p:nvPicPr>
            <p:cNvPr id="197" name="Picture 4" descr=""/>
            <p:cNvPicPr/>
            <p:nvPr/>
          </p:nvPicPr>
          <p:blipFill>
            <a:blip r:embed="rId1"/>
            <a:stretch/>
          </p:blipFill>
          <p:spPr>
            <a:xfrm>
              <a:off x="5562720" y="3887640"/>
              <a:ext cx="327636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5"/>
            <p:cNvSpPr/>
            <p:nvPr/>
          </p:nvSpPr>
          <p:spPr>
            <a:xfrm>
              <a:off x="6126120" y="53697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Box 6"/>
            <p:cNvSpPr/>
            <p:nvPr/>
          </p:nvSpPr>
          <p:spPr>
            <a:xfrm>
              <a:off x="7731000" y="53409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Box 7"/>
            <p:cNvSpPr/>
            <p:nvPr/>
          </p:nvSpPr>
          <p:spPr>
            <a:xfrm>
              <a:off x="6108840" y="459576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REEJ MAATOG SALEEM ALHOTHALI</cp:lastModifiedBy>
  <dcterms:modified xsi:type="dcterms:W3CDTF">2019-08-31T12:16:28Z</dcterms:modified>
  <cp:revision>202</cp:revision>
  <dc:subject/>
  <dc:title>Chapter 13 Exception Handling</dc:title>
</cp:coreProperties>
</file>