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9.wmf" ContentType="image/x-wmf"/>
  <Override PartName="/ppt/media/image3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3B4B-2A7D-4C13-92D5-9C6BE1EE1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C26B-437F-42D3-AA0C-9E77C1ED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61BD-1124-4C98-8782-3ECE5B0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32D5-0AA4-4191-91C3-9ADC35EF8F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F8151-FE82-4F68-9E5D-1A3AB1ACF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CAD4-9832-455A-9648-21ADD3A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8D28B-7A77-44D7-A4EA-635D5E0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FBB17-543A-4A98-BA60-B72DF53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B51A-7D6D-49ED-9849-BB847D4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EB0C7-61CF-4A9C-896B-5CCF8470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5C5E-95CF-4CCC-9166-7AAC98F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6A9B-E1D9-404E-A081-EC897F55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7A15D-94AD-4465-90A9-D2FEF71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FB0D4-8E1F-4010-B0C3-2683444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B0C7E-F507-40F9-ADF3-D309517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A02F4-6501-4170-9CD4-5D184AE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7CA3C-39F5-46E3-88D4-4A7EB400B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9715-5E0A-4299-9AC6-AAC76F4E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FAE7-3515-429F-A4AD-AF0A3F3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A61B-8E16-483D-8D1E-A439680A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7657-ED69-4B80-812C-DFBB6151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AC30-9E7D-4ABE-B074-66E290B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5770-3DE4-4CEE-ADC9-8EA6A6B6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48C7-6C0A-4387-975C-776B735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890-B88F-424B-B2AF-6417FF64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B5C4-B46A-4627-A5B8-14D04141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TestPassObject.ba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.wmf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ml/TestCircleWithPrivateDataFields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ml/TestCircleWithStaticMembers.ba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F7D-1132-4C83-9F7B-A9AFC751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7800" y="1700280"/>
            <a:ext cx="7804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 Objects and 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090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2090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8893-8F6E-44D5-9C1C-A66E6DC4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001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0001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908000"/>
            <a:ext cx="9144000" cy="26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AD6B-6CE8-45A3-8D87-FC9927FD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Objects t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848720" cy="24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by value for primitive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by reference type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209680" y="4648320"/>
            <a:ext cx="4038840" cy="533160"/>
          </a:xfrm>
          <a:custGeom>
            <a:avLst/>
            <a:gdLst>
              <a:gd name="textAreaLeft" fmla="*/ 34560 w 4038840"/>
              <a:gd name="textAreaRight" fmla="*/ 4004280 w 4038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3530" h="21600">
                <a:moveTo>
                  <a:pt x="0" y="0"/>
                </a:moveTo>
                <a:lnTo>
                  <a:pt x="163530" y="0"/>
                </a:lnTo>
                <a:lnTo>
                  <a:pt x="163530" y="21600"/>
                </a:lnTo>
                <a:lnTo>
                  <a:pt x="0" y="21600"/>
                </a:lnTo>
                <a:close/>
              </a:path>
              <a:path fill="lightenLess" w="163530" h="21600">
                <a:moveTo>
                  <a:pt x="0" y="0"/>
                </a:moveTo>
                <a:lnTo>
                  <a:pt x="163530" y="0"/>
                </a:lnTo>
                <a:lnTo>
                  <a:pt x="162130" y="1400"/>
                </a:lnTo>
                <a:lnTo>
                  <a:pt x="1400" y="1400"/>
                </a:lnTo>
                <a:close/>
              </a:path>
              <a:path fill="darken" w="163530" h="21600">
                <a:moveTo>
                  <a:pt x="163530" y="0"/>
                </a:moveTo>
                <a:lnTo>
                  <a:pt x="163530" y="21600"/>
                </a:lnTo>
                <a:lnTo>
                  <a:pt x="162130" y="20200"/>
                </a:lnTo>
                <a:lnTo>
                  <a:pt x="162130" y="1400"/>
                </a:lnTo>
                <a:close/>
              </a:path>
              <a:path fill="darkenLess" w="163530" h="21600">
                <a:moveTo>
                  <a:pt x="163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130" y="20200"/>
                </a:lnTo>
                <a:close/>
              </a:path>
              <a:path fill="lighten" w="163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Pass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>
            <a:hlinkClick r:id="rId1"/>
          </p:cNvPr>
          <p:cNvSpPr/>
          <p:nvPr/>
        </p:nvSpPr>
        <p:spPr>
          <a:xfrm>
            <a:off x="66294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614600" y="461952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329-B44B-47E1-90AA-F73080A1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390600" y="417600"/>
            <a:ext cx="482904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8"/>
          <p:cNvGrpSpPr/>
          <p:nvPr/>
        </p:nvGrpSpPr>
        <p:grpSpPr>
          <a:xfrm>
            <a:off x="5208480" y="511200"/>
            <a:ext cx="3129120" cy="1789200"/>
            <a:chOff x="5208480" y="511200"/>
            <a:chExt cx="3129120" cy="1789200"/>
          </a:xfrm>
        </p:grpSpPr>
        <p:graphicFrame>
          <p:nvGraphicFramePr>
            <p:cNvPr id="219" name="Object 8"/>
            <p:cNvGraphicFramePr/>
            <p:nvPr/>
          </p:nvGraphicFramePr>
          <p:xfrm>
            <a:off x="6206760" y="702000"/>
            <a:ext cx="2130840" cy="942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0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06760" y="702000"/>
                      <a:ext cx="213084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Rectangle 9"/>
            <p:cNvSpPr/>
            <p:nvPr/>
          </p:nvSpPr>
          <p:spPr>
            <a:xfrm>
              <a:off x="5514840" y="1008360"/>
              <a:ext cx="396000" cy="330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Straight Arrow Connector 10"/>
            <p:cNvCxnSpPr/>
            <p:nvPr/>
          </p:nvCxnSpPr>
          <p:spPr>
            <a:xfrm>
              <a:off x="5784840" y="1108440"/>
              <a:ext cx="42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Rectangle 11"/>
            <p:cNvSpPr/>
            <p:nvPr/>
          </p:nvSpPr>
          <p:spPr>
            <a:xfrm>
              <a:off x="5208480" y="511200"/>
              <a:ext cx="1277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y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TextBox 16" descr=""/>
            <p:cNvPicPr/>
            <p:nvPr/>
          </p:nvPicPr>
          <p:blipFill>
            <a:blip r:embed="rId4"/>
            <a:stretch/>
          </p:blipFill>
          <p:spPr>
            <a:xfrm>
              <a:off x="7101720" y="1838160"/>
              <a:ext cx="34740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17"/>
            <p:cNvSpPr/>
            <p:nvPr/>
          </p:nvSpPr>
          <p:spPr>
            <a:xfrm>
              <a:off x="6617160" y="183312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615960" y="2300400"/>
            <a:ext cx="2800440" cy="27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6"/>
          <a:stretch/>
        </p:blipFill>
        <p:spPr>
          <a:xfrm>
            <a:off x="612720" y="4443480"/>
            <a:ext cx="6353280" cy="14191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2"/>
          <p:cNvSpPr/>
          <p:nvPr/>
        </p:nvSpPr>
        <p:spPr>
          <a:xfrm>
            <a:off x="4930920" y="3784680"/>
            <a:ext cx="1276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29"/>
          <p:cNvGrpSpPr/>
          <p:nvPr/>
        </p:nvGrpSpPr>
        <p:grpSpPr>
          <a:xfrm>
            <a:off x="5300640" y="1533240"/>
            <a:ext cx="1959120" cy="3126240"/>
            <a:chOff x="5300640" y="1533240"/>
            <a:chExt cx="1959120" cy="3126240"/>
          </a:xfrm>
        </p:grpSpPr>
        <p:sp>
          <p:nvSpPr>
            <p:cNvPr id="230" name="Rectangle 20"/>
            <p:cNvSpPr/>
            <p:nvPr/>
          </p:nvSpPr>
          <p:spPr>
            <a:xfrm>
              <a:off x="5300640" y="4247640"/>
              <a:ext cx="394560" cy="330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Straight Arrow Connector 21"/>
            <p:cNvCxnSpPr/>
            <p:nvPr/>
          </p:nvCxnSpPr>
          <p:spPr>
            <a:xfrm flipV="1">
              <a:off x="5569200" y="1533240"/>
              <a:ext cx="689400" cy="281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232" name="TextBox 24" descr=""/>
            <p:cNvPicPr/>
            <p:nvPr/>
          </p:nvPicPr>
          <p:blipFill>
            <a:blip r:embed="rId7"/>
            <a:stretch/>
          </p:blipFill>
          <p:spPr>
            <a:xfrm>
              <a:off x="6907680" y="4190760"/>
              <a:ext cx="352080" cy="4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25"/>
            <p:cNvSpPr/>
            <p:nvPr/>
          </p:nvSpPr>
          <p:spPr>
            <a:xfrm>
              <a:off x="6104880" y="4194360"/>
              <a:ext cx="9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4" name="Object 26"/>
          <p:cNvGraphicFramePr/>
          <p:nvPr/>
        </p:nvGraphicFramePr>
        <p:xfrm>
          <a:off x="6180120" y="703440"/>
          <a:ext cx="2130480" cy="94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80120" y="703440"/>
                    <a:ext cx="21304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27" descr=""/>
          <p:cNvPicPr/>
          <p:nvPr/>
        </p:nvPicPr>
        <p:blipFill>
          <a:blip r:embed="rId10"/>
          <a:stretch/>
        </p:blipFill>
        <p:spPr>
          <a:xfrm>
            <a:off x="257040" y="3002040"/>
            <a:ext cx="6534360" cy="80964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21" descr=""/>
          <p:cNvPicPr/>
          <p:nvPr/>
        </p:nvPicPr>
        <p:blipFill>
          <a:blip r:embed="rId11"/>
          <a:stretch/>
        </p:blipFill>
        <p:spPr>
          <a:xfrm>
            <a:off x="6931080" y="4224240"/>
            <a:ext cx="34776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Object 23"/>
          <p:cNvGraphicFramePr/>
          <p:nvPr/>
        </p:nvGraphicFramePr>
        <p:xfrm>
          <a:off x="6195960" y="711360"/>
          <a:ext cx="2127240" cy="944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9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95960" y="711360"/>
                    <a:ext cx="212724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TextBox 30" descr=""/>
          <p:cNvPicPr/>
          <p:nvPr/>
        </p:nvPicPr>
        <p:blipFill>
          <a:blip r:embed="rId14"/>
          <a:stretch/>
        </p:blipFill>
        <p:spPr>
          <a:xfrm>
            <a:off x="6931080" y="4211640"/>
            <a:ext cx="353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F8E-5592-42DD-A22F-067D65B4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Objects to Method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598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25718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244440" y="1901880"/>
            <a:ext cx="8655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91D-920B-4AF9-A1EC-BE57AAC0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29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you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.methodName(arguments) (e.g., Math.pow(3, 2.5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voke a method in the Math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n you invoke getArea() using Circle.getArea(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3689280" y="312120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3075120" y="351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WHY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7800" y="392760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methods are static methods, which are defined using the static keyword. However, getArea() is non-static. It must be invoked from an objec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956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RefVar.methodName(arguments) (e.g., myCircle.getArea()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74C-0F70-4B72-A67A-19F7502D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385920" y="1442880"/>
            <a:ext cx="3848040" cy="268452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385920" y="1854360"/>
            <a:ext cx="1612800" cy="57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461880" y="2496960"/>
            <a:ext cx="3111480" cy="576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187880" y="2913120"/>
            <a:ext cx="427032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ope of instance and static variables is the entire class. They can be declared anywhere inside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9"/>
          <p:cNvCxnSpPr/>
          <p:nvPr/>
        </p:nvCxnSpPr>
        <p:spPr>
          <a:xfrm flipH="1" flipV="1">
            <a:off x="2536200" y="4005000"/>
            <a:ext cx="2035800" cy="1113120"/>
          </a:xfrm>
          <a:prstGeom prst="straightConnector1">
            <a:avLst/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D47-7DEC-449C-8475-3C83DB4D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89280" y="3850920"/>
            <a:ext cx="442296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ope of a local variable starts from its declaration and continues to the end of the block that contains the variable. A local variable must be initialized explicitly before it can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5920" y="1741320"/>
            <a:ext cx="8610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x is " + 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y is " +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461880" y="2314440"/>
            <a:ext cx="2266920" cy="758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Straight Arrow Connector 2"/>
          <p:cNvCxnSpPr>
            <a:endCxn id="264" idx="1"/>
          </p:cNvCxnSpPr>
          <p:nvPr/>
        </p:nvCxnSpPr>
        <p:spPr>
          <a:xfrm>
            <a:off x="1499760" y="3073320"/>
            <a:ext cx="2189880" cy="1944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509-CF95-4EBC-BEBB-6F4DFD65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347760" y="360216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469880" y="2031840"/>
            <a:ext cx="126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290600" y="1554120"/>
            <a:ext cx="17845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1508040" y="2575080"/>
            <a:ext cx="122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228840" y="1547640"/>
            <a:ext cx="211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3367080" y="2098800"/>
            <a:ext cx="132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3367080" y="2610000"/>
            <a:ext cx="132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5570640" y="1584360"/>
            <a:ext cx="21128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5686560" y="2090880"/>
            <a:ext cx="1304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4"/>
          <p:cNvSpPr/>
          <p:nvPr/>
        </p:nvSpPr>
        <p:spPr>
          <a:xfrm>
            <a:off x="6338880" y="2575080"/>
            <a:ext cx="0" cy="81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Straight Arrow Connector 6"/>
          <p:cNvCxnSpPr/>
          <p:nvPr/>
        </p:nvCxnSpPr>
        <p:spPr>
          <a:xfrm flipH="1">
            <a:off x="1077480" y="3390480"/>
            <a:ext cx="5261760" cy="1080"/>
          </a:xfrm>
          <a:prstGeom prst="straightConnector1">
            <a:avLst/>
          </a:prstGeom>
          <a:ln w="6480">
            <a:solidFill>
              <a:srgbClr val="878787"/>
            </a:solidFill>
            <a:miter/>
          </a:ln>
        </p:spPr>
      </p:cxnSp>
      <p:sp>
        <p:nvSpPr>
          <p:cNvPr id="281" name="Straight Connector 17"/>
          <p:cNvSpPr/>
          <p:nvPr/>
        </p:nvSpPr>
        <p:spPr>
          <a:xfrm flipV="1">
            <a:off x="1077840" y="2314440"/>
            <a:ext cx="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Straight Arrow Connector 19"/>
          <p:cNvCxnSpPr/>
          <p:nvPr/>
        </p:nvCxnSpPr>
        <p:spPr>
          <a:xfrm>
            <a:off x="1077480" y="2314080"/>
            <a:ext cx="430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Box 20"/>
          <p:cNvSpPr/>
          <p:nvPr/>
        </p:nvSpPr>
        <p:spPr>
          <a:xfrm>
            <a:off x="3573360" y="3160800"/>
            <a:ext cx="84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98720" y="3583080"/>
            <a:ext cx="7386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3000"/>
          </a:bodyPr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data, or method is visible to any class in any pack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98760" y="4941720"/>
            <a:ext cx="6335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variable, or method can be accessed by any class in the same pack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998720" y="4238640"/>
            <a:ext cx="7386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or methods can be accessed only by the declaring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873520" y="5662440"/>
            <a:ext cx="6335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, variable, or method can be accessed by any class within an inheritance relationshi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17D-AF8F-4D3D-A67A-2C891C32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28600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97172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0" y="34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40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/>
          <p:cNvPicPr/>
          <p:nvPr/>
        </p:nvPicPr>
        <p:blipFill>
          <a:blip r:embed="rId1"/>
          <a:stretch/>
        </p:blipFill>
        <p:spPr>
          <a:xfrm>
            <a:off x="14400" y="1227240"/>
            <a:ext cx="9129600" cy="3182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117360" y="4543560"/>
            <a:ext cx="8766360" cy="1612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4"/>
          <p:cNvSpPr/>
          <p:nvPr/>
        </p:nvSpPr>
        <p:spPr>
          <a:xfrm>
            <a:off x="3427560" y="2414520"/>
            <a:ext cx="2373120" cy="15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568920" y="2455920"/>
            <a:ext cx="2374920" cy="14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3497400" y="5349960"/>
            <a:ext cx="1957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568920" y="5375160"/>
            <a:ext cx="19591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D6C3-EF2D-4A55-A919-0FDF565A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143000"/>
            <a:ext cx="8534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we acces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ver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? What is the difference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1"/>
          <a:stretch/>
        </p:blipFill>
        <p:spPr>
          <a:xfrm>
            <a:off x="6480" y="2622600"/>
            <a:ext cx="9144000" cy="2949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0" y="5541840"/>
            <a:ext cx="89503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98F-4F1F-48FB-B2D0-57FCC13D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4767120" y="1128600"/>
            <a:ext cx="3571920" cy="4835520"/>
            <a:chOff x="4767120" y="1128600"/>
            <a:chExt cx="3571920" cy="4835520"/>
          </a:xfrm>
        </p:grpSpPr>
        <p:sp>
          <p:nvSpPr>
            <p:cNvPr id="149" name="Rounded Rectangle 16"/>
            <p:cNvSpPr/>
            <p:nvPr/>
          </p:nvSpPr>
          <p:spPr>
            <a:xfrm>
              <a:off x="4767120" y="1128600"/>
              <a:ext cx="3571920" cy="48355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835520"/>
                <a:gd name="textAreaBottom" fmla="*/ 4661280 h 4835520"/>
              </a:gdLst>
              <a:ahLst/>
              <a:rect l="textAreaLeft" t="textAreaTop" r="textAreaRight" b="textAreaBottom"/>
              <a:pathLst>
                <a:path w="21600" h="29240">
                  <a:moveTo>
                    <a:pt x="3600" y="0"/>
                  </a:moveTo>
                  <a:arcTo wR="3600" hR="3600" stAng="16200000" swAng="-5400000"/>
                  <a:lnTo>
                    <a:pt x="0" y="25640"/>
                  </a:lnTo>
                  <a:arcTo wR="3600" hR="3600" stAng="10800000" swAng="-5400000"/>
                  <a:lnTo>
                    <a:pt x="18000" y="29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bject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10" descr=""/>
            <p:cNvPicPr/>
            <p:nvPr/>
          </p:nvPicPr>
          <p:blipFill>
            <a:blip r:embed="rId1"/>
            <a:stretch/>
          </p:blipFill>
          <p:spPr>
            <a:xfrm>
              <a:off x="4875120" y="3074040"/>
              <a:ext cx="3349800" cy="13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"/>
            <p:cNvPicPr/>
            <p:nvPr/>
          </p:nvPicPr>
          <p:blipFill>
            <a:blip r:embed="rId2"/>
            <a:srcRect l="0" t="0" r="2222" b="18350"/>
            <a:stretch/>
          </p:blipFill>
          <p:spPr>
            <a:xfrm>
              <a:off x="4957560" y="4448880"/>
              <a:ext cx="32086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"/>
            <p:cNvPicPr/>
            <p:nvPr/>
          </p:nvPicPr>
          <p:blipFill>
            <a:blip r:embed="rId3"/>
            <a:srcRect l="2381" t="5911" r="0" b="12202"/>
            <a:stretch/>
          </p:blipFill>
          <p:spPr>
            <a:xfrm>
              <a:off x="4957560" y="1807920"/>
              <a:ext cx="3250800" cy="113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ounded Rectangle 18"/>
          <p:cNvSpPr/>
          <p:nvPr/>
        </p:nvSpPr>
        <p:spPr>
          <a:xfrm>
            <a:off x="770040" y="1389240"/>
            <a:ext cx="3571920" cy="4456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56080"/>
              <a:gd name="textAreaBottom" fmla="*/ 4281840 h 4456080"/>
            </a:gdLst>
            <a:ahLst/>
            <a:rect l="textAreaLeft" t="textAreaTop" r="textAreaRight" b="textAreaBottom"/>
            <a:pathLst>
              <a:path w="21600" h="26946">
                <a:moveTo>
                  <a:pt x="3600" y="0"/>
                </a:moveTo>
                <a:arcTo wR="3600" hR="3600" stAng="16200000" swAng="-5400000"/>
                <a:lnTo>
                  <a:pt x="0" y="23346"/>
                </a:lnTo>
                <a:arcTo wR="3600" hR="3600" stAng="10800000" swAng="-5400000"/>
                <a:lnTo>
                  <a:pt x="18000" y="26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1"/>
          <p:cNvGrpSpPr/>
          <p:nvPr/>
        </p:nvGrpSpPr>
        <p:grpSpPr>
          <a:xfrm>
            <a:off x="1000080" y="3063960"/>
            <a:ext cx="3111480" cy="1344600"/>
            <a:chOff x="1000080" y="3063960"/>
            <a:chExt cx="3111480" cy="1344600"/>
          </a:xfrm>
        </p:grpSpPr>
        <p:sp>
          <p:nvSpPr>
            <p:cNvPr id="155" name="Straight Connector 35"/>
            <p:cNvSpPr/>
            <p:nvPr/>
          </p:nvSpPr>
          <p:spPr>
            <a:xfrm>
              <a:off x="1000080" y="4132800"/>
              <a:ext cx="3111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40"/>
            <p:cNvGrpSpPr/>
            <p:nvPr/>
          </p:nvGrpSpPr>
          <p:grpSpPr>
            <a:xfrm>
              <a:off x="1000080" y="3063960"/>
              <a:ext cx="3111480" cy="1344600"/>
              <a:chOff x="1000080" y="3063960"/>
              <a:chExt cx="3111480" cy="1344600"/>
            </a:xfrm>
          </p:grpSpPr>
          <p:sp>
            <p:nvSpPr>
              <p:cNvPr id="157" name="Straight Connector 31"/>
              <p:cNvSpPr/>
              <p:nvPr/>
            </p:nvSpPr>
            <p:spPr>
              <a:xfrm>
                <a:off x="4111560" y="3512160"/>
                <a:ext cx="0" cy="62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Group 39"/>
              <p:cNvGrpSpPr/>
              <p:nvPr/>
            </p:nvGrpSpPr>
            <p:grpSpPr>
              <a:xfrm>
                <a:off x="1000080" y="3063960"/>
                <a:ext cx="3111480" cy="1344600"/>
                <a:chOff x="1000080" y="3063960"/>
                <a:chExt cx="3111480" cy="1344600"/>
              </a:xfrm>
            </p:grpSpPr>
            <p:sp>
              <p:nvSpPr>
                <p:cNvPr id="159" name="Straight Connector 20"/>
                <p:cNvSpPr/>
                <p:nvPr/>
              </p:nvSpPr>
              <p:spPr>
                <a:xfrm>
                  <a:off x="2005920" y="3063960"/>
                  <a:ext cx="100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Straight Connector 22"/>
                <p:cNvSpPr/>
                <p:nvPr/>
              </p:nvSpPr>
              <p:spPr>
                <a:xfrm flipH="1">
                  <a:off x="1690920" y="3063960"/>
                  <a:ext cx="314280" cy="44820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Straight Connector 24"/>
                <p:cNvSpPr/>
                <p:nvPr/>
              </p:nvSpPr>
              <p:spPr>
                <a:xfrm>
                  <a:off x="3043080" y="3063960"/>
                  <a:ext cx="282600" cy="44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Straight Connector 27"/>
                <p:cNvSpPr/>
                <p:nvPr/>
              </p:nvSpPr>
              <p:spPr>
                <a:xfrm>
                  <a:off x="3326040" y="3512160"/>
                  <a:ext cx="785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Straight Connector 29"/>
                <p:cNvSpPr/>
                <p:nvPr/>
              </p:nvSpPr>
              <p:spPr>
                <a:xfrm flipH="1">
                  <a:off x="1000080" y="3512160"/>
                  <a:ext cx="691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Straight Connector 33"/>
                <p:cNvSpPr/>
                <p:nvPr/>
              </p:nvSpPr>
              <p:spPr>
                <a:xfrm>
                  <a:off x="1000080" y="3512160"/>
                  <a:ext cx="0" cy="62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37"/>
                <p:cNvSpPr/>
                <p:nvPr/>
              </p:nvSpPr>
              <p:spPr>
                <a:xfrm>
                  <a:off x="304308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38"/>
                <p:cNvSpPr/>
                <p:nvPr/>
              </p:nvSpPr>
              <p:spPr>
                <a:xfrm>
                  <a:off x="1770120" y="3951360"/>
                  <a:ext cx="43992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34E-7EBC-4C13-ACD8-85D123A92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ata Fields Should Be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indent="0">
              <a:lnSpc>
                <a:spcPct val="90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o protect dat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o make code easy to maintai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ata Field Encapsulatio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5ED-DD8B-4FBA-9D87-C836C47E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4360" y="4090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or (Get method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ethod is used to return the value of a private fiel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ator (Set method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s used to set a value of a privat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414360" y="311796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49280" indent="-4492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et and set methods are used to read and modify private propertie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77800" y="123840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 can access the private variables/methods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37F-3BEE-4FD7-80F5-59638A7C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5960" y="164880"/>
            <a:ext cx="795024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iel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731880" y="5234040"/>
            <a:ext cx="4686120" cy="457200"/>
          </a:xfrm>
          <a:custGeom>
            <a:avLst/>
            <a:gdLst>
              <a:gd name="textAreaLeft" fmla="*/ 29520 w 4686120"/>
              <a:gd name="textAreaRight" fmla="*/ 4656600 w 4686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1234" h="21600">
                <a:moveTo>
                  <a:pt x="0" y="0"/>
                </a:moveTo>
                <a:lnTo>
                  <a:pt x="221234" y="0"/>
                </a:lnTo>
                <a:lnTo>
                  <a:pt x="221234" y="21600"/>
                </a:lnTo>
                <a:lnTo>
                  <a:pt x="0" y="21600"/>
                </a:lnTo>
                <a:close/>
              </a:path>
              <a:path fill="lightenLess" w="221234" h="21600">
                <a:moveTo>
                  <a:pt x="0" y="0"/>
                </a:moveTo>
                <a:lnTo>
                  <a:pt x="221234" y="0"/>
                </a:lnTo>
                <a:lnTo>
                  <a:pt x="219834" y="1400"/>
                </a:lnTo>
                <a:lnTo>
                  <a:pt x="1400" y="1400"/>
                </a:lnTo>
                <a:close/>
              </a:path>
              <a:path fill="darken" w="221234" h="21600">
                <a:moveTo>
                  <a:pt x="221234" y="0"/>
                </a:moveTo>
                <a:lnTo>
                  <a:pt x="221234" y="21600"/>
                </a:lnTo>
                <a:lnTo>
                  <a:pt x="219834" y="20200"/>
                </a:lnTo>
                <a:lnTo>
                  <a:pt x="219834" y="1400"/>
                </a:lnTo>
                <a:close/>
              </a:path>
              <a:path fill="darkenLess" w="221234" h="21600">
                <a:moveTo>
                  <a:pt x="22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34" y="20200"/>
                </a:lnTo>
                <a:close/>
              </a:path>
              <a:path fill="lighten" w="22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5724360" y="5810400"/>
            <a:ext cx="2210040" cy="533160"/>
          </a:xfrm>
          <a:custGeom>
            <a:avLst/>
            <a:gdLst>
              <a:gd name="textAreaLeft" fmla="*/ 34560 w 2210040"/>
              <a:gd name="textAreaRight" fmla="*/ 2175480 w 2210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9490" h="21600">
                <a:moveTo>
                  <a:pt x="0" y="0"/>
                </a:moveTo>
                <a:lnTo>
                  <a:pt x="89490" y="0"/>
                </a:lnTo>
                <a:lnTo>
                  <a:pt x="89490" y="21600"/>
                </a:lnTo>
                <a:lnTo>
                  <a:pt x="0" y="21600"/>
                </a:lnTo>
                <a:close/>
              </a:path>
              <a:path fill="lightenLess" w="89490" h="21600">
                <a:moveTo>
                  <a:pt x="0" y="0"/>
                </a:moveTo>
                <a:lnTo>
                  <a:pt x="89490" y="0"/>
                </a:lnTo>
                <a:lnTo>
                  <a:pt x="88090" y="1400"/>
                </a:lnTo>
                <a:lnTo>
                  <a:pt x="1400" y="1400"/>
                </a:lnTo>
                <a:close/>
              </a:path>
              <a:path fill="darken" w="89490" h="21600">
                <a:moveTo>
                  <a:pt x="89490" y="0"/>
                </a:moveTo>
                <a:lnTo>
                  <a:pt x="89490" y="21600"/>
                </a:lnTo>
                <a:lnTo>
                  <a:pt x="88090" y="20200"/>
                </a:lnTo>
                <a:lnTo>
                  <a:pt x="88090" y="1400"/>
                </a:lnTo>
                <a:close/>
              </a:path>
              <a:path fill="darkenLess" w="89490" h="21600">
                <a:moveTo>
                  <a:pt x="89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90" y="20200"/>
                </a:lnTo>
                <a:close/>
              </a:path>
              <a:path fill="lighten" w="89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731880" y="5848200"/>
            <a:ext cx="4648320" cy="495360"/>
          </a:xfrm>
          <a:custGeom>
            <a:avLst/>
            <a:gdLst>
              <a:gd name="textAreaLeft" fmla="*/ 32040 w 4648320"/>
              <a:gd name="textAreaRight" fmla="*/ 4616280 w 46483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02557" h="21600">
                <a:moveTo>
                  <a:pt x="0" y="0"/>
                </a:moveTo>
                <a:lnTo>
                  <a:pt x="202557" y="0"/>
                </a:lnTo>
                <a:lnTo>
                  <a:pt x="202557" y="21600"/>
                </a:lnTo>
                <a:lnTo>
                  <a:pt x="0" y="21600"/>
                </a:lnTo>
                <a:close/>
              </a:path>
              <a:path fill="lightenLess" w="202557" h="21600">
                <a:moveTo>
                  <a:pt x="0" y="0"/>
                </a:moveTo>
                <a:lnTo>
                  <a:pt x="202557" y="0"/>
                </a:lnTo>
                <a:lnTo>
                  <a:pt x="201157" y="1400"/>
                </a:lnTo>
                <a:lnTo>
                  <a:pt x="1400" y="1400"/>
                </a:lnTo>
                <a:close/>
              </a:path>
              <a:path fill="darken" w="202557" h="21600">
                <a:moveTo>
                  <a:pt x="202557" y="0"/>
                </a:moveTo>
                <a:lnTo>
                  <a:pt x="202557" y="21600"/>
                </a:lnTo>
                <a:lnTo>
                  <a:pt x="201157" y="20200"/>
                </a:lnTo>
                <a:lnTo>
                  <a:pt x="201157" y="1400"/>
                </a:lnTo>
                <a:close/>
              </a:path>
              <a:path fill="darkenLess" w="202557" h="21600">
                <a:moveTo>
                  <a:pt x="202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1157" y="20200"/>
                </a:lnTo>
                <a:close/>
              </a:path>
              <a:path fill="lighten" w="202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0" y="256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0"/>
          <p:cNvGraphicFramePr/>
          <p:nvPr/>
        </p:nvGraphicFramePr>
        <p:xfrm>
          <a:off x="2728800" y="1700280"/>
          <a:ext cx="3451320" cy="31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0" y="1700280"/>
                    <a:ext cx="345132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AutoShape 12"/>
          <p:cNvSpPr/>
          <p:nvPr/>
        </p:nvSpPr>
        <p:spPr>
          <a:xfrm>
            <a:off x="155520" y="581040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155520" y="51958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1009800" y="2162160"/>
            <a:ext cx="2179440" cy="1957320"/>
            <a:chOff x="1009800" y="2162160"/>
            <a:chExt cx="2179440" cy="1957320"/>
          </a:xfrm>
        </p:grpSpPr>
        <p:cxnSp>
          <p:nvCxnSpPr>
            <p:cNvPr id="326" name="Straight Arrow Connector 2"/>
            <p:cNvCxnSpPr>
              <a:stCxn id="327" idx="3"/>
            </p:cNvCxnSpPr>
            <p:nvPr/>
          </p:nvCxnSpPr>
          <p:spPr>
            <a:xfrm flipH="1">
              <a:off x="1998360" y="2505240"/>
              <a:ext cx="863280" cy="77112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sp>
          <p:nvSpPr>
            <p:cNvPr id="327" name="Oval 3"/>
            <p:cNvSpPr/>
            <p:nvPr/>
          </p:nvSpPr>
          <p:spPr>
            <a:xfrm>
              <a:off x="2805480" y="2162160"/>
              <a:ext cx="383760" cy="4017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5"/>
            <p:cNvSpPr/>
            <p:nvPr/>
          </p:nvSpPr>
          <p:spPr>
            <a:xfrm>
              <a:off x="1009800" y="3121560"/>
              <a:ext cx="1219320" cy="99792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“ – “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1009800" y="3208320"/>
            <a:ext cx="2179440" cy="1957320"/>
            <a:chOff x="1009800" y="3208320"/>
            <a:chExt cx="2179440" cy="1957320"/>
          </a:xfrm>
        </p:grpSpPr>
        <p:cxnSp>
          <p:nvCxnSpPr>
            <p:cNvPr id="330" name="Straight Arrow Connector 17"/>
            <p:cNvCxnSpPr>
              <a:stCxn id="331" idx="3"/>
            </p:cNvCxnSpPr>
            <p:nvPr/>
          </p:nvCxnSpPr>
          <p:spPr>
            <a:xfrm flipH="1">
              <a:off x="1998360" y="3551400"/>
              <a:ext cx="863280" cy="77112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sp>
          <p:nvSpPr>
            <p:cNvPr id="331" name="Oval 18"/>
            <p:cNvSpPr/>
            <p:nvPr/>
          </p:nvSpPr>
          <p:spPr>
            <a:xfrm>
              <a:off x="2805480" y="3208320"/>
              <a:ext cx="383760" cy="4017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009800" y="4167720"/>
              <a:ext cx="1219320" cy="99792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“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 “ ?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24B-1D0D-4FEF-B463-0663F601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577800" y="3659040"/>
            <a:ext cx="6372360" cy="2772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693720" y="395280"/>
            <a:ext cx="6867720" cy="30099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8"/>
          <p:cNvSpPr/>
          <p:nvPr/>
        </p:nvSpPr>
        <p:spPr>
          <a:xfrm>
            <a:off x="770040" y="340524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287360" y="72802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D2A-42B6-4515-B7CC-C0627231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7"/>
          <p:cNvGraphicFramePr/>
          <p:nvPr/>
        </p:nvGraphicFramePr>
        <p:xfrm>
          <a:off x="347760" y="1663560"/>
          <a:ext cx="558144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60" y="1663560"/>
                    <a:ext cx="558144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3227400" y="3143160"/>
            <a:ext cx="54547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86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is must be explicitly used  to reference the data field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20920" y="4014720"/>
            <a:ext cx="523728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43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is is used to invoke another constructor ( overload constru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138480" y="5124600"/>
            <a:ext cx="5062680" cy="13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9000" tIns="9000" bIns="0" anchor="t">
            <a:normAutofit fontScale="50000"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very instance variable belongs to an instance represented by this, which is normally omit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268280" y="26654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1268280" y="3697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730520" y="458136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443400" y="27306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.radius = radi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3453120" y="37288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(1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2649600" y="4681440"/>
            <a:ext cx="61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adius * 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adius * Math.P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47A-7C28-464B-A831-8AA00769E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s Keywor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9600" y="1277640"/>
            <a:ext cx="852480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is the name of a reference that refers to an object itself. One common use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is reference a class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dden data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common use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to enable a constructor to invoke another constructor of the same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10D-14F3-448C-A4E0-DF7E8D06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the Hidden Data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048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Object 7"/>
          <p:cNvGraphicFramePr/>
          <p:nvPr/>
        </p:nvGraphicFramePr>
        <p:xfrm>
          <a:off x="3240" y="1498680"/>
          <a:ext cx="878508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98680"/>
                    <a:ext cx="878508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67480" y="4821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72B-A077-4B22-B220-2704B151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" descr=""/>
          <p:cNvPicPr/>
          <p:nvPr/>
        </p:nvPicPr>
        <p:blipFill>
          <a:blip r:embed="rId2"/>
          <a:stretch/>
        </p:blipFill>
        <p:spPr>
          <a:xfrm>
            <a:off x="4395960" y="2008080"/>
            <a:ext cx="4606920" cy="3041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4348080" y="2165400"/>
            <a:ext cx="4692600" cy="3027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4"/>
          <a:stretch/>
        </p:blipFill>
        <p:spPr>
          <a:xfrm>
            <a:off x="4392720" y="2273400"/>
            <a:ext cx="4341600" cy="2957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5"/>
          <a:stretch/>
        </p:blipFill>
        <p:spPr>
          <a:xfrm>
            <a:off x="155520" y="2948040"/>
            <a:ext cx="40384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E689-EEC1-47C2-8C1F-7059400B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885960" y="1498680"/>
            <a:ext cx="6397560" cy="4554360"/>
          </a:xfrm>
          <a:prstGeom prst="rect">
            <a:avLst/>
          </a:prstGeom>
          <a:ln w="0">
            <a:noFill/>
          </a:ln>
        </p:spPr>
      </p:pic>
      <p:sp>
        <p:nvSpPr>
          <p:cNvPr id="370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ontent Placeholder 5" descr=""/>
          <p:cNvPicPr/>
          <p:nvPr/>
        </p:nvPicPr>
        <p:blipFill>
          <a:blip r:embed="rId1"/>
          <a:stretch/>
        </p:blipFill>
        <p:spPr>
          <a:xfrm>
            <a:off x="1038240" y="1162080"/>
            <a:ext cx="7043760" cy="524664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017-8103-4359-90F6-B73370805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286-C988-4474-8F90-BCF293259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0000" y="779040"/>
            <a:ext cx="8874000" cy="573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velop methods with object arguments and differentiate betwee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mitive-typ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rguments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ject-typ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rguments (§8.10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istinguish betwee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variables and methods (§8.7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fine private data fields with appropriat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thods (§8.8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encapsulate data fields to make classes easy to maintain (§8.9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determine the scope of variables in the context of a class (§8.1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store and process objects i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§9.11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0C2-F29E-4803-9D2B-CB683B72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ontent Placeholder 5" descr=""/>
          <p:cNvPicPr/>
          <p:nvPr/>
        </p:nvPicPr>
        <p:blipFill>
          <a:blip r:embed="rId1"/>
          <a:stretch/>
        </p:blipFill>
        <p:spPr>
          <a:xfrm>
            <a:off x="695160" y="2008080"/>
            <a:ext cx="6680520" cy="4262400"/>
          </a:xfrm>
          <a:prstGeom prst="rect">
            <a:avLst/>
          </a:prstGeom>
          <a:ln w="0">
            <a:noFill/>
          </a:ln>
        </p:spPr>
      </p:pic>
      <p:sp>
        <p:nvSpPr>
          <p:cNvPr id="378" name="Title 1"/>
          <p:cNvSpPr/>
          <p:nvPr/>
        </p:nvSpPr>
        <p:spPr>
          <a:xfrm>
            <a:off x="4762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F3E-4FA4-4B85-9C00-B0A62AA9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59884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[] circleArray = new Circle[10]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85680" y="2320920"/>
            <a:ext cx="8972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7171-5E41-4E37-83C4-9B85F2EA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[] circleArray = new Circle[10]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of objects is actually an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of reference variable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invoke a method??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[1].getArea(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 references to the entire arr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Array[1] references to a Circle object.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806-C7F3-4A3B-BCC9-DFB4A458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9960" y="26640"/>
            <a:ext cx="8588520" cy="684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Total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Declare circleArray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[] circleArra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Create circleArray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 = createCircleArra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Print circleArray and total areas of the circle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rintCircleArray(circleArray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Create an array of Circle objects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[] createCircleArray() {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[] circleArray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[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[i]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(Math.random() *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circleArra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Print an array of circles and their total area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printCircleArray( Circle[] circleArray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s%-15s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Radius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Area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f%-15f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circleArray[i].getRadius(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rcleArray[i].getArea()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-----------------------------------------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Compute and display the resul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ystem.out.printf(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%-30s%-15f\n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8000"/>
                </a:solidFill>
                <a:latin typeface="Arial Unicode MS"/>
              </a:rPr>
              <a:t>"The total areas of circles is"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(circleArray)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//*******************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** Add circle areas */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( Circle[] circleArray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Initialize su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8b0000"/>
                </a:solidFill>
                <a:latin typeface="Arial Unicode MS"/>
              </a:rPr>
              <a:t>// Add areas to su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i = </a:t>
            </a:r>
            <a:r>
              <a:rPr b="0" lang="en-US" sz="12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; i &lt; circleArray.length; i++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um += circleArray[i].getArea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sum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137-AA86-40CC-99F2-F6E4FE865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riables, and Metho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8580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stance variables belong to a specific instance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stance methods are invoked by an instance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30E6-22EC-414E-B7E2-BDABCA357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ariables, and Metho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834160" y="3774960"/>
            <a:ext cx="284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s are invoked by an instance of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09600" y="1635120"/>
            <a:ext cx="4991040" cy="4257720"/>
          </a:xfrm>
          <a:prstGeom prst="rect">
            <a:avLst/>
          </a:prstGeom>
          <a:ln w="0">
            <a:noFill/>
          </a:ln>
        </p:spPr>
      </p:pic>
      <p:sp>
        <p:nvSpPr>
          <p:cNvPr id="177" name="Oval 1"/>
          <p:cNvSpPr/>
          <p:nvPr/>
        </p:nvSpPr>
        <p:spPr>
          <a:xfrm>
            <a:off x="231840" y="1727280"/>
            <a:ext cx="2035080" cy="39528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Straight Arrow Connector 3"/>
          <p:cNvCxnSpPr/>
          <p:nvPr/>
        </p:nvCxnSpPr>
        <p:spPr>
          <a:xfrm>
            <a:off x="2266560" y="1931760"/>
            <a:ext cx="34203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Oval 8"/>
          <p:cNvSpPr/>
          <p:nvPr/>
        </p:nvSpPr>
        <p:spPr>
          <a:xfrm>
            <a:off x="231840" y="4338720"/>
            <a:ext cx="2035080" cy="39672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Straight Arrow Connector 9"/>
          <p:cNvCxnSpPr/>
          <p:nvPr/>
        </p:nvCxnSpPr>
        <p:spPr>
          <a:xfrm>
            <a:off x="2266560" y="4543200"/>
            <a:ext cx="34203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1" name="Rectangle 8"/>
          <p:cNvSpPr/>
          <p:nvPr/>
        </p:nvSpPr>
        <p:spPr>
          <a:xfrm>
            <a:off x="5915160" y="1700280"/>
            <a:ext cx="2847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 belong to a specific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9021-3038-41BB-91D1-EECDEDB5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0880" y="1828800"/>
            <a:ext cx="83822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variables are shared by all the instances of the class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methods are not tied to a specific objec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constants are final variables shared by all the instances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5F9-E593-4DED-A8A4-F51B9AD25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ariables, Constant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80880" y="2390760"/>
            <a:ext cx="8382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ic constants are final variables shared by all the instances of the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f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al static numberofobjec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07960" y="427356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clare static variables, constants, and methods, use the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tatic modif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ECE-34FB-4A9E-B573-CB8C4D18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nstance and Class Variables an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Demonstrate the roles of instance and class variables and their uses. This example adds a class variable numberOfObjects to track the number of Circle objects created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1038240" y="5810400"/>
            <a:ext cx="4456080" cy="514080"/>
          </a:xfrm>
          <a:custGeom>
            <a:avLst/>
            <a:gdLst>
              <a:gd name="textAreaLeft" fmla="*/ 33120 w 4456080"/>
              <a:gd name="textAreaRight" fmla="*/ 4422960 w 445608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187114" h="21600">
                <a:moveTo>
                  <a:pt x="0" y="0"/>
                </a:moveTo>
                <a:lnTo>
                  <a:pt x="187114" y="0"/>
                </a:lnTo>
                <a:lnTo>
                  <a:pt x="187114" y="21600"/>
                </a:lnTo>
                <a:lnTo>
                  <a:pt x="0" y="21600"/>
                </a:lnTo>
                <a:close/>
              </a:path>
              <a:path fill="lightenLess" w="187114" h="21600">
                <a:moveTo>
                  <a:pt x="0" y="0"/>
                </a:moveTo>
                <a:lnTo>
                  <a:pt x="187114" y="0"/>
                </a:lnTo>
                <a:lnTo>
                  <a:pt x="185714" y="1400"/>
                </a:lnTo>
                <a:lnTo>
                  <a:pt x="1400" y="1400"/>
                </a:lnTo>
                <a:close/>
              </a:path>
              <a:path fill="darken" w="187114" h="21600">
                <a:moveTo>
                  <a:pt x="187114" y="0"/>
                </a:moveTo>
                <a:lnTo>
                  <a:pt x="187114" y="21600"/>
                </a:lnTo>
                <a:lnTo>
                  <a:pt x="185714" y="20200"/>
                </a:lnTo>
                <a:lnTo>
                  <a:pt x="185714" y="1400"/>
                </a:lnTo>
                <a:close/>
              </a:path>
              <a:path fill="darkenLess" w="187114" h="21600">
                <a:moveTo>
                  <a:pt x="187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714" y="20200"/>
                </a:lnTo>
                <a:close/>
              </a:path>
              <a:path fill="lighten" w="187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WithStatic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2">
            <a:hlinkClick r:id="rId1"/>
          </p:cNvPr>
          <p:cNvSpPr/>
          <p:nvPr/>
        </p:nvSpPr>
        <p:spPr>
          <a:xfrm>
            <a:off x="5686560" y="5810400"/>
            <a:ext cx="1523880" cy="53316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038240" y="5105520"/>
            <a:ext cx="4416480" cy="533160"/>
          </a:xfrm>
          <a:custGeom>
            <a:avLst/>
            <a:gdLst>
              <a:gd name="textAreaLeft" fmla="*/ 34560 w 4416480"/>
              <a:gd name="textAreaRight" fmla="*/ 4381920 w 4416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78819" h="21600">
                <a:moveTo>
                  <a:pt x="0" y="0"/>
                </a:moveTo>
                <a:lnTo>
                  <a:pt x="178819" y="0"/>
                </a:lnTo>
                <a:lnTo>
                  <a:pt x="178819" y="21600"/>
                </a:lnTo>
                <a:lnTo>
                  <a:pt x="0" y="21600"/>
                </a:lnTo>
                <a:close/>
              </a:path>
              <a:path fill="lightenLess" w="178819" h="21600">
                <a:moveTo>
                  <a:pt x="0" y="0"/>
                </a:moveTo>
                <a:lnTo>
                  <a:pt x="178819" y="0"/>
                </a:lnTo>
                <a:lnTo>
                  <a:pt x="177419" y="1400"/>
                </a:lnTo>
                <a:lnTo>
                  <a:pt x="1400" y="1400"/>
                </a:lnTo>
                <a:close/>
              </a:path>
              <a:path fill="darken" w="178819" h="21600">
                <a:moveTo>
                  <a:pt x="178819" y="0"/>
                </a:moveTo>
                <a:lnTo>
                  <a:pt x="178819" y="21600"/>
                </a:lnTo>
                <a:lnTo>
                  <a:pt x="177419" y="20200"/>
                </a:lnTo>
                <a:lnTo>
                  <a:pt x="177419" y="1400"/>
                </a:lnTo>
                <a:close/>
              </a:path>
              <a:path fill="darkenLess" w="178819" h="21600">
                <a:moveTo>
                  <a:pt x="17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19" y="20200"/>
                </a:lnTo>
                <a:close/>
              </a:path>
              <a:path fill="lighten" w="17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CircleWithStatic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461880" y="581040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61880" y="507996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3889440" y="195120"/>
            <a:ext cx="5187960" cy="557712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08E-1447-4B76-98A0-FDE18F0E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0" y="203040"/>
            <a:ext cx="3889440" cy="556920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4133880" y="1542960"/>
            <a:ext cx="483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creat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umber of Circle objects is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creating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1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creating c2 and modifying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9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2: radiu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number of Circle objects (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3:08:39Z</dcterms:modified>
  <cp:revision>311</cp:revision>
  <dc:subject/>
  <dc:title>Chapter 6 Objects and Classes</dc:title>
</cp:coreProperties>
</file>