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1.wmf" ContentType="image/x-wmf"/>
  <Override PartName="/ppt/media/image3.png" ContentType="image/png"/>
  <Override PartName="/ppt/media/image12.png" ContentType="image/png"/>
  <Override PartName="/ppt/media/image3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299B-A76D-4619-A2B0-86DAB6EA70E0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90E-D174-4F12-9023-F1CA1B6D2B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F4E9-C7E3-4885-8AF6-1D0E46435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7736-80BF-4B7C-AA04-67D7F360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85BE-94B9-4217-B000-9F9A8D42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DC35-707E-4816-A03D-03614C814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5C401-ED2C-4FA9-9033-B68167D4C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2A7EC-A845-4605-B381-AA62AC25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9B550-6BE4-4A57-8F76-FD6F305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99021-4C91-4C03-9C55-99B7DF99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3F60C-E85C-44AA-842A-6C81CD7C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E9E6D-6324-4796-A0E4-6463FB1D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BEFE4-DC45-4E56-B1EE-5829317F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3120-B255-4473-8B69-C5FDA04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B687E-27B6-46F3-812D-E573CA1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646D0-0F59-474C-B80E-433638E8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121BB-25C8-458C-986C-A92354C3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0F6D3-A9C5-47A0-B1AF-13C8830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BA809-7D5B-42D8-9BCC-C599D172F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ECA6-92F7-4842-8CEF-CC538864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287B-9CE8-463F-8540-5254FFEB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6913-CD7C-48AE-B718-F390C23E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AE4E-E7B2-4F8C-AFB7-23DD2F86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D432-4026-4ABE-BEB1-74033638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A1C3-CCEE-40DC-9699-B22D10C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C24E-8F6B-40DB-8FCE-D6FE5E4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602-F517-46B9-87F3-DB8BEF3D9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295E-4F2A-44F6-8CFF-99A941398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ml/TestSimpleCircle.bat" TargetMode="External"/><Relationship Id="rId2" Type="http://schemas.openxmlformats.org/officeDocument/2006/relationships/hyperlink" Target="http://www.cs.armstrong.edu/liang/intro10e/html/TestSimpleCircle.html" TargetMode="External"/><Relationship Id="rId3" Type="http://schemas.openxmlformats.org/officeDocument/2006/relationships/hyperlink" Target="http://www.cs.armstrong.edu/liang/animation/web/java10e/Listing9_1.html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ml/TestTV.bat" TargetMode="External"/><Relationship Id="rId2" Type="http://schemas.openxmlformats.org/officeDocument/2006/relationships/hyperlink" Target="http://www.cs.armstrong.edu/liang/intro10e/html/TestTV.html" TargetMode="External"/><Relationship Id="rId3" Type="http://schemas.openxmlformats.org/officeDocument/2006/relationships/hyperlink" Target="http://www.cs.armstrong.edu/liang/intro10e/html/TV.html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5DFF-B7FA-4972-BB51-69638D5D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7800" y="1700280"/>
            <a:ext cx="7804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 Objects and Cla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52D-5EE6-467B-AB1E-5521CAFB7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xample: Defining Classes and Creating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3680" y="2133720"/>
            <a:ext cx="87566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Demonstrate creating objects, accessing data, and using methods.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2344680" y="5272200"/>
            <a:ext cx="3276720" cy="533160"/>
          </a:xfrm>
          <a:custGeom>
            <a:avLst/>
            <a:gdLst>
              <a:gd name="textAreaLeft" fmla="*/ 34560 w 3276720"/>
              <a:gd name="textAreaRight" fmla="*/ 3242160 w 3276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2675" h="21600">
                <a:moveTo>
                  <a:pt x="0" y="0"/>
                </a:moveTo>
                <a:lnTo>
                  <a:pt x="132675" y="0"/>
                </a:lnTo>
                <a:lnTo>
                  <a:pt x="132675" y="21600"/>
                </a:lnTo>
                <a:lnTo>
                  <a:pt x="0" y="21600"/>
                </a:lnTo>
                <a:close/>
              </a:path>
              <a:path fill="lightenLess" w="132675" h="21600">
                <a:moveTo>
                  <a:pt x="0" y="0"/>
                </a:moveTo>
                <a:lnTo>
                  <a:pt x="132675" y="0"/>
                </a:lnTo>
                <a:lnTo>
                  <a:pt x="131275" y="1400"/>
                </a:lnTo>
                <a:lnTo>
                  <a:pt x="1400" y="1400"/>
                </a:lnTo>
                <a:close/>
              </a:path>
              <a:path fill="darken" w="132675" h="21600">
                <a:moveTo>
                  <a:pt x="132675" y="0"/>
                </a:moveTo>
                <a:lnTo>
                  <a:pt x="132675" y="21600"/>
                </a:lnTo>
                <a:lnTo>
                  <a:pt x="131275" y="20200"/>
                </a:lnTo>
                <a:lnTo>
                  <a:pt x="131275" y="1400"/>
                </a:lnTo>
                <a:close/>
              </a:path>
              <a:path fill="darkenLess" w="132675" h="21600">
                <a:moveTo>
                  <a:pt x="132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275" y="20200"/>
                </a:lnTo>
                <a:close/>
              </a:path>
              <a:path fill="lighten" w="132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Simple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0">
            <a:hlinkClick r:id="rId1"/>
          </p:cNvPr>
          <p:cNvSpPr/>
          <p:nvPr/>
        </p:nvSpPr>
        <p:spPr>
          <a:xfrm>
            <a:off x="5954760" y="527220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1">
            <a:hlinkClick r:id="rId2"/>
          </p:cNvPr>
          <p:cNvSpPr/>
          <p:nvPr/>
        </p:nvSpPr>
        <p:spPr>
          <a:xfrm>
            <a:off x="1652760" y="5234040"/>
            <a:ext cx="468000" cy="576360"/>
          </a:xfrm>
          <a:custGeom>
            <a:avLst/>
            <a:gdLst>
              <a:gd name="textAreaLeft" fmla="*/ 30240 w 468000"/>
              <a:gd name="textAreaRight" fmla="*/ 437760 w 46800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97">
                <a:moveTo>
                  <a:pt x="0" y="0"/>
                </a:moveTo>
                <a:lnTo>
                  <a:pt x="21600" y="0"/>
                </a:lnTo>
                <a:lnTo>
                  <a:pt x="21600" y="26597"/>
                </a:lnTo>
                <a:lnTo>
                  <a:pt x="0" y="26597"/>
                </a:lnTo>
                <a:close/>
              </a:path>
              <a:path fill="lightenLess" w="21600" h="265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97">
                <a:moveTo>
                  <a:pt x="21600" y="0"/>
                </a:moveTo>
                <a:lnTo>
                  <a:pt x="21600" y="26597"/>
                </a:lnTo>
                <a:lnTo>
                  <a:pt x="20200" y="25197"/>
                </a:lnTo>
                <a:lnTo>
                  <a:pt x="20200" y="1400"/>
                </a:lnTo>
                <a:close/>
              </a:path>
              <a:path fill="darkenLess" w="21600" h="26597">
                <a:moveTo>
                  <a:pt x="21600" y="26597"/>
                </a:moveTo>
                <a:lnTo>
                  <a:pt x="0" y="26597"/>
                </a:lnTo>
                <a:lnTo>
                  <a:pt x="1400" y="25197"/>
                </a:lnTo>
                <a:lnTo>
                  <a:pt x="20200" y="25197"/>
                </a:lnTo>
                <a:close/>
              </a:path>
              <a:path fill="lighten" w="21600" h="26597">
                <a:moveTo>
                  <a:pt x="0" y="265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97"/>
                </a:lnTo>
                <a:close/>
              </a:path>
              <a:path fill="darkenLess" w="21600" h="26597">
                <a:moveTo>
                  <a:pt x="5273" y="6484"/>
                </a:moveTo>
                <a:lnTo>
                  <a:pt x="12271" y="6484"/>
                </a:lnTo>
                <a:lnTo>
                  <a:pt x="16327" y="9983"/>
                </a:lnTo>
                <a:lnTo>
                  <a:pt x="16327" y="20114"/>
                </a:lnTo>
                <a:lnTo>
                  <a:pt x="5273" y="20114"/>
                </a:lnTo>
                <a:close/>
              </a:path>
              <a:path fill="darken" w="21600" h="26597">
                <a:moveTo>
                  <a:pt x="12271" y="6484"/>
                </a:moveTo>
                <a:lnTo>
                  <a:pt x="16327" y="9983"/>
                </a:lnTo>
                <a:lnTo>
                  <a:pt x="12271" y="9983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AutoShape 4"/>
          <p:cNvGrpSpPr/>
          <p:nvPr/>
        </p:nvGrpSpPr>
        <p:grpSpPr>
          <a:xfrm>
            <a:off x="4059360" y="4773600"/>
            <a:ext cx="1939680" cy="762120"/>
            <a:chOff x="4059360" y="4773600"/>
            <a:chExt cx="1939680" cy="762120"/>
          </a:xfrm>
        </p:grpSpPr>
        <p:pic>
          <p:nvPicPr>
            <p:cNvPr id="217" name="AutoShape 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059360" y="4773600"/>
              <a:ext cx="1939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264200" y="4865760"/>
              <a:ext cx="15238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i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E85C-0145-4887-A21E-0D82F355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5840" y="345960"/>
            <a:ext cx="4518000" cy="492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4648320" y="406440"/>
            <a:ext cx="41432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65708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 Television sets.Each TV is 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772E-2330-4A36-954C-65725912A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422360" y="438948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n o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287960" y="4335480"/>
            <a:ext cx="22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on or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Image result for think"/>
          <p:cNvPicPr/>
          <p:nvPr/>
        </p:nvPicPr>
        <p:blipFill>
          <a:blip r:embed="rId1"/>
          <a:stretch/>
        </p:blipFill>
        <p:spPr>
          <a:xfrm>
            <a:off x="81000" y="763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5186520" y="2476440"/>
            <a:ext cx="18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5302080" y="25081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308240" y="3592440"/>
            <a:ext cx="2144520" cy="527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408560" y="3592440"/>
            <a:ext cx="2144520" cy="527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3DC-FE05-4324-986F-D0AB21F74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60" y="124920"/>
            <a:ext cx="890928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: Defining Classes and Creat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3419640" y="5886360"/>
            <a:ext cx="3276360" cy="533520"/>
          </a:xfrm>
          <a:custGeom>
            <a:avLst/>
            <a:gdLst>
              <a:gd name="textAreaLeft" fmla="*/ 34560 w 3276360"/>
              <a:gd name="textAreaRight" fmla="*/ 3241800 w 3276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2571" h="21600">
                <a:moveTo>
                  <a:pt x="0" y="0"/>
                </a:moveTo>
                <a:lnTo>
                  <a:pt x="132571" y="0"/>
                </a:lnTo>
                <a:lnTo>
                  <a:pt x="132571" y="21600"/>
                </a:lnTo>
                <a:lnTo>
                  <a:pt x="0" y="21600"/>
                </a:lnTo>
                <a:close/>
              </a:path>
              <a:path fill="lightenLess" w="132571" h="21600">
                <a:moveTo>
                  <a:pt x="0" y="0"/>
                </a:moveTo>
                <a:lnTo>
                  <a:pt x="132571" y="0"/>
                </a:lnTo>
                <a:lnTo>
                  <a:pt x="131171" y="1400"/>
                </a:lnTo>
                <a:lnTo>
                  <a:pt x="1400" y="1400"/>
                </a:lnTo>
                <a:close/>
              </a:path>
              <a:path fill="darken" w="132571" h="21600">
                <a:moveTo>
                  <a:pt x="132571" y="0"/>
                </a:moveTo>
                <a:lnTo>
                  <a:pt x="132571" y="21600"/>
                </a:lnTo>
                <a:lnTo>
                  <a:pt x="131171" y="20200"/>
                </a:lnTo>
                <a:lnTo>
                  <a:pt x="131171" y="1400"/>
                </a:lnTo>
                <a:close/>
              </a:path>
              <a:path fill="darkenLess" w="132571" h="21600">
                <a:moveTo>
                  <a:pt x="132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171" y="20200"/>
                </a:lnTo>
                <a:close/>
              </a:path>
              <a:path fill="lighten" w="132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>
            <a:hlinkClick r:id="rId1"/>
          </p:cNvPr>
          <p:cNvSpPr/>
          <p:nvPr/>
        </p:nvSpPr>
        <p:spPr>
          <a:xfrm>
            <a:off x="7029360" y="58723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1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1" y="20200"/>
                </a:lnTo>
                <a:lnTo>
                  <a:pt x="66091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1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381480" y="5234040"/>
            <a:ext cx="3276360" cy="533520"/>
          </a:xfrm>
          <a:custGeom>
            <a:avLst/>
            <a:gdLst>
              <a:gd name="textAreaLeft" fmla="*/ 34560 w 3276360"/>
              <a:gd name="textAreaRight" fmla="*/ 3241800 w 3276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2571" h="21600">
                <a:moveTo>
                  <a:pt x="0" y="0"/>
                </a:moveTo>
                <a:lnTo>
                  <a:pt x="132571" y="0"/>
                </a:lnTo>
                <a:lnTo>
                  <a:pt x="132571" y="21600"/>
                </a:lnTo>
                <a:lnTo>
                  <a:pt x="0" y="21600"/>
                </a:lnTo>
                <a:close/>
              </a:path>
              <a:path fill="lightenLess" w="132571" h="21600">
                <a:moveTo>
                  <a:pt x="0" y="0"/>
                </a:moveTo>
                <a:lnTo>
                  <a:pt x="132571" y="0"/>
                </a:lnTo>
                <a:lnTo>
                  <a:pt x="131171" y="1400"/>
                </a:lnTo>
                <a:lnTo>
                  <a:pt x="1400" y="1400"/>
                </a:lnTo>
                <a:close/>
              </a:path>
              <a:path fill="darken" w="132571" h="21600">
                <a:moveTo>
                  <a:pt x="132571" y="0"/>
                </a:moveTo>
                <a:lnTo>
                  <a:pt x="132571" y="21600"/>
                </a:lnTo>
                <a:lnTo>
                  <a:pt x="131171" y="20200"/>
                </a:lnTo>
                <a:lnTo>
                  <a:pt x="131171" y="1400"/>
                </a:lnTo>
                <a:close/>
              </a:path>
              <a:path fill="darkenLess" w="132571" h="21600">
                <a:moveTo>
                  <a:pt x="132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171" y="20200"/>
                </a:lnTo>
                <a:close/>
              </a:path>
              <a:path fill="lighten" w="132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>
            <a:hlinkClick r:id="rId2"/>
          </p:cNvPr>
          <p:cNvSpPr/>
          <p:nvPr/>
        </p:nvSpPr>
        <p:spPr>
          <a:xfrm>
            <a:off x="2727360" y="58482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8">
            <a:hlinkClick r:id="rId3"/>
          </p:cNvPr>
          <p:cNvSpPr/>
          <p:nvPr/>
        </p:nvSpPr>
        <p:spPr>
          <a:xfrm>
            <a:off x="2728800" y="521028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10"/>
          <p:cNvGraphicFramePr/>
          <p:nvPr/>
        </p:nvGraphicFramePr>
        <p:xfrm>
          <a:off x="0" y="893880"/>
          <a:ext cx="9144000" cy="395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93880"/>
                    <a:ext cx="91440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A09-8F2E-484A-886F-3382A34FE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4379760" y="233280"/>
            <a:ext cx="4206960" cy="323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3"/>
          <a:stretch/>
        </p:blipFill>
        <p:spPr>
          <a:xfrm>
            <a:off x="79200" y="25560"/>
            <a:ext cx="399132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DA1-F9DC-4A15-A754-C9D212145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F1E-97E1-4D3C-910B-2CF62E6FC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irc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ircle(double newRadius) {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dius = newRadi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4303800" y="158904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arg constr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FC4-B751-4CF1-A2D9-2AECECA2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 special about Constructor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1143000"/>
            <a:ext cx="85345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a special kind of methods that are invoked to construct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must have the same name as the class itsel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do not have a return type—not even vo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are invoked using the new operator when an object is cre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play the role of initializing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70EB-248A-4ECA-9565-4E1B9270F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0880" y="129528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class may be defined without constructors. In this case, a no-arg constructor with an empty body is implicitly defined in the class. This constructor,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default constru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is provided auto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nly if no constructors are explicitly defined in the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3AF-FCF8-4490-BBE8-7CF91935C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Objects Using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new ClassName(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Circ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 Circle(5.0);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4917960" y="3851280"/>
          <a:ext cx="268776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385128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4916520" y="2722680"/>
          <a:ext cx="269064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6520" y="2722680"/>
                    <a:ext cx="26906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1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2C34-C0B6-4F91-A36B-EDB82007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4767120" y="1128600"/>
            <a:ext cx="3571920" cy="4835520"/>
            <a:chOff x="4767120" y="1128600"/>
            <a:chExt cx="3571920" cy="4835520"/>
          </a:xfrm>
        </p:grpSpPr>
        <p:sp>
          <p:nvSpPr>
            <p:cNvPr id="156" name="Rounded Rectangle 16"/>
            <p:cNvSpPr/>
            <p:nvPr/>
          </p:nvSpPr>
          <p:spPr>
            <a:xfrm>
              <a:off x="4767120" y="1128600"/>
              <a:ext cx="3571920" cy="48355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835520"/>
                <a:gd name="textAreaBottom" fmla="*/ 4661280 h 4835520"/>
              </a:gdLst>
              <a:ahLst/>
              <a:rect l="textAreaLeft" t="textAreaTop" r="textAreaRight" b="textAreaBottom"/>
              <a:pathLst>
                <a:path w="21600" h="29240">
                  <a:moveTo>
                    <a:pt x="3600" y="0"/>
                  </a:moveTo>
                  <a:arcTo wR="3600" hR="3600" stAng="16200000" swAng="-5400000"/>
                  <a:lnTo>
                    <a:pt x="0" y="25640"/>
                  </a:lnTo>
                  <a:arcTo wR="3600" hR="3600" stAng="10800000" swAng="-5400000"/>
                  <a:lnTo>
                    <a:pt x="18000" y="29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bject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10" descr=""/>
            <p:cNvPicPr/>
            <p:nvPr/>
          </p:nvPicPr>
          <p:blipFill>
            <a:blip r:embed="rId1"/>
            <a:stretch/>
          </p:blipFill>
          <p:spPr>
            <a:xfrm>
              <a:off x="4875120" y="3074040"/>
              <a:ext cx="3349800" cy="13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"/>
            <p:cNvPicPr/>
            <p:nvPr/>
          </p:nvPicPr>
          <p:blipFill>
            <a:blip r:embed="rId2"/>
            <a:srcRect l="0" t="0" r="2222" b="18350"/>
            <a:stretch/>
          </p:blipFill>
          <p:spPr>
            <a:xfrm>
              <a:off x="4957560" y="4448880"/>
              <a:ext cx="32086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4" descr=""/>
            <p:cNvPicPr/>
            <p:nvPr/>
          </p:nvPicPr>
          <p:blipFill>
            <a:blip r:embed="rId3"/>
            <a:srcRect l="2381" t="5911" r="0" b="12202"/>
            <a:stretch/>
          </p:blipFill>
          <p:spPr>
            <a:xfrm>
              <a:off x="4957560" y="1807920"/>
              <a:ext cx="3250800" cy="113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Rounded Rectangle 18"/>
          <p:cNvSpPr/>
          <p:nvPr/>
        </p:nvSpPr>
        <p:spPr>
          <a:xfrm>
            <a:off x="770040" y="1389240"/>
            <a:ext cx="3571920" cy="4456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456080"/>
              <a:gd name="textAreaBottom" fmla="*/ 4281840 h 4456080"/>
            </a:gdLst>
            <a:ahLst/>
            <a:rect l="textAreaLeft" t="textAreaTop" r="textAreaRight" b="textAreaBottom"/>
            <a:pathLst>
              <a:path w="21600" h="26946">
                <a:moveTo>
                  <a:pt x="3600" y="0"/>
                </a:moveTo>
                <a:arcTo wR="3600" hR="3600" stAng="16200000" swAng="-5400000"/>
                <a:lnTo>
                  <a:pt x="0" y="23346"/>
                </a:lnTo>
                <a:arcTo wR="3600" hR="3600" stAng="10800000" swAng="-5400000"/>
                <a:lnTo>
                  <a:pt x="18000" y="26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1"/>
          <p:cNvGrpSpPr/>
          <p:nvPr/>
        </p:nvGrpSpPr>
        <p:grpSpPr>
          <a:xfrm>
            <a:off x="1000080" y="3063960"/>
            <a:ext cx="3111480" cy="1344600"/>
            <a:chOff x="1000080" y="3063960"/>
            <a:chExt cx="3111480" cy="1344600"/>
          </a:xfrm>
        </p:grpSpPr>
        <p:sp>
          <p:nvSpPr>
            <p:cNvPr id="162" name="Straight Connector 35"/>
            <p:cNvSpPr/>
            <p:nvPr/>
          </p:nvSpPr>
          <p:spPr>
            <a:xfrm>
              <a:off x="1000080" y="4132800"/>
              <a:ext cx="3111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40"/>
            <p:cNvGrpSpPr/>
            <p:nvPr/>
          </p:nvGrpSpPr>
          <p:grpSpPr>
            <a:xfrm>
              <a:off x="1000080" y="3063960"/>
              <a:ext cx="3111480" cy="1344600"/>
              <a:chOff x="1000080" y="3063960"/>
              <a:chExt cx="3111480" cy="1344600"/>
            </a:xfrm>
          </p:grpSpPr>
          <p:sp>
            <p:nvSpPr>
              <p:cNvPr id="164" name="Straight Connector 31"/>
              <p:cNvSpPr/>
              <p:nvPr/>
            </p:nvSpPr>
            <p:spPr>
              <a:xfrm>
                <a:off x="4111560" y="3512160"/>
                <a:ext cx="0" cy="62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39"/>
              <p:cNvGrpSpPr/>
              <p:nvPr/>
            </p:nvGrpSpPr>
            <p:grpSpPr>
              <a:xfrm>
                <a:off x="1000080" y="3063960"/>
                <a:ext cx="3111480" cy="1344600"/>
                <a:chOff x="1000080" y="3063960"/>
                <a:chExt cx="3111480" cy="1344600"/>
              </a:xfrm>
            </p:grpSpPr>
            <p:sp>
              <p:nvSpPr>
                <p:cNvPr id="166" name="Straight Connector 20"/>
                <p:cNvSpPr/>
                <p:nvPr/>
              </p:nvSpPr>
              <p:spPr>
                <a:xfrm>
                  <a:off x="2005920" y="3063960"/>
                  <a:ext cx="100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Straight Connector 22"/>
                <p:cNvSpPr/>
                <p:nvPr/>
              </p:nvSpPr>
              <p:spPr>
                <a:xfrm flipH="1">
                  <a:off x="1690920" y="3063960"/>
                  <a:ext cx="314280" cy="44820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Straight Connector 24"/>
                <p:cNvSpPr/>
                <p:nvPr/>
              </p:nvSpPr>
              <p:spPr>
                <a:xfrm>
                  <a:off x="3043080" y="3063960"/>
                  <a:ext cx="282600" cy="44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Straight Connector 27"/>
                <p:cNvSpPr/>
                <p:nvPr/>
              </p:nvSpPr>
              <p:spPr>
                <a:xfrm>
                  <a:off x="3326040" y="3512160"/>
                  <a:ext cx="785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Straight Connector 29"/>
                <p:cNvSpPr/>
                <p:nvPr/>
              </p:nvSpPr>
              <p:spPr>
                <a:xfrm flipH="1">
                  <a:off x="1000080" y="3512160"/>
                  <a:ext cx="691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Straight Connector 33"/>
                <p:cNvSpPr/>
                <p:nvPr/>
              </p:nvSpPr>
              <p:spPr>
                <a:xfrm>
                  <a:off x="1000080" y="3512160"/>
                  <a:ext cx="0" cy="62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Oval 37"/>
                <p:cNvSpPr/>
                <p:nvPr/>
              </p:nvSpPr>
              <p:spPr>
                <a:xfrm>
                  <a:off x="304308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38"/>
                <p:cNvSpPr/>
                <p:nvPr/>
              </p:nvSpPr>
              <p:spPr>
                <a:xfrm>
                  <a:off x="177012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9744-2078-4B22-A1E0-133B685ED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 Object Reference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eclare a reference variable, use the syntax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assName objectRefVa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rcle myCirc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1652760" y="5041800"/>
            <a:ext cx="500040" cy="422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Straight Arrow Connector 3"/>
          <p:cNvCxnSpPr/>
          <p:nvPr/>
        </p:nvCxnSpPr>
        <p:spPr>
          <a:xfrm>
            <a:off x="1922040" y="5233680"/>
            <a:ext cx="2035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4"/>
          <p:cNvSpPr/>
          <p:nvPr/>
        </p:nvSpPr>
        <p:spPr>
          <a:xfrm>
            <a:off x="1346040" y="4543560"/>
            <a:ext cx="1613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4111560" y="4967280"/>
            <a:ext cx="1612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FFB-D19E-4B6F-B8A7-03EF44ACD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l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28120" y="223848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data field of a reference type does not reference any object, the data field holds a special literal value, nu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D9ED-559D-48BE-83DC-D7E820AD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/Creating Obje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Single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99061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Nam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bjectRefV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new ClassNam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ircle myCircle = new Circle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657600" y="3809880"/>
            <a:ext cx="2590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49528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875840" y="2968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n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 flipV="1">
            <a:off x="3276720" y="3505320"/>
            <a:ext cx="3808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 flipH="1">
            <a:off x="2666880" y="3505320"/>
            <a:ext cx="609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139480" y="29718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 object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8"/>
          <p:cNvGraphicFramePr/>
          <p:nvPr/>
        </p:nvGraphicFramePr>
        <p:xfrm>
          <a:off x="3862440" y="4707000"/>
          <a:ext cx="26906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2440" y="4707000"/>
                    <a:ext cx="26906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11"/>
          <p:cNvSpPr/>
          <p:nvPr/>
        </p:nvSpPr>
        <p:spPr>
          <a:xfrm>
            <a:off x="1652760" y="5041800"/>
            <a:ext cx="500040" cy="422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2"/>
          <p:cNvCxnSpPr/>
          <p:nvPr/>
        </p:nvCxnSpPr>
        <p:spPr>
          <a:xfrm>
            <a:off x="1922040" y="5233680"/>
            <a:ext cx="2035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Rectangle 13"/>
          <p:cNvSpPr/>
          <p:nvPr/>
        </p:nvSpPr>
        <p:spPr>
          <a:xfrm>
            <a:off x="1346040" y="4543560"/>
            <a:ext cx="1613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52D0-55CE-4AD2-9A9E-240FB6AF8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Object’s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ing the object’s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bjectRefVar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Circle.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ing the object’s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bjectRefVar.methodName(argumen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Circle.get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7C8B-7880-4730-A662-A6FCEF93F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Data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fields can be of reference types or prim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53960" y="2108160"/>
            <a:ext cx="861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tud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ge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sScienceMajor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gender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'\u000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2482920" y="158580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the default values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3960" y="2111400"/>
            <a:ext cx="861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tud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ge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sScienceMaj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gend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'\u000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53960" y="3794040"/>
            <a:ext cx="8763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udent student = new Stud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name? " + student.nam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age? " + student.ag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isScienceMajor? " + student.isScienceMajo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gender? " + student.gende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18A9-CF3D-440C-A774-5286FE89F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80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5920" y="174096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x is " + 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y is " +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H="1">
            <a:off x="2819520" y="3238560"/>
            <a:ext cx="2133360" cy="1676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H="1">
            <a:off x="3047760" y="3541680"/>
            <a:ext cx="1904760" cy="129528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33360" y="4390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 error: variable not initi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746520" y="449424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ssigns no default value to a local variable inside a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2C4D-F35F-48DE-91FB-B88465E1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821880"/>
            <a:ext cx="91440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ces between Variabl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mitive Data Types and Object Typ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311292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37168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Object 10"/>
          <p:cNvGraphicFramePr/>
          <p:nvPr/>
        </p:nvGraphicFramePr>
        <p:xfrm>
          <a:off x="423720" y="2265480"/>
          <a:ext cx="861084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2265480"/>
                    <a:ext cx="861084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8743-1021-448A-94D6-FC1EE8D4F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Variables of Primitive Data Types and Objec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384200" y="1662120"/>
            <a:ext cx="618336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9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rimitive type assign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i =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30520" y="2830680"/>
            <a:ext cx="2457360" cy="2608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4424400" y="2824200"/>
            <a:ext cx="2374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F10D-FFE2-4439-84E2-4643C5BE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Variables of Primitive Data Types and Objec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806480" y="1623960"/>
            <a:ext cx="5194440" cy="8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bject type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1 =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720720" y="2575080"/>
            <a:ext cx="2979720" cy="3273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4680000" y="2724120"/>
            <a:ext cx="2825640" cy="3162240"/>
          </a:xfrm>
          <a:prstGeom prst="rect">
            <a:avLst/>
          </a:prstGeom>
          <a:ln w="0">
            <a:noFill/>
          </a:ln>
        </p:spPr>
      </p:pic>
      <p:sp>
        <p:nvSpPr>
          <p:cNvPr id="330" name="&quot;No&quot; Symbol 7"/>
          <p:cNvSpPr/>
          <p:nvPr/>
        </p:nvSpPr>
        <p:spPr>
          <a:xfrm>
            <a:off x="5176800" y="3848040"/>
            <a:ext cx="397080" cy="398520"/>
          </a:xfrm>
          <a:custGeom>
            <a:avLst/>
            <a:gdLst/>
            <a:ahLst/>
            <a:rect l="l" t="t" r="r" b="b"/>
            <a:pathLst>
              <a:path w="396875" h="398463">
                <a:moveTo>
                  <a:pt x="0" y="199232"/>
                </a:moveTo>
                <a:cubicBezTo>
                  <a:pt x="0" y="89199"/>
                  <a:pt x="88844" y="0"/>
                  <a:pt x="198438" y="0"/>
                </a:cubicBezTo>
                <a:cubicBezTo>
                  <a:pt x="308032" y="0"/>
                  <a:pt x="396876" y="89199"/>
                  <a:pt x="396876" y="199232"/>
                </a:cubicBezTo>
                <a:cubicBezTo>
                  <a:pt x="396876" y="309265"/>
                  <a:pt x="308032" y="398464"/>
                  <a:pt x="198438" y="398464"/>
                </a:cubicBezTo>
                <a:cubicBezTo>
                  <a:pt x="88844" y="398464"/>
                  <a:pt x="0" y="309265"/>
                  <a:pt x="0" y="199232"/>
                </a:cubicBezTo>
                <a:close/>
                <a:moveTo>
                  <a:pt x="307624" y="258430"/>
                </a:moveTo>
                <a:cubicBezTo>
                  <a:pt x="333492" y="210106"/>
                  <a:pt x="324954" y="150446"/>
                  <a:pt x="286589" y="111432"/>
                </a:cubicBezTo>
                <a:cubicBezTo>
                  <a:pt x="247845" y="72033"/>
                  <a:pt x="187924" y="63070"/>
                  <a:pt x="139470" y="89426"/>
                </a:cubicBezTo>
                <a:lnTo>
                  <a:pt x="307624" y="258430"/>
                </a:lnTo>
                <a:close/>
                <a:moveTo>
                  <a:pt x="89251" y="140033"/>
                </a:moveTo>
                <a:cubicBezTo>
                  <a:pt x="63383" y="188357"/>
                  <a:pt x="71921" y="248017"/>
                  <a:pt x="110286" y="287031"/>
                </a:cubicBezTo>
                <a:cubicBezTo>
                  <a:pt x="149030" y="326430"/>
                  <a:pt x="208951" y="335393"/>
                  <a:pt x="257405" y="309037"/>
                </a:cubicBezTo>
                <a:lnTo>
                  <a:pt x="89251" y="140033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Straight Arrow Connector 9"/>
          <p:cNvCxnSpPr/>
          <p:nvPr/>
        </p:nvCxnSpPr>
        <p:spPr>
          <a:xfrm>
            <a:off x="6222960" y="3658680"/>
            <a:ext cx="923040" cy="1080"/>
          </a:xfrm>
          <a:prstGeom prst="straightConnector1">
            <a:avLst/>
          </a:prstGeom>
          <a:ln w="28440">
            <a:solidFill>
              <a:srgbClr val="ff5050"/>
            </a:solidFill>
            <a:miter/>
          </a:ln>
        </p:spPr>
      </p:cxnSp>
      <p:cxnSp>
        <p:nvCxnSpPr>
          <p:cNvPr id="332" name="Straight Arrow Connector 11"/>
          <p:cNvCxnSpPr/>
          <p:nvPr/>
        </p:nvCxnSpPr>
        <p:spPr>
          <a:xfrm>
            <a:off x="7144920" y="3658680"/>
            <a:ext cx="1080" cy="1445040"/>
          </a:xfrm>
          <a:prstGeom prst="straightConnector1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FA3-FFC6-4E69-AB4B-919945C7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120" y="4481280"/>
            <a:ext cx="8417160" cy="12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is known as garbage. Garbage is automatically collected by JV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035160" y="1009800"/>
            <a:ext cx="2851200" cy="2849400"/>
          </a:xfrm>
          <a:prstGeom prst="rect">
            <a:avLst/>
          </a:prstGeom>
          <a:ln w="0">
            <a:noFill/>
          </a:ln>
        </p:spPr>
      </p:pic>
      <p:sp>
        <p:nvSpPr>
          <p:cNvPr id="337" name="Oval 3"/>
          <p:cNvSpPr/>
          <p:nvPr/>
        </p:nvSpPr>
        <p:spPr>
          <a:xfrm>
            <a:off x="2712960" y="2689200"/>
            <a:ext cx="1997280" cy="170964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281B-A7BF-4E8E-A6F6-892BAD57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0000" y="779040"/>
            <a:ext cx="8874000" cy="573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scrib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jects and classe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, and use classes to model objects (§8.2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us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UML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graphical notation to describe classes and objects (§8.2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monstrate how to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lasses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objects (§8.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create objects using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8.4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access objects vi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ject reference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ariables (§8.5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fine a reference variable using 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ference type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§8.5.1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access an object’s data and methods using the object member access operator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.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8.5.2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fine data fields of reference types and assign default values for an object’s data fields (§8.5.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istinguish between object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variables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imitiv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ata type variables (§8.5.4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use the Java library classes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8.6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991-0032-423D-A80A-9068092B3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bage Collection, c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5520" y="1371600"/>
            <a:ext cx="8531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: If you know that an object is no longer needed, you can explicitly assign null to a reference variable for the object. The JVM will automatically collect the space if the object is not referenced by any variable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927-74D9-4B4B-B0FF-1A0400D19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52280" y="1905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28600" y="1981080"/>
            <a:ext cx="15778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5838840" y="1009800"/>
            <a:ext cx="2265480" cy="344160"/>
          </a:xfrm>
          <a:prstGeom prst="wedgeRoundRectCallout">
            <a:avLst>
              <a:gd name="adj1" fmla="val -25824"/>
              <a:gd name="adj2" fmla="val 24585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837480" y="2046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724360" y="202104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EE51-F47E-47EC-ADE0-04F916839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52280" y="1905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974960" y="1969920"/>
            <a:ext cx="1650960" cy="2667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8"/>
          <p:cNvGraphicFramePr/>
          <p:nvPr/>
        </p:nvGraphicFramePr>
        <p:xfrm>
          <a:off x="5570640" y="2852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852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11"/>
          <p:cNvSpPr/>
          <p:nvPr/>
        </p:nvSpPr>
        <p:spPr>
          <a:xfrm>
            <a:off x="6837480" y="2046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724360" y="202104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3881520" y="4695840"/>
            <a:ext cx="1689120" cy="422280"/>
          </a:xfrm>
          <a:prstGeom prst="wedgeRoundRectCallout">
            <a:avLst>
              <a:gd name="adj1" fmla="val 77162"/>
              <a:gd name="adj2" fmla="val -407143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BA9-2277-4631-B35E-65318C3D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52280" y="1905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730520" y="1969920"/>
            <a:ext cx="191880" cy="2685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5570640" y="2852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852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8"/>
          <p:cNvSpPr/>
          <p:nvPr/>
        </p:nvSpPr>
        <p:spPr>
          <a:xfrm>
            <a:off x="6837480" y="2046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724360" y="202104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 flipH="1">
            <a:off x="6990840" y="223848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151080" y="2928960"/>
            <a:ext cx="2497320" cy="730080"/>
          </a:xfrm>
          <a:prstGeom prst="wedgeRoundRectCallout">
            <a:avLst>
              <a:gd name="adj1" fmla="val 113509"/>
              <a:gd name="adj2" fmla="val -77606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object reference to 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60FE-AA63-478D-83E3-A3ED1C8F4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7"/>
          <p:cNvGraphicFramePr/>
          <p:nvPr/>
        </p:nvGraphicFramePr>
        <p:xfrm>
          <a:off x="5570640" y="2033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33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8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39760" y="1700280"/>
            <a:ext cx="1720800" cy="268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1"/>
          <p:cNvSpPr/>
          <p:nvPr/>
        </p:nvSpPr>
        <p:spPr>
          <a:xfrm>
            <a:off x="5646600" y="4888080"/>
            <a:ext cx="2843280" cy="500040"/>
          </a:xfrm>
          <a:prstGeom prst="wedgeRoundRectCallout">
            <a:avLst>
              <a:gd name="adj1" fmla="val -5444"/>
              <a:gd name="adj2" fmla="val -26143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 your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7800-549C-4724-AE42-E5971DBBA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Object 6"/>
          <p:cNvGraphicFramePr/>
          <p:nvPr/>
        </p:nvGraphicFramePr>
        <p:xfrm>
          <a:off x="5570640" y="2033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33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7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9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no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2166840" y="1662120"/>
            <a:ext cx="1266840" cy="3078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15"/>
          <p:cNvGraphicFramePr/>
          <p:nvPr/>
        </p:nvGraphicFramePr>
        <p:xfrm>
          <a:off x="5800680" y="4351320"/>
          <a:ext cx="26877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435132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AutoShape 16"/>
          <p:cNvSpPr/>
          <p:nvPr/>
        </p:nvSpPr>
        <p:spPr>
          <a:xfrm>
            <a:off x="3573360" y="4927680"/>
            <a:ext cx="1805040" cy="652320"/>
          </a:xfrm>
          <a:prstGeom prst="wedgeRoundRectCallout">
            <a:avLst>
              <a:gd name="adj1" fmla="val 89226"/>
              <a:gd name="adj2" fmla="val -87226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new Circl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C21-6BE0-42C9-88A1-69D97FBF5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6"/>
          <p:cNvGraphicFramePr/>
          <p:nvPr/>
        </p:nvGraphicFramePr>
        <p:xfrm>
          <a:off x="5570640" y="20336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336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Rectangle 7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1960560" y="1700280"/>
            <a:ext cx="230040" cy="268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Object 13"/>
          <p:cNvGraphicFramePr/>
          <p:nvPr/>
        </p:nvGraphicFramePr>
        <p:xfrm>
          <a:off x="5800680" y="4351320"/>
          <a:ext cx="26877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435132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5"/>
          <p:cNvSpPr/>
          <p:nvPr/>
        </p:nvSpPr>
        <p:spPr>
          <a:xfrm>
            <a:off x="3343320" y="4119480"/>
            <a:ext cx="2495520" cy="692280"/>
          </a:xfrm>
          <a:prstGeom prst="wedgeRoundRectCallout">
            <a:avLst>
              <a:gd name="adj1" fmla="val 98027"/>
              <a:gd name="adj2" fmla="val -52523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object reference to 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6"/>
          <p:cNvSpPr/>
          <p:nvPr/>
        </p:nvSpPr>
        <p:spPr>
          <a:xfrm flipH="1">
            <a:off x="7106760" y="3813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7D8-08EF-44C0-84C1-D6A29DD1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d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52280" y="108576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myCircle = new Circle(5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 yourCircle = 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Circle.radius =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Object 6"/>
          <p:cNvGraphicFramePr/>
          <p:nvPr/>
        </p:nvGraphicFramePr>
        <p:xfrm>
          <a:off x="5570640" y="2046240"/>
          <a:ext cx="26874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2046240"/>
                    <a:ext cx="2687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7"/>
          <p:cNvSpPr/>
          <p:nvPr/>
        </p:nvSpPr>
        <p:spPr>
          <a:xfrm>
            <a:off x="6837480" y="122724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5724360" y="120168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9"/>
          <p:cNvSpPr/>
          <p:nvPr/>
        </p:nvSpPr>
        <p:spPr>
          <a:xfrm flipH="1">
            <a:off x="6990840" y="1419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6837480" y="3583080"/>
            <a:ext cx="152388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5724360" y="355752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193680" y="2238480"/>
            <a:ext cx="4456080" cy="2682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13"/>
          <p:cNvGraphicFramePr/>
          <p:nvPr/>
        </p:nvGraphicFramePr>
        <p:xfrm>
          <a:off x="5800680" y="4351320"/>
          <a:ext cx="26877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4351320"/>
                    <a:ext cx="26877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AutoShape 14"/>
          <p:cNvSpPr/>
          <p:nvPr/>
        </p:nvSpPr>
        <p:spPr>
          <a:xfrm>
            <a:off x="3035160" y="4849920"/>
            <a:ext cx="2497320" cy="806400"/>
          </a:xfrm>
          <a:prstGeom prst="wedgeRoundRectCallout">
            <a:avLst>
              <a:gd name="adj1" fmla="val 73268"/>
              <a:gd name="adj2" fmla="val -787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adius in your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5"/>
          <p:cNvSpPr/>
          <p:nvPr/>
        </p:nvSpPr>
        <p:spPr>
          <a:xfrm flipH="1">
            <a:off x="7106760" y="3813120"/>
            <a:ext cx="652680" cy="80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554A-3C62-4FF2-A1DD-639F4B82E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17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a system-independent encapsulation of date and time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ava.util.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You can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to create an instance for the current date and time and use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to return the date and time as a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77760" y="2968560"/>
          <a:ext cx="9066240" cy="24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2968560"/>
                    <a:ext cx="906624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E66-70DD-4D2B-BCEF-0E10AEC81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e Clas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following cod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Date date = new java.util.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date.toString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a string lik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Sun Mar 09 13:50:19 EST 2003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887B-CB8B-4565-9186-8CD9182E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 Programming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04920" y="1303200"/>
            <a:ext cx="861048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OP involves programming using obje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represents an entity in the real world that can be distinctly identifi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or example, a student, a desk, a circle, a button, and even a loan can all be viewed as obj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E3E0-1650-466C-8A61-61D55EA3C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17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us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.rando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btain a random double value between 0.0 and 1.0 (excluding 1.0). A more useful random number generator is provided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ava.util.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Object 6"/>
          <p:cNvGraphicFramePr/>
          <p:nvPr/>
        </p:nvGraphicFramePr>
        <p:xfrm>
          <a:off x="309600" y="2814480"/>
          <a:ext cx="856440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814480"/>
                    <a:ext cx="8564400" cy="33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904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pecify the seed what is the outpu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random objects have the same seeds, what is the outpu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random objects have the same seeds, but have different ranges (n), what is the outpu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5F9-F0AC-4F60-8B3D-D96A424F1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7"/>
          <p:cNvSpPr/>
          <p:nvPr/>
        </p:nvSpPr>
        <p:spPr>
          <a:xfrm>
            <a:off x="2036880" y="1709640"/>
            <a:ext cx="706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om1 = new Rando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random1.nextIn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4106-1722-4AB7-BBCE-864219898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Clas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have the same seed, they will generate identical sequences of numbers. For example, the following code creates tw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with the same seed 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152280" y="2392200"/>
            <a:ext cx="7069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andom1 = new Random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From random1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random1.nextInt(1000) + "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andom2 = new Random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\nFrom random2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random2.nextInt(1000) + "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150840" y="5562720"/>
            <a:ext cx="7068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From random1: 734 660 210 581 128 202 549 564 459 9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From random2: 734 660 210 581 128 202 549 564 459 9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E3C4-2654-4D13-8498-2E4A21319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 Programming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304920" y="917640"/>
            <a:ext cx="8610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 object h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unique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behavi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stat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an object consists of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also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with their current val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behavi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an object is defined by a set of metho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8CA-5E44-4DBB-A1C9-5BC81D11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04920" y="4267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has both a state and behavior. The state defines the object, and the behavior defines what the object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385920" y="1047600"/>
          <a:ext cx="8299440" cy="29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047600"/>
                    <a:ext cx="829944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D636-0B09-4D5B-BB60-6E2C69E3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4920" y="12952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nstructs that define objects of the same type. A Java class uses variables to define data fields and methods to define behaviors. Additionally, a class provides a special type of methods, known as constructors, which are invoked to construct objects from the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234-4F74-4D9D-8D03-2618816A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85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800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228600" y="838080"/>
          <a:ext cx="876312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4CD7-27D2-4DBD-A8E2-4FBCC53E7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Class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4004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11"/>
          <p:cNvGraphicFramePr/>
          <p:nvPr/>
        </p:nvGraphicFramePr>
        <p:xfrm>
          <a:off x="117360" y="1623960"/>
          <a:ext cx="891252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623960"/>
                    <a:ext cx="89125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3:09:28Z</dcterms:modified>
  <cp:revision>311</cp:revision>
  <dc:subject/>
  <dc:title>Chapter 6 Objects and Classes</dc:title>
</cp:coreProperties>
</file>