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9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4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0920" y="691920"/>
            <a:ext cx="455616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5D20-4496-4B6A-8B27-19A0B39AD78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9F7A-1CB3-4CC8-AB62-C33A40D3C1C8}" type="slidenum">
              <a:rPr b="0" i="1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58E1-5FF5-4766-8E93-1D957DF93F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tro to OOP with Java, C. Thomas W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©The McGraw-Hill Compani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4317-AEF2-47A4-A457-8EB4B0D8951E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tro to OOP with Java, C. Thomas W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©The McGraw-Hill Compani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139F-AF4E-4A5D-83FC-71FC9B228535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tro to OOP with Java, C. Thomas W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©The McGraw-Hill Compani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E9E6-9905-4B6B-A1FC-321A7F95408A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ECF7C-F7D6-408E-A711-485078AFC8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8821E-D29D-4D2B-98C2-501569B2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F1060-2BF6-4C28-B4CD-398AA781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FFAE6-53C4-4470-BCE6-4E8BB8C4FE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6DD04-F7E8-4DAD-8346-3B5EBF7A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29D70-3D7C-4B5F-A45F-37C36BE4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A0C75-BEF2-4909-AB65-16EF2458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63BC0-BE02-4A96-9188-A401690F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250B8-46BC-4ACE-B7E0-A41024BB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03E7D-1915-481D-81C4-32023B93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E9A7F-D9CF-44C1-81D4-47973E9A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59C3D-6A5C-4364-870D-BB4742C0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CA4FF-DC66-42FE-A218-4D464BB7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54992-B7DF-4521-8B28-B5111443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2FA40-7D42-4C9F-9027-457D4190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1C6E9-8C69-402F-88BE-17FC8EF1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DE2B5-D75C-430E-ADBB-5253D1E2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A6AC1-AC9C-409E-89C0-74FF365F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730CA-E07F-43C6-BFFF-A406748C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D788-3071-4192-A173-2476D190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7946-C50C-4E98-81BF-13889846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49E71-DAA1-4E82-A3C6-A4A3B719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D7A1B-AB54-4CEB-9A8D-A4A58489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683BC-03CB-4F6A-8ABC-4EEDA08A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676F-A347-41DB-A493-49FCFE5C1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3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ng, Introduction to Java Programming, Tenth Edition, (c) 2013 Pearson Education, Inc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8715-68D1-46ED-BA3F-FF53A5645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ml/TestCircleRectangle.bat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hyperlink" Target="http://www.cs.armstrong.edu/liang/intro10e/html/RectangleFromSimpleGeometricObject.html" TargetMode="External"/><Relationship Id="rId5" Type="http://schemas.openxmlformats.org/officeDocument/2006/relationships/hyperlink" Target="http://www.cs.armstrong.edu/liang/intro10e/html/CircleFromSimpleGeometricObject.html" TargetMode="External"/><Relationship Id="rId6" Type="http://schemas.openxmlformats.org/officeDocument/2006/relationships/hyperlink" Target="http://www.cs.armstrong.edu/liang/intro10e/html/SimpleGeometricObject.html" TargetMode="External"/><Relationship Id="rId7" Type="http://schemas.openxmlformats.org/officeDocument/2006/relationships/hyperlink" Target="http://www.cs.armstrong.edu/liang/intro10e/html/TestCircleRectangle.html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EF98-A9D1-49D8-9FCE-9B775E95A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1 Inheritance and Polymorphism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Inheritanc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DEE5-294A-48F2-BCCE-D1F72436D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76320" y="155160"/>
            <a:ext cx="8991360" cy="6664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tring color =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white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fille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java.util.Date dateCreate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/** Construct a default object */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 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ateCreated =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java.util.Date();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/** Construct an object with the specified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 ( String color,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fill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ateCreated =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java.util.Date();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color = color;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filled = filled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/** Get and Set color */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tring getColor() {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olor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etColor(String color) {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color = color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/** Get and Set filled. Since filled is boolean, the get is named isFilled */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isFilled() {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filled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etFilled(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filled) {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filled = filled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/** Get dateCreated */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java.util.Date getDateCreated() {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dateCreated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/** Return a string representation of this object */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tring toStrin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created on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dateCreated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\ncolor: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color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 and filled: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filled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Object 13"/>
          <p:cNvGraphicFramePr/>
          <p:nvPr/>
        </p:nvGraphicFramePr>
        <p:xfrm>
          <a:off x="6400800" y="-84240"/>
          <a:ext cx="268128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-84240"/>
                    <a:ext cx="26812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F911-B4A1-4128-A344-BA06C6393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96960" y="2133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hild’s Constru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6553080" y="6934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FB27-3BA4-487E-9DE2-33C2DF2B2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28520" y="1683000"/>
            <a:ext cx="5435640" cy="520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t() {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(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) {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radius = radiu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(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, String color,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fille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radius = radius;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tColor(color);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tFilled(fille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ubClass and its Constru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5"/>
          <p:cNvGrpSpPr/>
          <p:nvPr/>
        </p:nvGrpSpPr>
        <p:grpSpPr>
          <a:xfrm>
            <a:off x="1852560" y="1498680"/>
            <a:ext cx="7265880" cy="703800"/>
            <a:chOff x="1852560" y="1498680"/>
            <a:chExt cx="7265880" cy="703800"/>
          </a:xfrm>
        </p:grpSpPr>
        <p:sp>
          <p:nvSpPr>
            <p:cNvPr id="231" name="Oval 10"/>
            <p:cNvSpPr/>
            <p:nvPr/>
          </p:nvSpPr>
          <p:spPr>
            <a:xfrm>
              <a:off x="1852560" y="1653840"/>
              <a:ext cx="990360" cy="429120"/>
            </a:xfrm>
            <a:prstGeom prst="ellipse">
              <a:avLst/>
            </a:pr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5"/>
            <p:cNvSpPr/>
            <p:nvPr/>
          </p:nvSpPr>
          <p:spPr>
            <a:xfrm>
              <a:off x="4343040" y="1498680"/>
              <a:ext cx="477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 Java, we use the reserved word </a:t>
              </a: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</a:rPr>
                <a:t>extend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establish an inheritance 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Straight Arrow Connector 2"/>
            <p:cNvCxnSpPr/>
            <p:nvPr/>
          </p:nvCxnSpPr>
          <p:spPr>
            <a:xfrm>
              <a:off x="2770560" y="1981080"/>
              <a:ext cx="1496880" cy="108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34" name="Group 6"/>
          <p:cNvGrpSpPr/>
          <p:nvPr/>
        </p:nvGrpSpPr>
        <p:grpSpPr>
          <a:xfrm>
            <a:off x="1523880" y="2162160"/>
            <a:ext cx="7318440" cy="518040"/>
            <a:chOff x="1523880" y="2162160"/>
            <a:chExt cx="7318440" cy="518040"/>
          </a:xfrm>
        </p:grpSpPr>
        <p:sp>
          <p:nvSpPr>
            <p:cNvPr id="235" name="Oval 10"/>
            <p:cNvSpPr/>
            <p:nvPr/>
          </p:nvSpPr>
          <p:spPr>
            <a:xfrm>
              <a:off x="1523880" y="2162160"/>
              <a:ext cx="990720" cy="428400"/>
            </a:xfrm>
            <a:prstGeom prst="ellipse">
              <a:avLst/>
            </a:pr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" name="Straight Arrow Connector 2"/>
            <p:cNvCxnSpPr/>
            <p:nvPr/>
          </p:nvCxnSpPr>
          <p:spPr>
            <a:xfrm>
              <a:off x="2441880" y="2488680"/>
              <a:ext cx="1496880" cy="108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37" name="Rectangle 15"/>
            <p:cNvSpPr/>
            <p:nvPr/>
          </p:nvSpPr>
          <p:spPr>
            <a:xfrm>
              <a:off x="4066200" y="2281320"/>
              <a:ext cx="477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specific 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Group 8"/>
          <p:cNvGrpSpPr/>
          <p:nvPr/>
        </p:nvGrpSpPr>
        <p:grpSpPr>
          <a:xfrm>
            <a:off x="1074600" y="2971440"/>
            <a:ext cx="7963200" cy="3770640"/>
            <a:chOff x="1074600" y="2971440"/>
            <a:chExt cx="7963200" cy="3770640"/>
          </a:xfrm>
        </p:grpSpPr>
        <p:cxnSp>
          <p:nvCxnSpPr>
            <p:cNvPr id="239" name="Straight Arrow Connector 12"/>
            <p:cNvCxnSpPr/>
            <p:nvPr/>
          </p:nvCxnSpPr>
          <p:spPr>
            <a:xfrm>
              <a:off x="1074600" y="2971440"/>
              <a:ext cx="3224880" cy="61020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40" name="Text Box 3"/>
            <p:cNvSpPr/>
            <p:nvPr/>
          </p:nvSpPr>
          <p:spPr>
            <a:xfrm>
              <a:off x="4385520" y="3096720"/>
              <a:ext cx="41371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 parent constructors are not inherite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y are invoked explicitly or implicitly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licitly using the 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supe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keywor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1" name="Straight Arrow Connector 12"/>
            <p:cNvCxnSpPr/>
            <p:nvPr/>
          </p:nvCxnSpPr>
          <p:spPr>
            <a:xfrm>
              <a:off x="2285640" y="3857400"/>
              <a:ext cx="2057760" cy="108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42" name="Straight Arrow Connector 12"/>
            <p:cNvCxnSpPr/>
            <p:nvPr/>
          </p:nvCxnSpPr>
          <p:spPr>
            <a:xfrm flipV="1">
              <a:off x="1669680" y="4190760"/>
              <a:ext cx="2750400" cy="534240"/>
            </a:xfrm>
            <a:prstGeom prst="straightConnector1">
              <a:avLst/>
            </a:prstGeom>
            <a:ln w="12600">
              <a:solidFill>
                <a:srgbClr val="ff5050"/>
              </a:solidFill>
              <a:miter/>
              <a:tailEnd len="med" type="triangle" w="med"/>
            </a:ln>
          </p:spPr>
        </p:cxnSp>
        <p:cxnSp>
          <p:nvCxnSpPr>
            <p:cNvPr id="243" name="Straight Arrow Connector 12"/>
            <p:cNvCxnSpPr/>
            <p:nvPr/>
          </p:nvCxnSpPr>
          <p:spPr>
            <a:xfrm flipH="1">
              <a:off x="7923960" y="4191120"/>
              <a:ext cx="1080" cy="68904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pic>
          <p:nvPicPr>
            <p:cNvPr id="244" name="Picture 7" descr=""/>
            <p:cNvPicPr/>
            <p:nvPr/>
          </p:nvPicPr>
          <p:blipFill>
            <a:blip r:embed="rId1"/>
            <a:stretch/>
          </p:blipFill>
          <p:spPr>
            <a:xfrm>
              <a:off x="5867640" y="4952880"/>
              <a:ext cx="3170160" cy="178920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per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structor is used to construct an instance of a cla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ike properties and methods, a superclass's constructors are not inherited in the sub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il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 constructor is responsible for calling the paren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only be invoked from the subclasses' constructors, using the keywor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u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rst li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chil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 constructor should use the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MS PGothic"/>
              </a:rPr>
              <a:t>su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reference to call the paren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666520" y="1360440"/>
            <a:ext cx="4343400" cy="268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8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() {…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(String color,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illed) {….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//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() { }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C696-41FE-42D7-B36A-16DD95368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3809880" y="4222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e the given code correct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Group 1"/>
          <p:cNvGrpSpPr/>
          <p:nvPr/>
        </p:nvGrpSpPr>
        <p:grpSpPr>
          <a:xfrm>
            <a:off x="371520" y="2603520"/>
            <a:ext cx="8467560" cy="4025160"/>
            <a:chOff x="371520" y="2603520"/>
            <a:chExt cx="8467560" cy="4025160"/>
          </a:xfrm>
        </p:grpSpPr>
        <p:sp>
          <p:nvSpPr>
            <p:cNvPr id="252" name="TextBox 6"/>
            <p:cNvSpPr/>
            <p:nvPr/>
          </p:nvSpPr>
          <p:spPr>
            <a:xfrm>
              <a:off x="7496280" y="2603520"/>
              <a:ext cx="53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13"/>
            <p:cNvSpPr/>
            <p:nvPr/>
          </p:nvSpPr>
          <p:spPr>
            <a:xfrm>
              <a:off x="371520" y="4827600"/>
              <a:ext cx="7657920" cy="18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b050"/>
                  </a:solidFill>
                  <a:latin typeface="Trebuchet MS"/>
                </a:rPr>
                <a:t>// </a:t>
              </a:r>
              <a:r>
                <a:rPr b="1" i="1" lang="en-US" sz="2000" spc="-1" strike="noStrike">
                  <a:solidFill>
                    <a:srgbClr val="00b050"/>
                  </a:solidFill>
                  <a:latin typeface="Trebuchet MS"/>
                </a:rPr>
                <a:t>invisible</a:t>
              </a:r>
              <a:r>
                <a:rPr b="0" lang="en-US" sz="2000" spc="-1" strike="noStrike">
                  <a:solidFill>
                    <a:srgbClr val="00b050"/>
                  </a:solidFill>
                  <a:latin typeface="Trebuchet MS"/>
                </a:rPr>
                <a:t> call to superclass constru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the keyword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super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not explicitly used, the superclass's no-arg constructor is automatically invoke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4" name="Object 8"/>
            <p:cNvGraphicFramePr/>
            <p:nvPr/>
          </p:nvGraphicFramePr>
          <p:xfrm>
            <a:off x="399960" y="4175280"/>
            <a:ext cx="8439120" cy="1006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5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9960" y="4175280"/>
                      <a:ext cx="8439120" cy="100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666520" y="1360440"/>
            <a:ext cx="4343400" cy="268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8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() {…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(String color,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illed) {….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//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(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radius) {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.radius = radius;}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4434-9A28-405E-9225-49595CE9B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3809880" y="4222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e the given code correct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1"/>
          <p:cNvGrpSpPr/>
          <p:nvPr/>
        </p:nvGrpSpPr>
        <p:grpSpPr>
          <a:xfrm>
            <a:off x="-136440" y="2438280"/>
            <a:ext cx="9737640" cy="3891960"/>
            <a:chOff x="-136440" y="2438280"/>
            <a:chExt cx="9737640" cy="3891960"/>
          </a:xfrm>
        </p:grpSpPr>
        <p:sp>
          <p:nvSpPr>
            <p:cNvPr id="261" name="TextBox 6"/>
            <p:cNvSpPr/>
            <p:nvPr/>
          </p:nvSpPr>
          <p:spPr>
            <a:xfrm>
              <a:off x="7467840" y="2438280"/>
              <a:ext cx="53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457200" y="5321520"/>
              <a:ext cx="7658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b050"/>
                  </a:solidFill>
                  <a:latin typeface="Trebuchet MS"/>
                </a:rPr>
                <a:t>// </a:t>
              </a:r>
              <a:r>
                <a:rPr b="1" i="1" lang="en-US" sz="2000" spc="-1" strike="noStrike">
                  <a:solidFill>
                    <a:srgbClr val="00b050"/>
                  </a:solidFill>
                  <a:latin typeface="Trebuchet MS"/>
                </a:rPr>
                <a:t>invisible</a:t>
              </a:r>
              <a:r>
                <a:rPr b="0" lang="en-US" sz="2000" spc="-1" strike="noStrike">
                  <a:solidFill>
                    <a:srgbClr val="00b050"/>
                  </a:solidFill>
                  <a:latin typeface="Trebuchet MS"/>
                </a:rPr>
                <a:t> call to superclass constru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3" name="Object 6"/>
            <p:cNvGraphicFramePr/>
            <p:nvPr/>
          </p:nvGraphicFramePr>
          <p:xfrm>
            <a:off x="-136440" y="4224240"/>
            <a:ext cx="9737640" cy="1476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-136440" y="4224240"/>
                      <a:ext cx="9737640" cy="14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5"/>
          <p:cNvSpPr/>
          <p:nvPr/>
        </p:nvSpPr>
        <p:spPr>
          <a:xfrm>
            <a:off x="3809880" y="4222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e the given code correct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Content Placeholder 2"/>
          <p:cNvSpPr/>
          <p:nvPr/>
        </p:nvSpPr>
        <p:spPr>
          <a:xfrm>
            <a:off x="2743200" y="1676520"/>
            <a:ext cx="43434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(String color,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illed) {….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//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t() {   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1"/>
          <p:cNvGrpSpPr/>
          <p:nvPr/>
        </p:nvGrpSpPr>
        <p:grpSpPr>
          <a:xfrm>
            <a:off x="914400" y="2671920"/>
            <a:ext cx="7078680" cy="2917080"/>
            <a:chOff x="914400" y="2671920"/>
            <a:chExt cx="7078680" cy="2917080"/>
          </a:xfrm>
        </p:grpSpPr>
        <p:sp>
          <p:nvSpPr>
            <p:cNvPr id="269" name="TextBox 8"/>
            <p:cNvSpPr/>
            <p:nvPr/>
          </p:nvSpPr>
          <p:spPr>
            <a:xfrm>
              <a:off x="7459920" y="2671920"/>
              <a:ext cx="53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>
              <a:off x="914400" y="4397760"/>
              <a:ext cx="662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no such call exists , Java will automatically make a call to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super(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t the beginning of the constructor, </a:t>
              </a:r>
              <a:r>
                <a:rPr b="0" lang="en-US" sz="2400" spc="-1" strike="noStrike">
                  <a:solidFill>
                    <a:srgbClr val="de2c28"/>
                  </a:solidFill>
                  <a:latin typeface="Times New Roman"/>
                </a:rPr>
                <a:t>if there exist an empty construct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272" name="TextBox 5"/>
          <p:cNvSpPr/>
          <p:nvPr/>
        </p:nvSpPr>
        <p:spPr>
          <a:xfrm>
            <a:off x="3809880" y="4222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e the given code correct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Content Placeholder 2"/>
          <p:cNvSpPr/>
          <p:nvPr/>
        </p:nvSpPr>
        <p:spPr>
          <a:xfrm>
            <a:off x="2743200" y="1676520"/>
            <a:ext cx="43434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//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t() {   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838080" y="2666880"/>
            <a:ext cx="7094520" cy="2912040"/>
            <a:chOff x="838080" y="2666880"/>
            <a:chExt cx="7094520" cy="2912040"/>
          </a:xfrm>
        </p:grpSpPr>
        <p:sp>
          <p:nvSpPr>
            <p:cNvPr id="275" name="TextBox 8"/>
            <p:cNvSpPr/>
            <p:nvPr/>
          </p:nvSpPr>
          <p:spPr>
            <a:xfrm>
              <a:off x="7399440" y="2666880"/>
              <a:ext cx="53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838080" y="4387680"/>
              <a:ext cx="662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no such call exists , Java will automatically make a call to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default sup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) at the beginning of the constructor, </a:t>
              </a:r>
              <a:r>
                <a:rPr b="0" lang="en-US" sz="2400" spc="-1" strike="noStrike">
                  <a:solidFill>
                    <a:srgbClr val="de2c28"/>
                  </a:solidFill>
                  <a:latin typeface="Times New Roman"/>
                </a:rPr>
                <a:t>as no constructors in the parent clas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278" name="TextBox 5"/>
          <p:cNvSpPr/>
          <p:nvPr/>
        </p:nvSpPr>
        <p:spPr>
          <a:xfrm>
            <a:off x="3809880" y="4222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e the given code correct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Content Placeholder 2"/>
          <p:cNvSpPr/>
          <p:nvPr/>
        </p:nvSpPr>
        <p:spPr>
          <a:xfrm>
            <a:off x="2506680" y="1711440"/>
            <a:ext cx="4343400" cy="25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() {…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(String color,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illed) {….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//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t() { super (“Red”,true) 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"/>
          <p:cNvGrpSpPr/>
          <p:nvPr/>
        </p:nvGrpSpPr>
        <p:grpSpPr>
          <a:xfrm>
            <a:off x="1066680" y="2743200"/>
            <a:ext cx="6629400" cy="3161160"/>
            <a:chOff x="1066680" y="2743200"/>
            <a:chExt cx="6629400" cy="3161160"/>
          </a:xfrm>
        </p:grpSpPr>
        <p:sp>
          <p:nvSpPr>
            <p:cNvPr id="281" name="TextBox 10"/>
            <p:cNvSpPr/>
            <p:nvPr/>
          </p:nvSpPr>
          <p:spPr>
            <a:xfrm>
              <a:off x="7162920" y="2743200"/>
              <a:ext cx="53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"/>
            <p:cNvSpPr/>
            <p:nvPr/>
          </p:nvSpPr>
          <p:spPr>
            <a:xfrm>
              <a:off x="1066680" y="4713120"/>
              <a:ext cx="6019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irst lin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 a child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s constructor should use the </a:t>
              </a:r>
              <a:r>
                <a:rPr b="0" lang="en-US" sz="24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sup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reference to call the parent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s constru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7B15-1BA4-484F-AC1C-DAEDF1806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3809880" y="4222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e the given code correct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Content Placeholder 2"/>
          <p:cNvSpPr/>
          <p:nvPr/>
        </p:nvSpPr>
        <p:spPr>
          <a:xfrm>
            <a:off x="2438280" y="1905120"/>
            <a:ext cx="4343400" cy="248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() {…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 (String color,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illed) {….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//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hape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1"/>
          <p:cNvGrpSpPr/>
          <p:nvPr/>
        </p:nvGrpSpPr>
        <p:grpSpPr>
          <a:xfrm>
            <a:off x="914400" y="2743200"/>
            <a:ext cx="6781680" cy="3193200"/>
            <a:chOff x="914400" y="2743200"/>
            <a:chExt cx="6781680" cy="3193200"/>
          </a:xfrm>
        </p:grpSpPr>
        <p:sp>
          <p:nvSpPr>
            <p:cNvPr id="288" name="Rectangle 13"/>
            <p:cNvSpPr/>
            <p:nvPr/>
          </p:nvSpPr>
          <p:spPr>
            <a:xfrm>
              <a:off x="914400" y="4745160"/>
              <a:ext cx="670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no such call exists , Java will automatically make a call to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sup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) at the beginning of the constructor, </a:t>
              </a:r>
              <a:r>
                <a:rPr b="0" lang="en-US" sz="2400" spc="-1" strike="noStrike">
                  <a:solidFill>
                    <a:srgbClr val="de2c28"/>
                  </a:solidFill>
                  <a:latin typeface="Times New Roman"/>
                </a:rPr>
                <a:t>if there exist an empty construct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Box 7"/>
            <p:cNvSpPr/>
            <p:nvPr/>
          </p:nvSpPr>
          <p:spPr>
            <a:xfrm>
              <a:off x="7162920" y="2743200"/>
              <a:ext cx="53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2499-5541-4621-B670-CC167B62E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358920" indent="-355680">
              <a:spcBef>
                <a:spcPts val="4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efine a subclass from a superclass throug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§11.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355680">
              <a:spcBef>
                <a:spcPts val="4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invoke the superclass’s constructors and methods using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eyword (§11.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355680">
              <a:spcBef>
                <a:spcPts val="4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ri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tance methods in the subclass (§11.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355680">
              <a:spcBef>
                <a:spcPts val="4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istinguish differences betwee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riding and overload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§11.5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355680">
              <a:spcBef>
                <a:spcPts val="4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nable data and methods in a superclass accessible from subclasses using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cted visibilit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r (§11.1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355680">
              <a:spcBef>
                <a:spcPts val="4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prevent class extending and method overriding using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ifier (§11.1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355680">
              <a:spcBef>
                <a:spcPts val="4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xplore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String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(§11.6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2DB1-1286-42BD-8B8A-26E9353FA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504960" y="533520"/>
            <a:ext cx="5562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on the Impact of a Superclass without no-arg Constru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04920" y="3052800"/>
            <a:ext cx="8610480" cy="21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Apple extends Frui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Frui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Fruit(String nam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Fruit's constructor is invoked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80880" y="2214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d out the errors in the program: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0295-B36B-40F1-A633-3C5DD1030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533520" y="1419120"/>
            <a:ext cx="82296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225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use the keywor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uper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all the superclass constructo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225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ing a superclass constructor’s name in a subclass causes a syntax erro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225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requires that the statement that uses the keywor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ear first in the construct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3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6654-2F03-4C0C-BB5A-D9C1B4598C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74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call to another constructor must b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ery first thing you 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 constru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</a:t>
            </a:r>
            <a:r>
              <a:rPr b="0" lang="en-US" sz="2400" spc="-1" strike="noStrike">
                <a:solidFill>
                  <a:srgbClr val="969696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this(...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l another constructor in the same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ass Foo extends Bar {</a:t>
            </a:r>
            <a:br>
              <a:rPr sz="1800"/>
            </a:br>
            <a:r>
              <a:rPr b="0" lang="en-US" sz="1800" spc="-1" strike="noStrike">
                <a:solidFill>
                  <a:srgbClr val="969696"/>
                </a:solidFill>
                <a:latin typeface="Trebuchet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o(String message) { </a:t>
            </a:r>
            <a:r>
              <a:rPr b="0" lang="en-US" sz="1800" spc="-1" strike="noStrike">
                <a:solidFill>
                  <a:srgbClr val="00b050"/>
                </a:solidFill>
                <a:latin typeface="Trebuchet MS"/>
              </a:rPr>
              <a:t>// constructor</a:t>
            </a:r>
            <a:br>
              <a:rPr sz="1800"/>
            </a:br>
            <a:r>
              <a:rPr b="0" lang="en-US" sz="1800" spc="-1" strike="noStrike">
                <a:solidFill>
                  <a:srgbClr val="969696"/>
                </a:solidFill>
                <a:latin typeface="Trebuchet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s(message, 0, 0); </a:t>
            </a:r>
            <a:r>
              <a:rPr b="0" lang="en-US" sz="1800" spc="-1" strike="noStrike">
                <a:solidFill>
                  <a:srgbClr val="00b050"/>
                </a:solidFill>
                <a:latin typeface="Trebuchet MS"/>
              </a:rPr>
              <a:t>// your </a:t>
            </a:r>
            <a:r>
              <a:rPr b="1" i="1" lang="en-US" sz="1800" spc="-1" strike="noStrike">
                <a:solidFill>
                  <a:srgbClr val="00b050"/>
                </a:solidFill>
                <a:latin typeface="Trebuchet MS"/>
              </a:rPr>
              <a:t>explicit</a:t>
            </a:r>
            <a:r>
              <a:rPr b="0" lang="en-US" sz="1800" spc="-1" strike="noStrike">
                <a:solidFill>
                  <a:srgbClr val="00b050"/>
                </a:solidFill>
                <a:latin typeface="Trebuchet MS"/>
              </a:rPr>
              <a:t> call to another constructor</a:t>
            </a:r>
            <a:br>
              <a:rPr sz="1800"/>
            </a:br>
            <a:r>
              <a:rPr b="0" lang="en-US" sz="1800" spc="-1" strike="noStrike">
                <a:solidFill>
                  <a:srgbClr val="969696"/>
                </a:solidFill>
                <a:latin typeface="Trebuchet MS"/>
              </a:rPr>
              <a:t>       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</a:t>
            </a:r>
            <a:r>
              <a:rPr b="0" lang="en-US" sz="2400" spc="-1" strike="noStrike">
                <a:solidFill>
                  <a:srgbClr val="969696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super(...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l a specifi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ass Foo extends Bar {</a:t>
            </a:r>
            <a:br>
              <a:rPr sz="1800"/>
            </a:br>
            <a:r>
              <a:rPr b="0" lang="en-US" sz="1800" spc="-1" strike="noStrike">
                <a:solidFill>
                  <a:srgbClr val="969696"/>
                </a:solidFill>
                <a:latin typeface="Trebuchet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o(String name) { </a:t>
            </a:r>
            <a:r>
              <a:rPr b="0" lang="en-US" sz="1800" spc="-1" strike="noStrike">
                <a:solidFill>
                  <a:srgbClr val="00b050"/>
                </a:solidFill>
                <a:latin typeface="Trebuchet MS"/>
              </a:rPr>
              <a:t>// constructor</a:t>
            </a:r>
            <a:br>
              <a:rPr sz="1800"/>
            </a:br>
            <a:r>
              <a:rPr b="0" lang="en-US" sz="1800" spc="-1" strike="noStrike">
                <a:solidFill>
                  <a:srgbClr val="969696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super(name, 5);</a:t>
            </a:r>
            <a:r>
              <a:rPr b="0" lang="en-US" sz="1800" spc="-1" strike="noStrike">
                <a:solidFill>
                  <a:srgbClr val="969696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b050"/>
                </a:solidFill>
                <a:latin typeface="Trebuchet MS"/>
              </a:rPr>
              <a:t>// your </a:t>
            </a:r>
            <a:r>
              <a:rPr b="1" i="1" lang="en-US" sz="1800" spc="-1" strike="noStrike">
                <a:solidFill>
                  <a:srgbClr val="00b050"/>
                </a:solidFill>
                <a:latin typeface="Trebuchet MS"/>
              </a:rPr>
              <a:t>explicit</a:t>
            </a:r>
            <a:r>
              <a:rPr b="0" lang="en-US" sz="1800" spc="-1" strike="noStrike">
                <a:solidFill>
                  <a:srgbClr val="00b050"/>
                </a:solidFill>
                <a:latin typeface="Trebuchet MS"/>
              </a:rPr>
              <a:t> call to some superclass constructor</a:t>
            </a:r>
            <a:br>
              <a:rPr sz="1800"/>
            </a:br>
            <a:r>
              <a:rPr b="0" lang="en-US" sz="1800" spc="-1" strike="noStrike">
                <a:solidFill>
                  <a:srgbClr val="969696"/>
                </a:solidFill>
                <a:latin typeface="Trebuchet MS"/>
              </a:rPr>
              <a:t>       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9AB5-AD75-4E13-BBF7-ADEE7C1EC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228960" y="533520"/>
            <a:ext cx="98298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ctor Ch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419040" y="12193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ng an instance of a class invokes all the superclasses’ constructors along the inheritance chain. This is known 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 chai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13"/>
          <p:cNvGrpSpPr/>
          <p:nvPr/>
        </p:nvGrpSpPr>
        <p:grpSpPr>
          <a:xfrm>
            <a:off x="3352680" y="2515680"/>
            <a:ext cx="1752480" cy="1753560"/>
            <a:chOff x="3352680" y="2515680"/>
            <a:chExt cx="1752480" cy="1753560"/>
          </a:xfrm>
        </p:grpSpPr>
        <p:sp>
          <p:nvSpPr>
            <p:cNvPr id="305" name="Line 6"/>
            <p:cNvSpPr/>
            <p:nvPr/>
          </p:nvSpPr>
          <p:spPr>
            <a:xfrm flipV="1">
              <a:off x="4267080" y="3214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AutoShape 7"/>
            <p:cNvSpPr/>
            <p:nvPr/>
          </p:nvSpPr>
          <p:spPr>
            <a:xfrm>
              <a:off x="4114440" y="2986200"/>
              <a:ext cx="30492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3428640" y="2515680"/>
              <a:ext cx="1600200" cy="45972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3352680" y="3809520"/>
              <a:ext cx="1752480" cy="45972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13"/>
          <p:cNvGrpSpPr/>
          <p:nvPr/>
        </p:nvGrpSpPr>
        <p:grpSpPr>
          <a:xfrm>
            <a:off x="3444840" y="4297320"/>
            <a:ext cx="1600200" cy="1284480"/>
            <a:chOff x="3444840" y="4297320"/>
            <a:chExt cx="1600200" cy="1284480"/>
          </a:xfrm>
        </p:grpSpPr>
        <p:sp>
          <p:nvSpPr>
            <p:cNvPr id="310" name="Line 6"/>
            <p:cNvSpPr/>
            <p:nvPr/>
          </p:nvSpPr>
          <p:spPr>
            <a:xfrm flipV="1">
              <a:off x="4283280" y="45255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AutoShape 7"/>
            <p:cNvSpPr/>
            <p:nvPr/>
          </p:nvSpPr>
          <p:spPr>
            <a:xfrm>
              <a:off x="4130640" y="4297320"/>
              <a:ext cx="30492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3444840" y="5122080"/>
              <a:ext cx="1600200" cy="45972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cul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43B0-4347-4FC4-B7CE-F056609C5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ce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28600" y="838080"/>
            <a:ext cx="86868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Faculty extend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acul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Faculty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4) Faculty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mployee extend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("(2) Invoke Employee’s overloaded constructo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3) Employee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String 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erso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1) Person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457200" y="990720"/>
            <a:ext cx="419112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5715000" y="990720"/>
            <a:ext cx="2362320" cy="685800"/>
          </a:xfrm>
          <a:prstGeom prst="wedgeRoundRectCallout">
            <a:avLst>
              <a:gd name="adj1" fmla="val -100671"/>
              <a:gd name="adj2" fmla="val -31481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Start from the mai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340A-661B-4655-8A4F-BA09B4BED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ce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228600" y="838080"/>
            <a:ext cx="86868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Faculty extend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acul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Faculty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4) Faculty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mployee extend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("(2) Invoke Employee’s overloaded constructo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3) Employee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String 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erso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1) Person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533520" y="1219320"/>
            <a:ext cx="419076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5715000" y="990720"/>
            <a:ext cx="2362320" cy="685800"/>
          </a:xfrm>
          <a:prstGeom prst="wedgeRoundRectCallout">
            <a:avLst>
              <a:gd name="adj1" fmla="val -99194"/>
              <a:gd name="adj2" fmla="val 694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Invoke Faculty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533520" y="1828800"/>
            <a:ext cx="42670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FAF8-C3BF-494A-BBC1-59002C3F0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ce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228600" y="838080"/>
            <a:ext cx="86868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Faculty extend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acul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Faculty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4) Faculty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mployee extend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("(2) Invoke Employee’s overloaded constructo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3) Employee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String 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erso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1) Person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533520" y="1219320"/>
            <a:ext cx="419076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5562720" y="2362320"/>
            <a:ext cx="3124080" cy="685800"/>
          </a:xfrm>
          <a:prstGeom prst="wedgeRoundRectCallout">
            <a:avLst>
              <a:gd name="adj1" fmla="val -94768"/>
              <a:gd name="adj2" fmla="val 76620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Invoke Employee’s no-arg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533520" y="1828800"/>
            <a:ext cx="42670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457200" y="3124080"/>
            <a:ext cx="42670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6B8A-D413-41E1-ABB3-7CA6E4653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ce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228600" y="838080"/>
            <a:ext cx="86868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Faculty extend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acul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Faculty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4) Faculty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mployee extend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("(2) Invoke Employee’s overloaded constructo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3) Employee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String 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erso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1) Person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533520" y="1219320"/>
            <a:ext cx="419076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5257800" y="2514600"/>
            <a:ext cx="3352680" cy="685800"/>
          </a:xfrm>
          <a:prstGeom prst="wedgeRoundRectCallout">
            <a:avLst>
              <a:gd name="adj1" fmla="val -84898"/>
              <a:gd name="adj2" fmla="val 76620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Invoke Employee(String)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533520" y="1828800"/>
            <a:ext cx="42670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85800" y="3352680"/>
            <a:ext cx="571500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57200" y="4191120"/>
            <a:ext cx="571500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4216-96BE-41DF-8D5C-B214F2DF0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ce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228600" y="838080"/>
            <a:ext cx="86868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Faculty extend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acul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Faculty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4) Faculty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mployee extend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("(2) Invoke Employee’s overloaded constructo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3) Employee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String 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erso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1) Person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533520" y="1219320"/>
            <a:ext cx="419076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5257800" y="4648320"/>
            <a:ext cx="3352680" cy="685800"/>
          </a:xfrm>
          <a:prstGeom prst="wedgeRoundRectCallout">
            <a:avLst>
              <a:gd name="adj1" fmla="val -81773"/>
              <a:gd name="adj2" fmla="val 90277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Invoke Person()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533520" y="1828800"/>
            <a:ext cx="42670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85800" y="3352680"/>
            <a:ext cx="571500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457200" y="4191120"/>
            <a:ext cx="571500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457200" y="5486400"/>
            <a:ext cx="571500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0917-F12D-424D-A51F-E7E999A81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ce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228600" y="838080"/>
            <a:ext cx="86868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Faculty extend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acul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Faculty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4) Faculty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mployee extend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("(2) Invoke Employee’s overloaded constructo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3) Employee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String 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erso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1) Person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533520" y="1219320"/>
            <a:ext cx="419076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5257800" y="4876920"/>
            <a:ext cx="3352680" cy="685800"/>
          </a:xfrm>
          <a:prstGeom prst="wedgeRoundRectCallout">
            <a:avLst>
              <a:gd name="adj1" fmla="val -84898"/>
              <a:gd name="adj2" fmla="val 76620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Execute print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533520" y="1828800"/>
            <a:ext cx="42670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685800" y="3352680"/>
            <a:ext cx="571500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457200" y="4191120"/>
            <a:ext cx="571500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685800" y="5715000"/>
            <a:ext cx="70102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52680" y="2854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hat are the attribut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04600" y="2513160"/>
            <a:ext cx="3733560" cy="27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 = 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us 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of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0FB9-5CEE-4CF9-957C-75CFC75D5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600200" y="1477800"/>
            <a:ext cx="1905120" cy="1619280"/>
          </a:xfrm>
          <a:prstGeom prst="ellipse">
            <a:avLst/>
          </a:prstGeom>
          <a:solidFill>
            <a:srgbClr val="ff5050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572000" y="1657440"/>
            <a:ext cx="2895480" cy="1230120"/>
          </a:xfrm>
          <a:prstGeom prst="rect">
            <a:avLst/>
          </a:pr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Content Placeholder 2"/>
          <p:cNvSpPr/>
          <p:nvPr/>
        </p:nvSpPr>
        <p:spPr>
          <a:xfrm>
            <a:off x="4419720" y="2438280"/>
            <a:ext cx="37335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 =G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dth =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of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1981080" y="56880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What is common 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804960" y="2971800"/>
            <a:ext cx="6662520" cy="114300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843120" y="4648320"/>
            <a:ext cx="2966760" cy="60948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4424400" y="5029200"/>
            <a:ext cx="2967120" cy="60948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C8F1-E621-4B25-9F24-4B848CED4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ce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228600" y="838080"/>
            <a:ext cx="86868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Faculty extend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acul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Faculty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4) Faculty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mployee extend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("(2) Invoke Employee’s overloaded constructo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3) Employee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String 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erso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1) Person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533520" y="1219320"/>
            <a:ext cx="419076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5257800" y="4876920"/>
            <a:ext cx="3352680" cy="685800"/>
          </a:xfrm>
          <a:prstGeom prst="wedgeRoundRectCallout">
            <a:avLst>
              <a:gd name="adj1" fmla="val -87310"/>
              <a:gd name="adj2" fmla="val -103935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Execute print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533520" y="1828800"/>
            <a:ext cx="42670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685800" y="3352680"/>
            <a:ext cx="571500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685800" y="4419720"/>
            <a:ext cx="70102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95F2-AB91-4B64-BD4D-BABC457C4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ce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228600" y="838080"/>
            <a:ext cx="86868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Faculty extend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acul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Faculty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4) Faculty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mployee extend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("(2) Invoke Employee’s overloaded constructo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3) Employee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String 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erso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1) Person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533520" y="1219320"/>
            <a:ext cx="419076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5257800" y="4876920"/>
            <a:ext cx="3352680" cy="685800"/>
          </a:xfrm>
          <a:prstGeom prst="wedgeRoundRectCallout">
            <a:avLst>
              <a:gd name="adj1" fmla="val -71449"/>
              <a:gd name="adj2" fmla="val -218750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 Execute print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533520" y="1828800"/>
            <a:ext cx="42670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685800" y="3581280"/>
            <a:ext cx="70102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88D7-01C1-4480-9C90-004E31B28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ce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228600" y="838080"/>
            <a:ext cx="86868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Faculty extend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acul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Faculty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4) Faculty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mployee extend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("(2) Invoke Employee’s overloaded constructo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3) Employee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Employee(String 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Pers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erso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(1) Person's no-arg constructor is invok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533520" y="1219320"/>
            <a:ext cx="419076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5410080" y="2590920"/>
            <a:ext cx="3353040" cy="685800"/>
          </a:xfrm>
          <a:prstGeom prst="wedgeRoundRectCallout">
            <a:avLst>
              <a:gd name="adj1" fmla="val -60083"/>
              <a:gd name="adj2" fmla="val -85416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. Execute print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685800" y="2057400"/>
            <a:ext cx="7010280" cy="22860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3971-D919-4425-9EF7-7F3C62BF3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hild’s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BE5B-F140-4728-92AD-6D0BF56F2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"/>
          <p:cNvSpPr/>
          <p:nvPr/>
        </p:nvSpPr>
        <p:spPr>
          <a:xfrm>
            <a:off x="76320" y="868320"/>
            <a:ext cx="906768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/ Constrc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radiu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Radius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Set a new radiu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etRadius(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radius = radius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area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Area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 * radius * Math.PI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diamet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Diameter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* radius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perimet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Perimeter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* radius * Math.PI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 Print the circle info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printCircle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"The circle is created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getDateCreated() +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" and the radius is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radius)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Object 13"/>
          <p:cNvGraphicFramePr/>
          <p:nvPr/>
        </p:nvGraphicFramePr>
        <p:xfrm>
          <a:off x="5961240" y="52560"/>
          <a:ext cx="2786040" cy="28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1240" y="52560"/>
                    <a:ext cx="2786040" cy="28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Oval 6"/>
          <p:cNvSpPr/>
          <p:nvPr/>
        </p:nvSpPr>
        <p:spPr>
          <a:xfrm>
            <a:off x="5638680" y="299880"/>
            <a:ext cx="2819520" cy="2671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Straight Arrow Connector 8"/>
          <p:cNvCxnSpPr/>
          <p:nvPr/>
        </p:nvCxnSpPr>
        <p:spPr>
          <a:xfrm flipH="1">
            <a:off x="3607920" y="1511280"/>
            <a:ext cx="1982160" cy="915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96" name="Rectangle 3"/>
          <p:cNvSpPr/>
          <p:nvPr/>
        </p:nvSpPr>
        <p:spPr>
          <a:xfrm rot="19981800">
            <a:off x="2517480" y="1006560"/>
            <a:ext cx="4138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440" indent="-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 inherits from a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719280" y="14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ild’s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F2EB-27A4-4007-8795-5CC04610A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"/>
          <p:cNvSpPr/>
          <p:nvPr/>
        </p:nvSpPr>
        <p:spPr>
          <a:xfrm>
            <a:off x="76320" y="868320"/>
            <a:ext cx="906768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/ Constrc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radiu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Radius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Set a new radiu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etRadius(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radius = radius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area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Area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 * radius * Math.PI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diamet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Diameter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* radius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perimet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Perimeter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* radius * Math.PI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 Print the circle info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printCircle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"The circle is created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getDateCreated() +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" and the radius is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radius)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Object 13"/>
          <p:cNvGraphicFramePr/>
          <p:nvPr/>
        </p:nvGraphicFramePr>
        <p:xfrm>
          <a:off x="6742080" y="-181080"/>
          <a:ext cx="278604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2080" y="-181080"/>
                    <a:ext cx="278604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Oval 6"/>
          <p:cNvSpPr/>
          <p:nvPr/>
        </p:nvSpPr>
        <p:spPr>
          <a:xfrm>
            <a:off x="0" y="1139760"/>
            <a:ext cx="2517840" cy="708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Straight Arrow Connector 8"/>
          <p:cNvCxnSpPr/>
          <p:nvPr/>
        </p:nvCxnSpPr>
        <p:spPr>
          <a:xfrm flipV="1">
            <a:off x="2579400" y="1493280"/>
            <a:ext cx="849960" cy="291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4" name="Rectangle 3"/>
          <p:cNvSpPr/>
          <p:nvPr/>
        </p:nvSpPr>
        <p:spPr>
          <a:xfrm>
            <a:off x="3457440" y="1276200"/>
            <a:ext cx="41403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lvl="1" marL="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. Add new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719280" y="14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ild’s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E342-9F2A-4B28-B44E-844189D6E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"/>
          <p:cNvSpPr/>
          <p:nvPr/>
        </p:nvSpPr>
        <p:spPr>
          <a:xfrm>
            <a:off x="76320" y="868320"/>
            <a:ext cx="906768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/ Constrc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radiu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Radius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Set a new radiu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etRadius(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radius = radius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area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Area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 * radius * Math.PI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diamet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Diameter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* radius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perimet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Perimeter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* radius * Math.PI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 Print the circle info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printCircle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"The circle is created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getDateCreated() +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" and the radius is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radius)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Object 13"/>
          <p:cNvGraphicFramePr/>
          <p:nvPr/>
        </p:nvGraphicFramePr>
        <p:xfrm>
          <a:off x="6742080" y="-181080"/>
          <a:ext cx="278604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2080" y="-181080"/>
                    <a:ext cx="278604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Oval 6"/>
          <p:cNvSpPr/>
          <p:nvPr/>
        </p:nvSpPr>
        <p:spPr>
          <a:xfrm>
            <a:off x="11160" y="2205000"/>
            <a:ext cx="6475320" cy="3597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Straight Arrow Connector 8"/>
          <p:cNvCxnSpPr/>
          <p:nvPr/>
        </p:nvCxnSpPr>
        <p:spPr>
          <a:xfrm flipV="1">
            <a:off x="4495320" y="1493280"/>
            <a:ext cx="1080" cy="8211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12" name="Rectangle 3"/>
          <p:cNvSpPr/>
          <p:nvPr/>
        </p:nvSpPr>
        <p:spPr>
          <a:xfrm>
            <a:off x="3562200" y="938160"/>
            <a:ext cx="41389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lvl="1" marL="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 Add new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719280" y="14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ild’s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B6DC-EA9D-4FE8-A93E-A1A01DE70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108000" y="1619640"/>
            <a:ext cx="9067680" cy="350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/ Construc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Override the toString method defined in Shape class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String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oString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"The circle is created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getDateCreated() +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" and the radius is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adius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Object 13"/>
          <p:cNvGraphicFramePr/>
          <p:nvPr/>
        </p:nvGraphicFramePr>
        <p:xfrm>
          <a:off x="6742080" y="-181080"/>
          <a:ext cx="278604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2080" y="-181080"/>
                    <a:ext cx="278604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8" name="Group 5"/>
          <p:cNvGrpSpPr/>
          <p:nvPr/>
        </p:nvGrpSpPr>
        <p:grpSpPr>
          <a:xfrm>
            <a:off x="1143000" y="1992240"/>
            <a:ext cx="6894360" cy="2274840"/>
            <a:chOff x="1143000" y="1992240"/>
            <a:chExt cx="6894360" cy="2274840"/>
          </a:xfrm>
        </p:grpSpPr>
        <p:sp>
          <p:nvSpPr>
            <p:cNvPr id="419" name="Oval 6"/>
            <p:cNvSpPr/>
            <p:nvPr/>
          </p:nvSpPr>
          <p:spPr>
            <a:xfrm>
              <a:off x="1143000" y="3247560"/>
              <a:ext cx="1295280" cy="10195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0" name="Straight Arrow Connector 8"/>
            <p:cNvCxnSpPr/>
            <p:nvPr/>
          </p:nvCxnSpPr>
          <p:spPr>
            <a:xfrm flipV="1">
              <a:off x="2437920" y="2836800"/>
              <a:ext cx="610200" cy="66816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21" name="Rectangle 3"/>
            <p:cNvSpPr/>
            <p:nvPr/>
          </p:nvSpPr>
          <p:spPr>
            <a:xfrm>
              <a:off x="2340720" y="1992240"/>
              <a:ext cx="441972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69000"/>
            </a:bodyPr>
            <a:p>
              <a:pPr lvl="1" marL="216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4.  Override the methods of the supercla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16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6"/>
            <p:cNvSpPr/>
            <p:nvPr/>
          </p:nvSpPr>
          <p:spPr>
            <a:xfrm>
              <a:off x="6742080" y="2224440"/>
              <a:ext cx="1295280" cy="4431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3" name="Straight Arrow Connector 3"/>
            <p:cNvCxnSpPr/>
            <p:nvPr/>
          </p:nvCxnSpPr>
          <p:spPr>
            <a:xfrm>
              <a:off x="4800600" y="2513520"/>
              <a:ext cx="1829520" cy="108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24" name="Rectangle 1"/>
          <p:cNvSpPr/>
          <p:nvPr/>
        </p:nvSpPr>
        <p:spPr>
          <a:xfrm>
            <a:off x="719280" y="14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ild’s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40B2-828D-4A9B-8C06-9A943C565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riding Methods in the Super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1181160" y="1447920"/>
            <a:ext cx="6781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class inherits methods from a superclass. Sometimes it is necessary for the subclass to modify the implementation of a method defined in the superclass. This is referred to a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ethod overri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55EA-A151-45E1-98F1-CBCA98311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81080" y="5904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riding vs. Overlo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228600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Object 9"/>
          <p:cNvGraphicFramePr/>
          <p:nvPr/>
        </p:nvGraphicFramePr>
        <p:xfrm>
          <a:off x="222120" y="1639800"/>
          <a:ext cx="8699760" cy="46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1639800"/>
                    <a:ext cx="869976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5" name="Picture 2" descr="Image result for task"/>
          <p:cNvPicPr/>
          <p:nvPr/>
        </p:nvPicPr>
        <p:blipFill>
          <a:blip r:embed="rId3"/>
          <a:stretch/>
        </p:blipFill>
        <p:spPr>
          <a:xfrm>
            <a:off x="155520" y="4680"/>
            <a:ext cx="2562120" cy="17812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3"/>
          <p:cNvSpPr/>
          <p:nvPr/>
        </p:nvSpPr>
        <p:spPr>
          <a:xfrm>
            <a:off x="4267080" y="12193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at is the output 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"/>
          <p:cNvSpPr/>
          <p:nvPr/>
        </p:nvSpPr>
        <p:spPr>
          <a:xfrm>
            <a:off x="1981080" y="5029200"/>
            <a:ext cx="9907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0"/>
          <p:cNvSpPr/>
          <p:nvPr/>
        </p:nvSpPr>
        <p:spPr>
          <a:xfrm>
            <a:off x="6324480" y="5029200"/>
            <a:ext cx="9907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9ACE-A44F-463D-B6C2-042BF57A4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1"/>
          <p:cNvGrpSpPr/>
          <p:nvPr/>
        </p:nvGrpSpPr>
        <p:grpSpPr>
          <a:xfrm>
            <a:off x="2743200" y="152280"/>
            <a:ext cx="3124080" cy="3144960"/>
            <a:chOff x="2743200" y="152280"/>
            <a:chExt cx="3124080" cy="3144960"/>
          </a:xfrm>
        </p:grpSpPr>
        <p:pic>
          <p:nvPicPr>
            <p:cNvPr id="166" name="Picture 2" descr="https://i.ytimg.com/vi/XU3PsRNNypc/maxresdefault.jpg"/>
            <p:cNvPicPr/>
            <p:nvPr/>
          </p:nvPicPr>
          <p:blipFill>
            <a:blip r:embed="rId1"/>
            <a:stretch/>
          </p:blipFill>
          <p:spPr>
            <a:xfrm>
              <a:off x="3276360" y="398160"/>
              <a:ext cx="1828800" cy="15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Content Placeholder 2"/>
            <p:cNvSpPr/>
            <p:nvPr/>
          </p:nvSpPr>
          <p:spPr>
            <a:xfrm>
              <a:off x="2743200" y="152280"/>
              <a:ext cx="3124080" cy="314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ass Sha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buClr>
                  <a:srgbClr val="000000"/>
                </a:buClr>
                <a:buSzPct val="75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buClr>
                  <a:srgbClr val="000000"/>
                </a:buClr>
                <a:buSzPct val="75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buClr>
                  <a:srgbClr val="000000"/>
                </a:buClr>
                <a:buSzPct val="75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e of cre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2"/>
          <p:cNvGrpSpPr/>
          <p:nvPr/>
        </p:nvGrpSpPr>
        <p:grpSpPr>
          <a:xfrm>
            <a:off x="1828800" y="3296520"/>
            <a:ext cx="4876920" cy="2570760"/>
            <a:chOff x="1828800" y="3296520"/>
            <a:chExt cx="4876920" cy="2570760"/>
          </a:xfrm>
        </p:grpSpPr>
        <p:sp>
          <p:nvSpPr>
            <p:cNvPr id="169" name="Oval 7"/>
            <p:cNvSpPr/>
            <p:nvPr/>
          </p:nvSpPr>
          <p:spPr>
            <a:xfrm>
              <a:off x="2361960" y="4373640"/>
              <a:ext cx="1143000" cy="111276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Content Placeholder 2"/>
            <p:cNvSpPr/>
            <p:nvPr/>
          </p:nvSpPr>
          <p:spPr>
            <a:xfrm>
              <a:off x="1828800" y="3962160"/>
              <a:ext cx="220968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ass Cir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buClr>
                  <a:srgbClr val="000000"/>
                </a:buClr>
                <a:buSzPct val="75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di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buClr>
                  <a:srgbClr val="000000"/>
                </a:buClr>
                <a:buSzPct val="75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Content Placeholder 2"/>
            <p:cNvSpPr/>
            <p:nvPr/>
          </p:nvSpPr>
          <p:spPr>
            <a:xfrm>
              <a:off x="4496040" y="3962160"/>
              <a:ext cx="220968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ass Rectang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buClr>
                  <a:srgbClr val="000000"/>
                </a:buClr>
                <a:buSzPct val="75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d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buClr>
                  <a:srgbClr val="000000"/>
                </a:buClr>
                <a:buSzPct val="75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igh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buClr>
                  <a:srgbClr val="000000"/>
                </a:buClr>
                <a:buSzPct val="75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4"/>
            <p:cNvSpPr/>
            <p:nvPr/>
          </p:nvSpPr>
          <p:spPr>
            <a:xfrm>
              <a:off x="4915080" y="4373640"/>
              <a:ext cx="1371600" cy="704880"/>
            </a:xfrm>
            <a:prstGeom prst="rect">
              <a:avLst/>
            </a:prstGeom>
            <a:noFill/>
            <a:ln w="284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3" name="Straight Arrow Connector 16"/>
            <p:cNvCxnSpPr/>
            <p:nvPr/>
          </p:nvCxnSpPr>
          <p:spPr>
            <a:xfrm flipV="1">
              <a:off x="3657240" y="3296520"/>
              <a:ext cx="1080" cy="665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Straight Arrow Connector 19"/>
            <p:cNvCxnSpPr/>
            <p:nvPr/>
          </p:nvCxnSpPr>
          <p:spPr>
            <a:xfrm flipV="1">
              <a:off x="4800240" y="3296520"/>
              <a:ext cx="1080" cy="665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5" name="TextBox 18"/>
          <p:cNvSpPr/>
          <p:nvPr/>
        </p:nvSpPr>
        <p:spPr>
          <a:xfrm>
            <a:off x="5867280" y="14000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Super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21"/>
          <p:cNvSpPr/>
          <p:nvPr/>
        </p:nvSpPr>
        <p:spPr>
          <a:xfrm>
            <a:off x="6711840" y="39164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SubClass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16040" y="221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ride method: is the new version (behavior) of the old one. How can we reuse the old method plus adding the new behavior?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BE81-E2D1-4F94-BB37-8F6548748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FE19-8F05-4BFF-A301-40933D202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"/>
          <p:cNvSpPr/>
          <p:nvPr/>
        </p:nvSpPr>
        <p:spPr>
          <a:xfrm>
            <a:off x="304920" y="1533240"/>
            <a:ext cx="8458200" cy="1797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tring toString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created on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dateCreated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\ncolor: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color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 and filled: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filled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"/>
          <p:cNvSpPr/>
          <p:nvPr/>
        </p:nvSpPr>
        <p:spPr>
          <a:xfrm>
            <a:off x="81000" y="3661560"/>
            <a:ext cx="9067680" cy="22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String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oString() {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"The circle is created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super.toString()+ </a:t>
            </a:r>
            <a:r>
              <a:rPr b="1" lang="en-US" sz="1600" spc="-1" strike="noStrike">
                <a:solidFill>
                  <a:srgbClr val="3366ff"/>
                </a:solidFill>
                <a:latin typeface="Arial Unicode MS"/>
              </a:rPr>
              <a:t>" and the radius is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adius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Oval 6"/>
          <p:cNvSpPr/>
          <p:nvPr/>
        </p:nvSpPr>
        <p:spPr>
          <a:xfrm>
            <a:off x="5029200" y="4583160"/>
            <a:ext cx="1752480" cy="4428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685800" y="528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ling Superclass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"/>
          <p:cNvSpPr/>
          <p:nvPr/>
        </p:nvSpPr>
        <p:spPr>
          <a:xfrm>
            <a:off x="2209680" y="4583160"/>
            <a:ext cx="6553440" cy="59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9E44-9951-4E3C-924C-FC3D4B5F0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Keyword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990720" y="1905120"/>
            <a:ext cx="7162560" cy="33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s the keywor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uper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all a superclass constructor,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is keyword ca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a superclass meth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upe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can also be used to reference other variables and methods defined in the pare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 class ( public and protected on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1709-0391-4B1A-82FD-F7F8C8CBE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80880" y="1447920"/>
            <a:ext cx="8382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stance method can be overridden only if it is accessible. Thus a private method cannot be overridden, because it is not accessible outside its own class. If a method defined in a subclass is private in its superclass, the two methods are completely unrelate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09A0-91FA-4C6F-A99B-40B894928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380880" y="1447920"/>
            <a:ext cx="838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an instance method, a static method can be inherited. However, a static method cannot be overridden. If a static method defined in the superclass is redefined in a subclass, the method defined in the superclass is hidde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1B3B-FBAB-4481-997A-1189D1A3A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hild’s attributes and behavior accessibi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A317-B945-4E55-B6C1-3DD9634F2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odif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19040" y="198072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000" spc="-1" strike="noStrike">
                <a:solidFill>
                  <a:srgbClr val="ff0000"/>
                </a:solidFill>
                <a:latin typeface="Courier New"/>
              </a:rPr>
              <a:t>protected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difier can be applied on data and methods in a clas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protected data or a protected method in a public class can be accessed by any class i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ame package o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s subclasses, even if the subclasses are in a different package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16430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" descr="wu18847_1301"/>
          <p:cNvPicPr/>
          <p:nvPr/>
        </p:nvPicPr>
        <p:blipFill>
          <a:blip r:embed="rId1"/>
          <a:stretch/>
        </p:blipFill>
        <p:spPr>
          <a:xfrm>
            <a:off x="1295280" y="1536840"/>
            <a:ext cx="701064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142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visibility increas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A8D5-E3DA-487E-B67B-8D8815C7C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470" name="TextBox 2"/>
          <p:cNvSpPr/>
          <p:nvPr/>
        </p:nvSpPr>
        <p:spPr>
          <a:xfrm>
            <a:off x="53352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457200" y="3276720"/>
            <a:ext cx="121932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Straight Arrow Connector 8"/>
          <p:cNvCxnSpPr>
            <a:stCxn id="471" idx="3"/>
          </p:cNvCxnSpPr>
          <p:nvPr/>
        </p:nvCxnSpPr>
        <p:spPr>
          <a:xfrm>
            <a:off x="1676160" y="3580920"/>
            <a:ext cx="6102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TextBox 14"/>
          <p:cNvSpPr/>
          <p:nvPr/>
        </p:nvSpPr>
        <p:spPr>
          <a:xfrm>
            <a:off x="236232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5"/>
          <p:cNvSpPr/>
          <p:nvPr/>
        </p:nvSpPr>
        <p:spPr>
          <a:xfrm>
            <a:off x="2286000" y="3276720"/>
            <a:ext cx="121932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17"/>
          <p:cNvSpPr/>
          <p:nvPr/>
        </p:nvSpPr>
        <p:spPr>
          <a:xfrm>
            <a:off x="4214880" y="33400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4114800" y="3276720"/>
            <a:ext cx="1600200" cy="512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Straight Arrow Connector 22"/>
          <p:cNvCxnSpPr/>
          <p:nvPr/>
        </p:nvCxnSpPr>
        <p:spPr>
          <a:xfrm>
            <a:off x="3504960" y="3580920"/>
            <a:ext cx="6102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8" name="TextBox 20"/>
          <p:cNvSpPr/>
          <p:nvPr/>
        </p:nvSpPr>
        <p:spPr>
          <a:xfrm>
            <a:off x="640080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6324480" y="3276720"/>
            <a:ext cx="121932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0" name="Straight Arrow Connector 23"/>
          <p:cNvCxnSpPr/>
          <p:nvPr/>
        </p:nvCxnSpPr>
        <p:spPr>
          <a:xfrm>
            <a:off x="5714640" y="3580920"/>
            <a:ext cx="6102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481" name="Object 5"/>
          <p:cNvGraphicFramePr/>
          <p:nvPr/>
        </p:nvGraphicFramePr>
        <p:xfrm>
          <a:off x="1023840" y="4138560"/>
          <a:ext cx="4657680" cy="71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23840" y="4138560"/>
                    <a:ext cx="46576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5A1A-B51B-400D-8936-FB8801EE8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13000" y="648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bility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16430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8"/>
          <p:cNvSpPr/>
          <p:nvPr/>
        </p:nvSpPr>
        <p:spPr>
          <a:xfrm>
            <a:off x="224784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7" name="Object 7"/>
          <p:cNvGraphicFramePr/>
          <p:nvPr/>
        </p:nvGraphicFramePr>
        <p:xfrm>
          <a:off x="380880" y="1981080"/>
          <a:ext cx="8382240" cy="37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82240" cy="37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Rectangle 1"/>
          <p:cNvSpPr/>
          <p:nvPr/>
        </p:nvSpPr>
        <p:spPr>
          <a:xfrm>
            <a:off x="2362320" y="3062160"/>
            <a:ext cx="57150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2313000" y="3678120"/>
            <a:ext cx="54594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8"/>
          <p:cNvSpPr/>
          <p:nvPr/>
        </p:nvSpPr>
        <p:spPr>
          <a:xfrm>
            <a:off x="2286000" y="4400640"/>
            <a:ext cx="5562720" cy="55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2362320" y="5086440"/>
            <a:ext cx="5715000" cy="55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Picture 2" descr="Image result for think"/>
          <p:cNvPicPr/>
          <p:nvPr/>
        </p:nvPicPr>
        <p:blipFill>
          <a:blip r:embed="rId3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s a software developer to derive a new class from an existing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isting class is called the </a:t>
            </a: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parent cla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super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bas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rived class is called the </a:t>
            </a: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child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he name implies, the child inherits characteristics of the 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ild class inherits the methods and data defined by the paren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8C85-9028-47E5-8440-24CF47610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438280" y="374400"/>
            <a:ext cx="7772400" cy="74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ibility Modifi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168444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191448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9"/>
          <p:cNvSpPr/>
          <p:nvPr/>
        </p:nvSpPr>
        <p:spPr>
          <a:xfrm>
            <a:off x="0" y="19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Object 8"/>
          <p:cNvGraphicFramePr/>
          <p:nvPr/>
        </p:nvGraphicFramePr>
        <p:xfrm>
          <a:off x="0" y="1219320"/>
          <a:ext cx="883908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8839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1" name="Picture 2" descr="Image result for think"/>
          <p:cNvPicPr/>
          <p:nvPr/>
        </p:nvPicPr>
        <p:blipFill>
          <a:blip r:embed="rId3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1"/>
          <p:cNvSpPr/>
          <p:nvPr/>
        </p:nvSpPr>
        <p:spPr>
          <a:xfrm>
            <a:off x="3352680" y="2052720"/>
            <a:ext cx="1828800" cy="12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457200" y="4572000"/>
            <a:ext cx="18288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3581280" y="4643280"/>
            <a:ext cx="1828800" cy="114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2"/>
          <p:cNvSpPr/>
          <p:nvPr/>
        </p:nvSpPr>
        <p:spPr>
          <a:xfrm>
            <a:off x="6324480" y="4643280"/>
            <a:ext cx="1905120" cy="12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ffect of Three Visibility Modifi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3" descr="N:\CS1Ed4\Ed 4 Support Material Samples\Slides\ch13-1.tif"/>
          <p:cNvPicPr/>
          <p:nvPr/>
        </p:nvPicPr>
        <p:blipFill>
          <a:blip r:embed="rId1"/>
          <a:stretch/>
        </p:blipFill>
        <p:spPr>
          <a:xfrm>
            <a:off x="838080" y="1219320"/>
            <a:ext cx="7925040" cy="45939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7" descr="wu18847_1303"/>
          <p:cNvPicPr/>
          <p:nvPr/>
        </p:nvPicPr>
        <p:blipFill>
          <a:blip r:embed="rId2"/>
          <a:srcRect l="69069" t="0" r="7631" b="77114"/>
          <a:stretch/>
        </p:blipFill>
        <p:spPr>
          <a:xfrm>
            <a:off x="257040" y="879480"/>
            <a:ext cx="1420920" cy="9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bility of Super from Su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7" descr="N:\CS1Ed4\Ed 4 Support Material Samples\Slides\ch13-2.tif"/>
          <p:cNvPicPr/>
          <p:nvPr/>
        </p:nvPicPr>
        <p:blipFill>
          <a:blip r:embed="rId1"/>
          <a:stretch/>
        </p:blipFill>
        <p:spPr>
          <a:xfrm>
            <a:off x="914400" y="2057400"/>
            <a:ext cx="7696080" cy="384804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685800" y="165744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wu18847_1303"/>
          <p:cNvPicPr/>
          <p:nvPr/>
        </p:nvPicPr>
        <p:blipFill>
          <a:blip r:embed="rId3"/>
          <a:srcRect l="69069" t="0" r="7631" b="77114"/>
          <a:stretch/>
        </p:blipFill>
        <p:spPr>
          <a:xfrm>
            <a:off x="560520" y="1303200"/>
            <a:ext cx="1420560" cy="9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ride the Accessi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F9AD-5FD4-4C55-B577-C64CE60DC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1"/>
          <p:cNvSpPr/>
          <p:nvPr/>
        </p:nvSpPr>
        <p:spPr>
          <a:xfrm>
            <a:off x="1001880" y="4059360"/>
            <a:ext cx="7456320" cy="252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rivate void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rint () {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Override the Print method defined in Shape class*/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"/>
          <p:cNvSpPr/>
          <p:nvPr/>
        </p:nvSpPr>
        <p:spPr>
          <a:xfrm>
            <a:off x="1001880" y="1845720"/>
            <a:ext cx="3962160" cy="204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……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rotected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void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rin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/ print the conten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……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******************************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Oval 6"/>
          <p:cNvSpPr/>
          <p:nvPr/>
        </p:nvSpPr>
        <p:spPr>
          <a:xfrm>
            <a:off x="838080" y="5083200"/>
            <a:ext cx="1067040" cy="457200"/>
          </a:xfrm>
          <a:prstGeom prst="ellipse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8" name="Straight Arrow Connector 8"/>
          <p:cNvCxnSpPr>
            <a:stCxn id="517" idx="7"/>
          </p:cNvCxnSpPr>
          <p:nvPr/>
        </p:nvCxnSpPr>
        <p:spPr>
          <a:xfrm flipV="1">
            <a:off x="1749240" y="3787200"/>
            <a:ext cx="3508920" cy="13626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9" name="Rectangle 2"/>
          <p:cNvSpPr/>
          <p:nvPr/>
        </p:nvSpPr>
        <p:spPr>
          <a:xfrm>
            <a:off x="4964040" y="2982960"/>
            <a:ext cx="3353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Subclass cannot weaken the accessibilit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a method defined in the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1"/>
          <p:cNvSpPr/>
          <p:nvPr/>
        </p:nvSpPr>
        <p:spPr>
          <a:xfrm>
            <a:off x="2348640" y="13572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at is wrong with this code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33208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verride the Accessibil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29EC-E104-4390-AB16-EB1B05582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"/>
          <p:cNvSpPr/>
          <p:nvPr/>
        </p:nvSpPr>
        <p:spPr>
          <a:xfrm>
            <a:off x="1001880" y="4180680"/>
            <a:ext cx="7456320" cy="22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public void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rint () {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Override the Print method defined in Shape class*/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"/>
          <p:cNvSpPr/>
          <p:nvPr/>
        </p:nvSpPr>
        <p:spPr>
          <a:xfrm>
            <a:off x="1001880" y="1845720"/>
            <a:ext cx="3962160" cy="204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ape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……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rotected </a:t>
            </a:r>
            <a:r>
              <a:rPr b="1" lang="en-US" sz="1600" spc="-1" strike="noStrike">
                <a:solidFill>
                  <a:srgbClr val="000080"/>
                </a:solidFill>
                <a:latin typeface="Arial Unicode MS"/>
              </a:rPr>
              <a:t>void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rin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/ print the conten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……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******************************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6"/>
          <p:cNvSpPr/>
          <p:nvPr/>
        </p:nvSpPr>
        <p:spPr>
          <a:xfrm>
            <a:off x="838080" y="5083200"/>
            <a:ext cx="1067040" cy="457200"/>
          </a:xfrm>
          <a:prstGeom prst="ellipse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Straight Arrow Connector 8"/>
          <p:cNvCxnSpPr>
            <a:stCxn id="525" idx="7"/>
          </p:cNvCxnSpPr>
          <p:nvPr/>
        </p:nvCxnSpPr>
        <p:spPr>
          <a:xfrm flipV="1">
            <a:off x="1749240" y="3787200"/>
            <a:ext cx="3508920" cy="13626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27" name="Rectangle 2"/>
          <p:cNvSpPr/>
          <p:nvPr/>
        </p:nvSpPr>
        <p:spPr>
          <a:xfrm>
            <a:off x="4964040" y="2982960"/>
            <a:ext cx="3353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5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subclass may override a protected method in its superclass and change its visibility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1"/>
          <p:cNvSpPr/>
          <p:nvPr/>
        </p:nvSpPr>
        <p:spPr>
          <a:xfrm>
            <a:off x="2341800" y="135720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is code correct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530" name="TextBox 7"/>
          <p:cNvSpPr/>
          <p:nvPr/>
        </p:nvSpPr>
        <p:spPr>
          <a:xfrm>
            <a:off x="5951520" y="406872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36BD-F584-4B9C-B169-09CE2F4F1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odif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 is a consta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 static double PI = 3.1415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cannot be exten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 class Math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cannot be overridden by its sub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1"/>
          <p:cNvSpPr/>
          <p:nvPr/>
        </p:nvSpPr>
        <p:spPr>
          <a:xfrm>
            <a:off x="3581280" y="2743200"/>
            <a:ext cx="28958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3962520" y="4648320"/>
            <a:ext cx="3886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1028880" y="5116680"/>
            <a:ext cx="3886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D6FF-72F6-4F68-BA6C-366F74CAC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6557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bject Clas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 The Grand parent of all class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4762-5B58-4520-A34B-CC05906F2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b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 and Its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class in Java is descended from the java.lang.Object class. If no inheritance is specified when a class is defined, the superclass of the class is Object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3" name="Object 5"/>
          <p:cNvGraphicFramePr/>
          <p:nvPr/>
        </p:nvGraphicFramePr>
        <p:xfrm>
          <a:off x="3240" y="4267080"/>
          <a:ext cx="913752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4267080"/>
                    <a:ext cx="9137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Object 5"/>
          <p:cNvGraphicFramePr/>
          <p:nvPr/>
        </p:nvGraphicFramePr>
        <p:xfrm>
          <a:off x="3240" y="4267080"/>
          <a:ext cx="913752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" y="4267080"/>
                    <a:ext cx="9137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4"/>
          <p:cNvSpPr/>
          <p:nvPr/>
        </p:nvSpPr>
        <p:spPr>
          <a:xfrm>
            <a:off x="6553080" y="6058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B7C2-3A2F-489F-954F-BDA257CB6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oString() method in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90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String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ethod returns a string representation of the objec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implementation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ich it is in the Object class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a string consisting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1828800" y="2971800"/>
            <a:ext cx="7238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loan = new Loa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loan.toString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lo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3227400" y="4495680"/>
            <a:ext cx="3048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n@15037e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Group 10"/>
          <p:cNvGrpSpPr/>
          <p:nvPr/>
        </p:nvGrpSpPr>
        <p:grpSpPr>
          <a:xfrm>
            <a:off x="190440" y="4916160"/>
            <a:ext cx="3535560" cy="1136520"/>
            <a:chOff x="190440" y="4916160"/>
            <a:chExt cx="3535560" cy="1136520"/>
          </a:xfrm>
        </p:grpSpPr>
        <p:sp>
          <p:nvSpPr>
            <p:cNvPr id="553" name="Rectangle 1"/>
            <p:cNvSpPr/>
            <p:nvPr/>
          </p:nvSpPr>
          <p:spPr>
            <a:xfrm>
              <a:off x="190440" y="5300640"/>
              <a:ext cx="3277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 class name of which the object is an in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4" name="Straight Arrow Connector 3"/>
            <p:cNvCxnSpPr/>
            <p:nvPr/>
          </p:nvCxnSpPr>
          <p:spPr>
            <a:xfrm flipH="1">
              <a:off x="2361960" y="4916160"/>
              <a:ext cx="1364400" cy="384840"/>
            </a:xfrm>
            <a:prstGeom prst="straightConnector1">
              <a:avLst/>
            </a:prstGeom>
            <a:ln w="12600">
              <a:solidFill>
                <a:srgbClr val="ff5050"/>
              </a:solidFill>
              <a:miter/>
              <a:tailEnd len="med" type="triangle" w="med"/>
            </a:ln>
          </p:spPr>
        </p:cxnSp>
      </p:grpSp>
      <p:grpSp>
        <p:nvGrpSpPr>
          <p:cNvPr id="555" name="Group 13"/>
          <p:cNvGrpSpPr/>
          <p:nvPr/>
        </p:nvGrpSpPr>
        <p:grpSpPr>
          <a:xfrm>
            <a:off x="3581280" y="4981680"/>
            <a:ext cx="2049480" cy="924840"/>
            <a:chOff x="3581280" y="4981680"/>
            <a:chExt cx="2049480" cy="924840"/>
          </a:xfrm>
        </p:grpSpPr>
        <p:sp>
          <p:nvSpPr>
            <p:cNvPr id="556" name="Rectangle 7"/>
            <p:cNvSpPr/>
            <p:nvPr/>
          </p:nvSpPr>
          <p:spPr>
            <a:xfrm>
              <a:off x="3581280" y="5483520"/>
              <a:ext cx="2049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he at sign (@)</a:t>
              </a:r>
              <a:r>
                <a:rPr b="0" lang="en-US" sz="2400" spc="-1" strike="noStrike">
                  <a:solidFill>
                    <a:srgbClr val="ff0000"/>
                  </a:solidFill>
                  <a:latin typeface="Courier New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7" name="Straight Arrow Connector 11"/>
            <p:cNvCxnSpPr/>
            <p:nvPr/>
          </p:nvCxnSpPr>
          <p:spPr>
            <a:xfrm flipH="1">
              <a:off x="4331880" y="4981680"/>
              <a:ext cx="1080" cy="502560"/>
            </a:xfrm>
            <a:prstGeom prst="straightConnector1">
              <a:avLst/>
            </a:prstGeom>
            <a:ln w="12600">
              <a:solidFill>
                <a:srgbClr val="ff5050"/>
              </a:solidFill>
              <a:miter/>
              <a:tailEnd len="med" type="triangle" w="med"/>
            </a:ln>
          </p:spPr>
        </p:cxnSp>
      </p:grpSp>
      <p:grpSp>
        <p:nvGrpSpPr>
          <p:cNvPr id="558" name="Group 15"/>
          <p:cNvGrpSpPr/>
          <p:nvPr/>
        </p:nvGrpSpPr>
        <p:grpSpPr>
          <a:xfrm>
            <a:off x="5448240" y="4916520"/>
            <a:ext cx="3009960" cy="1228680"/>
            <a:chOff x="5448240" y="4916520"/>
            <a:chExt cx="3009960" cy="1228680"/>
          </a:xfrm>
        </p:grpSpPr>
        <p:sp>
          <p:nvSpPr>
            <p:cNvPr id="559" name="Rectangle 8"/>
            <p:cNvSpPr/>
            <p:nvPr/>
          </p:nvSpPr>
          <p:spPr>
            <a:xfrm>
              <a:off x="5888880" y="5064120"/>
              <a:ext cx="25693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 number representing this object.</a:t>
              </a:r>
              <a:r>
                <a:rPr b="0" lang="en-US" sz="2400" spc="-1" strike="noStrike">
                  <a:solidFill>
                    <a:srgbClr val="ff0000"/>
                  </a:solidFill>
                  <a:latin typeface="Courier New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Straight Arrow Connector 14"/>
            <p:cNvCxnSpPr/>
            <p:nvPr/>
          </p:nvCxnSpPr>
          <p:spPr>
            <a:xfrm>
              <a:off x="5448240" y="4916520"/>
              <a:ext cx="828000" cy="208080"/>
            </a:xfrm>
            <a:prstGeom prst="straightConnector1">
              <a:avLst/>
            </a:prstGeom>
            <a:ln w="12600">
              <a:solidFill>
                <a:srgbClr val="ff505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3847-9345-4403-AADC-22623D23B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66800" y="340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oString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457200" y="175248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s this Object representation helpful informative?????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an@15037e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, what we do ????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Usually you should override the toString method so that it returns a digestible string representation of the objec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18D9-1C64-4B54-A3D3-4CF7CAEE653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 relationships are shown in a UML class diagram as sh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2"/>
          <p:cNvGrpSpPr/>
          <p:nvPr/>
        </p:nvGrpSpPr>
        <p:grpSpPr>
          <a:xfrm>
            <a:off x="4191120" y="2835360"/>
            <a:ext cx="304560" cy="837720"/>
            <a:chOff x="4191120" y="2835360"/>
            <a:chExt cx="304560" cy="837720"/>
          </a:xfrm>
        </p:grpSpPr>
        <p:sp>
          <p:nvSpPr>
            <p:cNvPr id="184" name="Line 6"/>
            <p:cNvSpPr/>
            <p:nvPr/>
          </p:nvSpPr>
          <p:spPr>
            <a:xfrm flipV="1">
              <a:off x="4343400" y="3063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AutoShape 7"/>
            <p:cNvSpPr/>
            <p:nvPr/>
          </p:nvSpPr>
          <p:spPr>
            <a:xfrm>
              <a:off x="4191120" y="283536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Rectangle 8"/>
          <p:cNvSpPr/>
          <p:nvPr/>
        </p:nvSpPr>
        <p:spPr>
          <a:xfrm>
            <a:off x="3505320" y="2363400"/>
            <a:ext cx="1600200" cy="459720"/>
          </a:xfrm>
          <a:prstGeom prst="rect">
            <a:avLst/>
          </a:prstGeom>
          <a:solidFill>
            <a:srgbClr val="96fe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MS PGothic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3505320" y="3658680"/>
            <a:ext cx="1600200" cy="459720"/>
          </a:xfrm>
          <a:prstGeom prst="rect">
            <a:avLst/>
          </a:prstGeom>
          <a:solidFill>
            <a:srgbClr val="96fe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MS PGothic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914400" y="4267080"/>
            <a:ext cx="7924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 inheritance creates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-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tionship, meaning the child is a more specific version of the pa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supports Only </a:t>
            </a: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sing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heri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eaning that a derived class can have only one paren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Multip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herit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a class to be derived from two or more classes, inheriting the members of all parents. ( for example pickup truck inherit from car and tru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isions, such as the same variable name in two parents, have to be resol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0" lang="en-US" sz="2400" spc="-1" strike="noStrike">
                <a:solidFill>
                  <a:srgbClr val="de2c28"/>
                </a:solidFill>
                <a:latin typeface="Times New Roman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pport multiple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st cases, the use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rf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ives us aspects of multiple inheritance without the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E487-D12D-4E65-8676-3DCA2467B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perclasses and Subcla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146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Object 13"/>
          <p:cNvGraphicFramePr/>
          <p:nvPr/>
        </p:nvGraphicFramePr>
        <p:xfrm>
          <a:off x="3886200" y="1263600"/>
          <a:ext cx="4987800" cy="51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263600"/>
                    <a:ext cx="498780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3"/>
          <p:cNvSpPr/>
          <p:nvPr/>
        </p:nvSpPr>
        <p:spPr>
          <a:xfrm>
            <a:off x="304920" y="1523880"/>
            <a:ext cx="3886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mer can tailor a Parent class as needed by adding ne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ariables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thods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y modifying the inherit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2"/>
          <p:cNvGrpSpPr/>
          <p:nvPr/>
        </p:nvGrpSpPr>
        <p:grpSpPr>
          <a:xfrm>
            <a:off x="3886200" y="4191120"/>
            <a:ext cx="4191120" cy="380880"/>
            <a:chOff x="3886200" y="4191120"/>
            <a:chExt cx="4191120" cy="380880"/>
          </a:xfrm>
        </p:grpSpPr>
        <p:sp>
          <p:nvSpPr>
            <p:cNvPr id="197" name="Rectangle 1"/>
            <p:cNvSpPr/>
            <p:nvPr/>
          </p:nvSpPr>
          <p:spPr>
            <a:xfrm>
              <a:off x="3886200" y="4191120"/>
              <a:ext cx="1371600" cy="228600"/>
            </a:xfrm>
            <a:prstGeom prst="rect">
              <a:avLst/>
            </a:pr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6705720" y="4191120"/>
              <a:ext cx="1371600" cy="380880"/>
            </a:xfrm>
            <a:prstGeom prst="rect">
              <a:avLst/>
            </a:pr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3"/>
          <p:cNvGrpSpPr/>
          <p:nvPr/>
        </p:nvGrpSpPr>
        <p:grpSpPr>
          <a:xfrm>
            <a:off x="4073400" y="4937040"/>
            <a:ext cx="4384800" cy="1311480"/>
            <a:chOff x="4073400" y="4937040"/>
            <a:chExt cx="4384800" cy="1311480"/>
          </a:xfrm>
        </p:grpSpPr>
        <p:sp>
          <p:nvSpPr>
            <p:cNvPr id="200" name="Rectangle 11"/>
            <p:cNvSpPr/>
            <p:nvPr/>
          </p:nvSpPr>
          <p:spPr>
            <a:xfrm>
              <a:off x="4073400" y="4937040"/>
              <a:ext cx="1565640" cy="1082880"/>
            </a:xfrm>
            <a:prstGeom prst="rect">
              <a:avLst/>
            </a:pr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12"/>
            <p:cNvSpPr/>
            <p:nvPr/>
          </p:nvSpPr>
          <p:spPr>
            <a:xfrm>
              <a:off x="6892560" y="5257080"/>
              <a:ext cx="1565640" cy="991440"/>
            </a:xfrm>
            <a:prstGeom prst="rect">
              <a:avLst/>
            </a:pr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3B3A-DBCB-404E-AA02-3234DD96652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Times New Roman"/>
              </a:rPr>
              <a:t>Softwa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re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undamental benefit of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using existing software components to create new ones, we capitalize on all the effort that went into the design, implementation, and testing of the existing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00FD-F508-49A6-ACDC-81B1FE0C6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perclasses and Subcla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0" y="146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5791320" y="2209680"/>
            <a:ext cx="3124080" cy="533520"/>
          </a:xfrm>
          <a:custGeom>
            <a:avLst/>
            <a:gdLst>
              <a:gd name="textAreaLeft" fmla="*/ 34560 w 3124080"/>
              <a:gd name="textAreaRight" fmla="*/ 3089520 w 3124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26410" h="21600">
                <a:moveTo>
                  <a:pt x="0" y="0"/>
                </a:moveTo>
                <a:lnTo>
                  <a:pt x="126410" y="0"/>
                </a:lnTo>
                <a:lnTo>
                  <a:pt x="126410" y="21600"/>
                </a:lnTo>
                <a:lnTo>
                  <a:pt x="0" y="21600"/>
                </a:lnTo>
                <a:close/>
              </a:path>
              <a:path fill="lightenLess" w="126410" h="21600">
                <a:moveTo>
                  <a:pt x="0" y="0"/>
                </a:moveTo>
                <a:lnTo>
                  <a:pt x="126410" y="0"/>
                </a:lnTo>
                <a:lnTo>
                  <a:pt x="125010" y="1400"/>
                </a:lnTo>
                <a:lnTo>
                  <a:pt x="1400" y="1400"/>
                </a:lnTo>
                <a:close/>
              </a:path>
              <a:path fill="darken" w="126410" h="21600">
                <a:moveTo>
                  <a:pt x="126410" y="0"/>
                </a:moveTo>
                <a:lnTo>
                  <a:pt x="126410" y="21600"/>
                </a:lnTo>
                <a:lnTo>
                  <a:pt x="125010" y="20200"/>
                </a:lnTo>
                <a:lnTo>
                  <a:pt x="125010" y="1400"/>
                </a:lnTo>
                <a:close/>
              </a:path>
              <a:path fill="darkenLess" w="126410" h="21600">
                <a:moveTo>
                  <a:pt x="126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010" y="20200"/>
                </a:lnTo>
                <a:close/>
              </a:path>
              <a:path fill="lighten" w="126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Geometric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1"/>
          <p:cNvSpPr/>
          <p:nvPr/>
        </p:nvSpPr>
        <p:spPr>
          <a:xfrm>
            <a:off x="6248520" y="4876920"/>
            <a:ext cx="2743200" cy="533160"/>
          </a:xfrm>
          <a:custGeom>
            <a:avLst/>
            <a:gdLst>
              <a:gd name="textAreaLeft" fmla="*/ 34560 w 2743200"/>
              <a:gd name="textAreaRight" fmla="*/ 2708640 w 27432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11075" h="21600">
                <a:moveTo>
                  <a:pt x="0" y="0"/>
                </a:moveTo>
                <a:lnTo>
                  <a:pt x="111075" y="0"/>
                </a:lnTo>
                <a:lnTo>
                  <a:pt x="111075" y="21600"/>
                </a:lnTo>
                <a:lnTo>
                  <a:pt x="0" y="21600"/>
                </a:lnTo>
                <a:close/>
              </a:path>
              <a:path fill="lightenLess" w="111075" h="21600">
                <a:moveTo>
                  <a:pt x="0" y="0"/>
                </a:moveTo>
                <a:lnTo>
                  <a:pt x="111075" y="0"/>
                </a:lnTo>
                <a:lnTo>
                  <a:pt x="109675" y="1400"/>
                </a:lnTo>
                <a:lnTo>
                  <a:pt x="1400" y="1400"/>
                </a:lnTo>
                <a:close/>
              </a:path>
              <a:path fill="darken" w="111075" h="21600">
                <a:moveTo>
                  <a:pt x="111075" y="0"/>
                </a:moveTo>
                <a:lnTo>
                  <a:pt x="111075" y="21600"/>
                </a:lnTo>
                <a:lnTo>
                  <a:pt x="109675" y="20200"/>
                </a:lnTo>
                <a:lnTo>
                  <a:pt x="109675" y="1400"/>
                </a:lnTo>
                <a:close/>
              </a:path>
              <a:path fill="darkenLess" w="111075" h="21600">
                <a:moveTo>
                  <a:pt x="111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675" y="20200"/>
                </a:lnTo>
                <a:close/>
              </a:path>
              <a:path fill="lighten" w="111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TestCircle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2">
            <a:hlinkClick r:id="rId1"/>
          </p:cNvPr>
          <p:cNvSpPr/>
          <p:nvPr/>
        </p:nvSpPr>
        <p:spPr>
          <a:xfrm>
            <a:off x="6781680" y="5638680"/>
            <a:ext cx="1828800" cy="53352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4005" h="21600">
                <a:moveTo>
                  <a:pt x="0" y="0"/>
                </a:moveTo>
                <a:lnTo>
                  <a:pt x="74005" y="0"/>
                </a:lnTo>
                <a:lnTo>
                  <a:pt x="74005" y="21600"/>
                </a:lnTo>
                <a:lnTo>
                  <a:pt x="0" y="21600"/>
                </a:lnTo>
                <a:close/>
              </a:path>
              <a:path fill="lightenLess" w="74005" h="21600">
                <a:moveTo>
                  <a:pt x="0" y="0"/>
                </a:moveTo>
                <a:lnTo>
                  <a:pt x="74005" y="0"/>
                </a:lnTo>
                <a:lnTo>
                  <a:pt x="72605" y="1400"/>
                </a:lnTo>
                <a:lnTo>
                  <a:pt x="1400" y="1400"/>
                </a:lnTo>
                <a:close/>
              </a:path>
              <a:path fill="darken" w="74005" h="21600">
                <a:moveTo>
                  <a:pt x="74005" y="0"/>
                </a:moveTo>
                <a:lnTo>
                  <a:pt x="74005" y="21600"/>
                </a:lnTo>
                <a:lnTo>
                  <a:pt x="72605" y="20200"/>
                </a:lnTo>
                <a:lnTo>
                  <a:pt x="72605" y="1400"/>
                </a:lnTo>
                <a:close/>
              </a:path>
              <a:path fill="darkenLess" w="74005" h="21600">
                <a:moveTo>
                  <a:pt x="7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05" y="20200"/>
                </a:lnTo>
                <a:close/>
              </a:path>
              <a:path fill="lighten" w="7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13"/>
          <p:cNvGraphicFramePr/>
          <p:nvPr/>
        </p:nvGraphicFramePr>
        <p:xfrm>
          <a:off x="233280" y="836640"/>
          <a:ext cx="5437440" cy="556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836640"/>
                    <a:ext cx="543744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AutoShape 9"/>
          <p:cNvSpPr/>
          <p:nvPr/>
        </p:nvSpPr>
        <p:spPr>
          <a:xfrm>
            <a:off x="4876920" y="2895480"/>
            <a:ext cx="4114800" cy="457200"/>
          </a:xfrm>
          <a:custGeom>
            <a:avLst/>
            <a:gdLst>
              <a:gd name="textAreaLeft" fmla="*/ 29520 w 4114800"/>
              <a:gd name="textAreaRight" fmla="*/ 4085280 w 4114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94264" h="21600">
                <a:moveTo>
                  <a:pt x="0" y="0"/>
                </a:moveTo>
                <a:lnTo>
                  <a:pt x="194264" y="0"/>
                </a:lnTo>
                <a:lnTo>
                  <a:pt x="194264" y="21600"/>
                </a:lnTo>
                <a:lnTo>
                  <a:pt x="0" y="21600"/>
                </a:lnTo>
                <a:close/>
              </a:path>
              <a:path fill="lightenLess" w="194264" h="21600">
                <a:moveTo>
                  <a:pt x="0" y="0"/>
                </a:moveTo>
                <a:lnTo>
                  <a:pt x="194264" y="0"/>
                </a:lnTo>
                <a:lnTo>
                  <a:pt x="192864" y="1400"/>
                </a:lnTo>
                <a:lnTo>
                  <a:pt x="1400" y="1400"/>
                </a:lnTo>
                <a:close/>
              </a:path>
              <a:path fill="darken" w="194264" h="21600">
                <a:moveTo>
                  <a:pt x="194264" y="0"/>
                </a:moveTo>
                <a:lnTo>
                  <a:pt x="194264" y="21600"/>
                </a:lnTo>
                <a:lnTo>
                  <a:pt x="192864" y="20200"/>
                </a:lnTo>
                <a:lnTo>
                  <a:pt x="192864" y="1400"/>
                </a:lnTo>
                <a:close/>
              </a:path>
              <a:path fill="darkenLess" w="194264" h="21600">
                <a:moveTo>
                  <a:pt x="19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2864" y="20200"/>
                </a:lnTo>
                <a:close/>
              </a:path>
              <a:path fill="lighten" w="19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Book Antiqua"/>
              </a:rPr>
              <a:t>CircleFromSimpleGeometric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4876920" y="3505320"/>
            <a:ext cx="4114800" cy="457200"/>
          </a:xfrm>
          <a:custGeom>
            <a:avLst/>
            <a:gdLst>
              <a:gd name="textAreaLeft" fmla="*/ 29520 w 4114800"/>
              <a:gd name="textAreaRight" fmla="*/ 4085280 w 4114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94264" h="21600">
                <a:moveTo>
                  <a:pt x="0" y="0"/>
                </a:moveTo>
                <a:lnTo>
                  <a:pt x="194264" y="0"/>
                </a:lnTo>
                <a:lnTo>
                  <a:pt x="194264" y="21600"/>
                </a:lnTo>
                <a:lnTo>
                  <a:pt x="0" y="21600"/>
                </a:lnTo>
                <a:close/>
              </a:path>
              <a:path fill="lightenLess" w="194264" h="21600">
                <a:moveTo>
                  <a:pt x="0" y="0"/>
                </a:moveTo>
                <a:lnTo>
                  <a:pt x="194264" y="0"/>
                </a:lnTo>
                <a:lnTo>
                  <a:pt x="192864" y="1400"/>
                </a:lnTo>
                <a:lnTo>
                  <a:pt x="1400" y="1400"/>
                </a:lnTo>
                <a:close/>
              </a:path>
              <a:path fill="darken" w="194264" h="21600">
                <a:moveTo>
                  <a:pt x="194264" y="0"/>
                </a:moveTo>
                <a:lnTo>
                  <a:pt x="194264" y="21600"/>
                </a:lnTo>
                <a:lnTo>
                  <a:pt x="192864" y="20200"/>
                </a:lnTo>
                <a:lnTo>
                  <a:pt x="192864" y="1400"/>
                </a:lnTo>
                <a:close/>
              </a:path>
              <a:path fill="darkenLess" w="194264" h="21600">
                <a:moveTo>
                  <a:pt x="19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2864" y="20200"/>
                </a:lnTo>
                <a:close/>
              </a:path>
              <a:path fill="lighten" w="19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Book Antiqua"/>
              </a:rPr>
              <a:t>RectangleFromSimpleGeometric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15">
            <a:hlinkClick r:id="rId4"/>
          </p:cNvPr>
          <p:cNvSpPr/>
          <p:nvPr/>
        </p:nvSpPr>
        <p:spPr>
          <a:xfrm>
            <a:off x="4495680" y="335268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16">
            <a:hlinkClick r:id="rId5"/>
          </p:cNvPr>
          <p:cNvSpPr/>
          <p:nvPr/>
        </p:nvSpPr>
        <p:spPr>
          <a:xfrm>
            <a:off x="4572000" y="251460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17">
            <a:hlinkClick r:id="rId6"/>
          </p:cNvPr>
          <p:cNvSpPr/>
          <p:nvPr/>
        </p:nvSpPr>
        <p:spPr>
          <a:xfrm>
            <a:off x="5638680" y="198108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18">
            <a:hlinkClick r:id="rId7"/>
          </p:cNvPr>
          <p:cNvSpPr/>
          <p:nvPr/>
        </p:nvSpPr>
        <p:spPr>
          <a:xfrm>
            <a:off x="5638680" y="4876920"/>
            <a:ext cx="468360" cy="57600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000"/>
              <a:gd name="textAreaBottom" fmla="*/ 545760 h 576000"/>
            </a:gdLst>
            <a:ahLst/>
            <a:rect l="textAreaLeft" t="textAreaTop" r="textAreaRight" b="textAreaBottom"/>
            <a:pathLst>
              <a:path w="21600" h="26560">
                <a:moveTo>
                  <a:pt x="0" y="0"/>
                </a:moveTo>
                <a:lnTo>
                  <a:pt x="21600" y="0"/>
                </a:lnTo>
                <a:lnTo>
                  <a:pt x="21600" y="26560"/>
                </a:lnTo>
                <a:lnTo>
                  <a:pt x="0" y="26560"/>
                </a:lnTo>
                <a:close/>
              </a:path>
              <a:path fill="lightenLess" w="21600" h="265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60">
                <a:moveTo>
                  <a:pt x="21600" y="0"/>
                </a:moveTo>
                <a:lnTo>
                  <a:pt x="21600" y="26560"/>
                </a:lnTo>
                <a:lnTo>
                  <a:pt x="20200" y="25160"/>
                </a:lnTo>
                <a:lnTo>
                  <a:pt x="20200" y="1400"/>
                </a:lnTo>
                <a:close/>
              </a:path>
              <a:path fill="darkenLess" w="21600" h="26560">
                <a:moveTo>
                  <a:pt x="21600" y="26560"/>
                </a:moveTo>
                <a:lnTo>
                  <a:pt x="0" y="26560"/>
                </a:lnTo>
                <a:lnTo>
                  <a:pt x="1400" y="25160"/>
                </a:lnTo>
                <a:lnTo>
                  <a:pt x="20200" y="25160"/>
                </a:lnTo>
                <a:close/>
              </a:path>
              <a:path fill="lighten" w="21600" h="26560">
                <a:moveTo>
                  <a:pt x="0" y="265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60"/>
                </a:lnTo>
                <a:close/>
              </a:path>
              <a:path fill="darkenLess" w="21600" h="26560">
                <a:moveTo>
                  <a:pt x="5273" y="6465"/>
                </a:moveTo>
                <a:lnTo>
                  <a:pt x="12271" y="6465"/>
                </a:lnTo>
                <a:lnTo>
                  <a:pt x="16327" y="9964"/>
                </a:lnTo>
                <a:lnTo>
                  <a:pt x="16327" y="20095"/>
                </a:lnTo>
                <a:lnTo>
                  <a:pt x="5273" y="20095"/>
                </a:lnTo>
                <a:close/>
              </a:path>
              <a:path fill="darken" w="21600" h="26560">
                <a:moveTo>
                  <a:pt x="12271" y="6465"/>
                </a:moveTo>
                <a:lnTo>
                  <a:pt x="16327" y="9964"/>
                </a:lnTo>
                <a:lnTo>
                  <a:pt x="12271" y="9964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AREEJ MAATOG SALEEM ALHOTHALI</cp:lastModifiedBy>
  <dcterms:modified xsi:type="dcterms:W3CDTF">2019-08-31T05:24:37Z</dcterms:modified>
  <cp:revision>321</cp:revision>
  <dc:subject/>
  <dc:title>Chapter 9: Objects and Classes</dc:title>
</cp:coreProperties>
</file>