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D9E-BCBD-4C18-BB0F-A0324C3607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B85A-5714-4E6D-984E-30E6856C3E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509-75C9-45B3-86A7-F0612442B2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C02-E3D2-42F0-95F2-38B6443256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0302-A4C7-4F98-BA27-EF6553F65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7786-705D-42EA-B1FB-9A05F32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8FBE-A7CB-4CCB-9629-451442E6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49EA-1D59-4B66-A687-CB6792B1E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55B4E-A0EC-4DE0-91C9-6472319D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A946-8146-4558-9408-14FF2020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6E53-3137-4CEF-9019-1232B39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707F-9CD9-4C4F-98A3-E3F9A7D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FDA2E-7447-480E-B05E-2DEEC7E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F72BE-7E27-48DE-BBA3-9949753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11591-9BE2-4018-83B9-75130BD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613C-B494-49FE-9594-67767A92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B4BD-2BC8-4208-AC87-6244BC75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5CB2-232E-4298-B9B3-1F1CE32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9722D-E927-4A43-B135-711BFAFF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47F40-BF29-4349-B766-74A88F68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22CDD-987E-4BCC-9F10-3FD3C54F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B59D-EE01-4527-935D-804E704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6B75-EE5D-42E7-A721-08385E9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8B6E-9D98-4E5B-B399-B110B614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CEC1-5648-476B-B6C6-A593237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1124-EF33-4FE8-9F00-9F0A578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3FBD-7022-417C-ACBF-B60CC7CD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1BF5-AC45-4268-812B-E5FAA0FC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0BBD-F2E0-42D4-87E7-E4C22DC6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E35-B0F4-4EF5-B661-482962665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497-1E8F-4575-A473-B366CB9C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9680" y="1523880"/>
            <a:ext cx="807696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Exception Hand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6F7-7FCF-4911-9FA5-95ED7215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5181480" y="265752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row an Excep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t enables a method to throw an exception to its caller. Without this capability, a method must handle the exception or terminate the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26880" y="2084400"/>
            <a:ext cx="5867640" cy="3808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eption is an object created from an Excepti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Arithmetic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ructor is invok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is a message that describe the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hanges the normal flow of control in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32560" y="61977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3BE-63AE-4892-8FBD-A4A05936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36680" y="14637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580-1C3C-464A-B7FB-CBF32920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3962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le excep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exception occurred in the try block which contains the code that might an exception occurred in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057400" y="4573440"/>
            <a:ext cx="2819520" cy="303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04920" y="4307040"/>
            <a:ext cx="914400" cy="341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5C7C-E0A0-4B40-957C-BFC0860BE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0" y="889560"/>
            <a:ext cx="899172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With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rithmeticExceptio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/ numbe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//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      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ArithmeticException e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ception: an integer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cannot be divided by zero 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Execution continues ...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440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181480" y="28195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tch bloc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exception  is caught by catch block to handle the exce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457200" y="5369040"/>
            <a:ext cx="3429000" cy="2696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ing and ca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 error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 &lt;exception object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 handlers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specified exceptions and recover from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 (&lt;exception type&gt;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statements that handle the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al 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break the normal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xception occurs, the statement that would normally execute next is not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stead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he exception is caugh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t is caugh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tatements are executed in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ch bloc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the method to throw an exception to its c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the caller to handle the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is capability the called method must handle the exception or terminate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EE31-379E-48B6-A713-F25DA7784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vantage of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6D81-2B8E-4BCC-A16F-31F1D2516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2514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Handle an InputMismatchExceptio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0880" y="381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handling InputMismatchException, your program will continuously read an input until it is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8EC0-948B-4AA3-8937-147A0B568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58320" y="100800"/>
            <a:ext cx="879444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putMismatchExceptionDe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oolean continueInput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an integer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play the resul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he number entered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ntinueInput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atch (InputMismatchException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ystem.out.println("Try again. (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"Incorrect input: an integer is required)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nput.nextLine(); // disc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 while (continueIn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C59-9FDF-48F9-AF1D-E6AA408D1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58320" y="100800"/>
            <a:ext cx="879444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putMismatchExceptionDe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ontinue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an integer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play the resul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he number entered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inueInput =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InputMismatchException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Try again. (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Incorrect input: an integer is required)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put.nextLine(); </a:t>
            </a: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disc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 </a:t>
            </a: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continueIn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15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Content Placeholder 6" descr=""/>
          <p:cNvPicPr/>
          <p:nvPr/>
        </p:nvPicPr>
        <p:blipFill>
          <a:blip r:embed="rId1"/>
          <a:stretch/>
        </p:blipFill>
        <p:spPr>
          <a:xfrm>
            <a:off x="808200" y="1814400"/>
            <a:ext cx="7772400" cy="307512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E97-2333-4656-A88B-4C2A28372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733920"/>
            <a:ext cx="7772400" cy="17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will happen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8E44-1D32-418C-AEFD-2D873EA4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199-5182-4246-ADCD-48AAFB57D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304920" y="1371600"/>
          <a:ext cx="88390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839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2971800" y="4038480"/>
            <a:ext cx="3193920" cy="18288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411480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rr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rown by JVM and represented in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escribes internal system errors. Such errors rarely occur. If one does, there is little you can do beyond notifying the user and trying to terminate the program graceful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FC47-4D10-4EE1-A79E-65AA8CB8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0" y="121932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bes errors caused by your program and external circumstances. These errors can be caught and handled by your program</a:t>
            </a:r>
            <a:r>
              <a:rPr b="0" lang="en-U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743200" y="1447920"/>
            <a:ext cx="6172200" cy="289548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163-7FD1-4198-9400-D9A90DBC9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tim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6172200" y="45720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timeException is caused by programming errors, such as bad casting, accessing an out-of-bounds array, and numeric err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943600" y="1905120"/>
            <a:ext cx="2743200" cy="243828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7080" y="2743200"/>
            <a:ext cx="1676520" cy="53352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6273-CDF7-4996-A1EC-0E3ED8070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ed Exceptions vs. 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80880" y="1981080"/>
            <a:ext cx="8534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ntim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subclasses are known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check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exceptions are known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cked exce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ed exceptions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the compiler forces the programmer to check and deal with the exceptions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9032-C9EB-48B5-B7F5-01B50632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04920" y="106668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hecked exceptions reflect programming logic errors that are not recoverable and should be corrected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hecked exceptions can occur anywhere in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void cumbersome overuse of try-catch blocks, Java does not mandate you to write code to catch unchecked exce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llPointer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xOutOfBounds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AAA-0698-4417-8891-CEF9A860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52280" y="1371600"/>
          <a:ext cx="883944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5"/>
          <p:cNvSpPr/>
          <p:nvPr/>
        </p:nvSpPr>
        <p:spPr>
          <a:xfrm>
            <a:off x="67816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Unchecked exce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114800" y="2743200"/>
            <a:ext cx="2209680" cy="53352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248520" y="1905120"/>
            <a:ext cx="2514600" cy="25146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743200" y="3962520"/>
            <a:ext cx="3581280" cy="1828800"/>
          </a:xfrm>
          <a:prstGeom prst="rect">
            <a:avLst/>
          </a:prstGeom>
          <a:solidFill>
            <a:srgbClr val="cbcbcb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3CC-7B1B-4B84-B7A0-B536D61D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’s exception handl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0001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-155520" y="3700440"/>
          <a:ext cx="92962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5520" y="3700440"/>
                    <a:ext cx="92962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4"/>
          <p:cNvSpPr/>
          <p:nvPr/>
        </p:nvSpPr>
        <p:spPr>
          <a:xfrm>
            <a:off x="266760" y="1442880"/>
            <a:ext cx="86104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’s exception handling model is based on three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ing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wing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ching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-189000" y="3718080"/>
          <a:ext cx="929664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9000" y="3718080"/>
                    <a:ext cx="929664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272-99AE-494B-B113-0BC96694E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ethod must state the types of checked exceptions it might throw. This is known a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laring exce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re is an examp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public void myMethod() throws IOEx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7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public void myMethod()  throws IOException, Oth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unchecked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ava does not require a declaration explicitly in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20B-077F-4BDD-A539-1B7B3504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program detects an error, the program can create an instance of an appropriate exception type and throw it. This is known a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wing an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re is an examp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row new TheException(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eException ex = new TheException();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throw ex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7BD-F26E-44FC-BC88-B5131BF1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712800" y="1886040"/>
            <a:ext cx="8015400" cy="284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mage result for think"/>
          <p:cNvPicPr/>
          <p:nvPr/>
        </p:nvPicPr>
        <p:blipFill>
          <a:blip r:embed="rId2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865080" y="3733920"/>
            <a:ext cx="7772400" cy="17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will happen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456-18C7-4C78-9C8E-92EC57F5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Exception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/** Set a new radiu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public void setRadius(double newRadi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rows IllegalArgumentException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if (newRadius &g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radius =  newRadi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row new IllegalArgument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"Radius cannot be negativ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E04-E048-4BC8-ACD1-17BB7929A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exception is thrown, it can be caught and handled in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y-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;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Times New Roman"/>
              </a:rPr>
              <a:t>// Statements that may throw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1 exVar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2 exVar2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ceptionN exVar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r for exception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B4F1-81FE-47DC-9D5A-D88FAA81D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2057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8860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0" y="1295280"/>
          <a:ext cx="9144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12E0-42AE-4B8A-AB84-BE072AF74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IllegalArgumentException ("Illegal wrong"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762120" y="2895480"/>
            <a:ext cx="16002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legal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770-B0AC-4FC6-88E5-514E00FC1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NullPointerException ("Null wrong"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762120" y="289548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ll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411F-1295-4D17-99A0-5E6364F47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2743200" y="71280"/>
            <a:ext cx="640080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1();          System.out.println("S1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ArithmeticException 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2")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1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 m2();      System.out.println("S3");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NullPointerException e)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System.out.println(e.getMessage()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4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}//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 static void m2(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y{m3();       System.out.println("S5");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tch( IllegalArgumentException e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{   System.out.println(e.getMessage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ystem.out.println("S6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}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MS PGothic"/>
              </a:rPr>
              <a:t>//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  <a:ea typeface="MS P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blic static void m3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row new ArithmeticException ("Arith wrong"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2120" y="2895480"/>
            <a:ext cx="1447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ith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825-174F-4CE3-8CC9-C07574BFD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ch or Declare Checked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uppose a method declares a checked exception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ava forces you to deal with checked exception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HOW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362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1066680" y="1441440"/>
          <a:ext cx="643752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1440"/>
                    <a:ext cx="64375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5"/>
          <p:cNvGraphicFramePr/>
          <p:nvPr/>
        </p:nvGraphicFramePr>
        <p:xfrm>
          <a:off x="230040" y="3325680"/>
          <a:ext cx="845532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" y="3325680"/>
                    <a:ext cx="845532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Information from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object contains information about the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able class has methods to get thes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055F-A0A4-4126-BBEB-CDFDAFC8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69920" y="3740040"/>
            <a:ext cx="8974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98920" y="456840"/>
            <a:ext cx="6140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, Throw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tching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7480" y="223812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ork as groups ( 3 studen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demonstrates declaring, throwing, and catching exceptions by modifying th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tRadiu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rcl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tRadiu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throws an exception if radius is negativ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2" descr="Image result for task"/>
          <p:cNvPicPr/>
          <p:nvPr/>
        </p:nvPicPr>
        <p:blipFill>
          <a:blip r:embed="rId1"/>
          <a:stretch/>
        </p:blipFill>
        <p:spPr>
          <a:xfrm>
            <a:off x="155520" y="468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D5A-51CC-4531-B5F4-FC67CECD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228600" y="48960"/>
            <a:ext cx="8458200" cy="66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The radius of the circl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The number of the objects create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OfObjects 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Construct a circle with radius 1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Construct a circle with a specified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ewRadiu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tRadius(newRadiu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umberOfObjects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Radius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Set a new radiu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etRadius(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ewRadius)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llegalArgument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newRadius &gt;=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adius = newRadi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llegalArgumentException(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"Radius cannot be negative"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numberOfObjec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getNumberOfObjects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umberOfObjects;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 Unicode MS"/>
              </a:rPr>
              <a:t>/** Return the area of this circl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indArea() { </a:t>
            </a:r>
            <a:r>
              <a:rPr b="0" lang="en-US" sz="16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adius * radius * 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14159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A08-86AD-4EAE-BFD6-62A1CFDF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22464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rogram runs into a runtime error, the program terminates abnormally. How can you handle the runtime error so that the program can continue to run or terminate graceful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800" y="905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800" y="2064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800" y="3215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336600" y="4572000"/>
            <a:ext cx="72835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Ex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eption handling gives us another opportunity to recover from the abnorm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CDB9-A2C1-421B-9ABA-481276F4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399240" y="1084680"/>
            <a:ext cx="73602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TestCircleWith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1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2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-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 c3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ircleWithException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IllegalArgumentException ex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e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Number of objects created: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ircleWithException.getNumberOfObjects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0068-BEFE-4B4E-9FBD-526E0FD1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an overview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o explore the advantages of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 handl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§14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tinguish exception typ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atal) v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fatal) and checked vs. unchecked (§14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are/ throw/ catch 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§14.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A422-7BCB-4571-8674-F2C818D33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70000" y="2125080"/>
            <a:ext cx="745776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java.util.Scann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Quotie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canner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number2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(number1 / number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} 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-Handling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80880" y="1295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 runtim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A80-0FCC-40CB-A8FC-EB52E3062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6320" y="1495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 it using an 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163800" y="2143800"/>
            <a:ext cx="64548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number2 = input.nextInt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number2 != </a:t>
            </a:r>
            <a:r>
              <a:rPr b="0" lang="en-US" sz="20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+ (number1 / number2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Arial Unicode MS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"Divisor cannot be zero "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051-5542-40F3-BAA9-1AD79722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80880" y="1295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 it With a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1080" y="1684440"/>
            <a:ext cx="7063200" cy="47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QuotientWithMeth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quotient(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,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(number2 == 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Divisor cannot be zero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exit(</a:t>
            </a:r>
            <a:r>
              <a:rPr b="0" lang="en-US" sz="1800" spc="-1" strike="noStrike">
                <a:solidFill>
                  <a:srgbClr val="008080"/>
                </a:solidFill>
                <a:latin typeface="Arial Unicode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 / numbe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canner input =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canner(System.i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8b0000"/>
                </a:solidFill>
                <a:latin typeface="Arial Unicode MS"/>
              </a:rPr>
              <a:t>// Prompt the user to enter two integer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(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Enter two integers: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1 = input.nextIn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umber2 = input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8b"/>
                </a:solidFill>
                <a:latin typeface="Arial Unicode M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sult = quotient(number1, number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ystem.out.println(number1 + 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 /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number2 + </a:t>
            </a:r>
            <a:r>
              <a:rPr b="0" lang="en-US" sz="1800" spc="-1" strike="noStrike">
                <a:solidFill>
                  <a:srgbClr val="008000"/>
                </a:solidFill>
                <a:latin typeface="Arial Unicode MS"/>
              </a:rPr>
              <a:t>" is "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+ 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} 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-Handling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should not terminate the pr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er should decide whether to terminate th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 How can A method notify its caller an exception has occurr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524-5EBC-4B1B-B452-CDA710612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9:01:51Z</dcterms:modified>
  <cp:revision>203</cp:revision>
  <dc:subject/>
  <dc:title>Chapter 13 Exception Handling</dc:title>
</cp:coreProperties>
</file>