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C07F3-2BE2-43E7-81E6-734AAA8098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FD229-DD5F-404E-BC80-9C1E794D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3A4D1-F3AA-4321-AC6E-A729AA49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C9473-8636-4BE2-8428-B687790370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E77D4-5E34-4A50-89D4-09985D1B51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57392-5AE4-4AB0-A011-EA871796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B584D-D40F-464F-AEBC-67A90307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80909-D696-4496-BC8F-A816639A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E0D0A-335C-4A46-ADEE-402C9205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B4996-F233-4FD3-9237-21BE1EA5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55702-C64D-4043-9DCB-7E4DDF63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BBEAB-D938-4D1E-BE0B-DEC2E128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51118-F5D7-4FBA-A6FF-22B7532F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91241-B2D9-472D-AA13-440B405B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F8953-D0ED-4A4C-ABBF-EB2B77FF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0A946-0E7F-4CCF-A745-73A3395B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1AFC6-28EE-44EC-94B6-5D36800B48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10013-484B-4864-99E5-9CE5A0F7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6F6FE-0DE1-4DE9-8DF4-FC38103C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8409D-48CF-4DB1-B751-68D68776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9C53C-2E23-4CE4-A2FE-9277324D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B5365-195B-4700-87DB-223D0F2E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C5362-E2F8-447A-BCFB-1162525B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BD683-159D-4C58-8456-F2050DD9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35CF-9C86-44D5-8F69-4E6853A1D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3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Rectangle 37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3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3F6A-7AB0-4931-8891-983ECF7E3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2A9C-8C8E-4427-8F5B-4D5050966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4120" y="58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pter 7 Multidimensional 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368E-B4B2-42E2-88F4-9D2350A73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gged Array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58588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1"/>
          <a:stretch/>
        </p:blipFill>
        <p:spPr>
          <a:xfrm>
            <a:off x="270000" y="1547640"/>
            <a:ext cx="847548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F3E7-609A-4917-BA90-5A30B6793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gged Array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258588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501480" y="1585800"/>
            <a:ext cx="42246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[][] triangleArray = new int [5][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angleArray[0] = new int [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angleArray[1] = new int [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angleArray[2] = new int [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angleArray[3] = new int [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angleArray[4] = new int 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692360" y="4503600"/>
            <a:ext cx="526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f you don’t know the values in a ragged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92B8-AF1E-4CB7-9E04-ADF4B5CC8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9600" y="380880"/>
            <a:ext cx="8564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ing Two-Dimensional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9240" y="1431720"/>
            <a:ext cx="8682120" cy="45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3604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he examples in the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80000"/>
              </a:lnSpc>
              <a:spcBef>
                <a:spcPts val="181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itializing arrays with input values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80000"/>
              </a:lnSpc>
              <a:spcBef>
                <a:spcPts val="181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ing arrays with random values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80000"/>
              </a:lnSpc>
              <a:spcBef>
                <a:spcPts val="181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inting arrays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80000"/>
              </a:lnSpc>
              <a:spcBef>
                <a:spcPts val="181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mming all elements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80000"/>
              </a:lnSpc>
              <a:spcBef>
                <a:spcPts val="181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mming all elements by column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80000"/>
              </a:lnSpc>
              <a:spcBef>
                <a:spcPts val="181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nd the row with the largest sum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80000"/>
              </a:lnSpc>
              <a:spcBef>
                <a:spcPts val="181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nding the smallest index of the largest element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80000"/>
              </a:lnSpc>
              <a:spcBef>
                <a:spcPts val="181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Random shufflin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F1A1-63A4-46C9-B4F8-26CEB3364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9600" y="380880"/>
            <a:ext cx="8564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ing arrays with input value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5520" y="1778040"/>
            <a:ext cx="8794800" cy="326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.util.Scanner input = new Scanner(System.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"Enter " + matrix.length + " rows and "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[0].length + " columns: 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row = 0; row &lt; matrix.length; row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column = 0; column &lt; matrix[row].length; column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[row][column] = input.nextInt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F3EE-729D-4782-B3E3-D1A948398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9600" y="380880"/>
            <a:ext cx="8564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ing arrays with random valu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5160" y="1777680"/>
            <a:ext cx="883620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row = 0; row &lt; matrix.length; row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column = 0; column &lt; matrix[row].length; column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[row][column] = (int)(Math.random() * 1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798C-E68A-443A-AECF-069FF906A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9600" y="380880"/>
            <a:ext cx="8564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ing array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5520" y="1778040"/>
            <a:ext cx="8832960" cy="26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row = 0; row &lt; matrix.length; row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column = 0; column &lt; matrix[row].length; column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(matrix[row][column] + " 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B982-8A2C-4E8B-AF8E-26E041DEC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9600" y="380880"/>
            <a:ext cx="8564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ing all element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5520" y="1778040"/>
            <a:ext cx="8832960" cy="26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total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row = 0; row &lt; matrix.length; row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column = 0; column &lt; matrix[row].length; column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+= matrix[row][column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74A7-79B0-49D4-9CEF-0E3F795D7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9600" y="380880"/>
            <a:ext cx="8564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ing elements by colum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5520" y="1777680"/>
            <a:ext cx="8718480" cy="31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(int column = 0; column &lt; matrix[0].length; column++) {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t total = 0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(int row = 0; row &lt; matrix.length; row++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tal += matrix[row][column]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ystem.out.println("Sum for column " + column + " is "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+ total)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hat if we are using ragged array?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hat if length.row[0] &lt; lengthrow[3]???  H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EC1B-8AD7-4A93-8DAB-902CC4DE7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9600" y="380880"/>
            <a:ext cx="8564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row with the largest sum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5520" y="1355760"/>
            <a:ext cx="8718480" cy="50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int maxRow =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int indexOfMaxRow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//Get sum of the first row in max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for (int column = 0; column &lt;matrix[0].length;column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maxRow+= matrix[0][column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for (int row =1; row &lt;matrix.length;row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int totalOfThisRow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for (int column = 0; column &lt;matrix[row].length; column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totalOfThisRow+= matrix[row][column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if (totalOfThisRow &gt;maxRo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maxRow = totalOfThisRow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indexOfMaxRow = row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System.out.println(“Row” + indexOfMaxRow + “ has the maximum sum of “ maxRo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3"/>
          <p:cNvSpPr/>
          <p:nvPr/>
        </p:nvSpPr>
        <p:spPr>
          <a:xfrm>
            <a:off x="380880" y="304920"/>
            <a:ext cx="876312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[][] arr= new int[3][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r[0]= new int[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r[1]= new int[4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r[2]= new int[3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(int i=0; i&lt;arr.length; i++)          </a:t>
            </a:r>
            <a:r>
              <a:rPr b="0" lang="en-US" sz="1600" spc="-1" strike="noStrike">
                <a:solidFill>
                  <a:srgbClr val="00b050"/>
                </a:solidFill>
                <a:latin typeface="Times New Roman"/>
              </a:rPr>
              <a:t>//initialize the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(int j=0; j&lt;arr[i].length; j++){              arr[i][j]= i+1;              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ntArray(a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static void PrintArray(int[][] arr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.out.println("The array row by row:");      </a:t>
            </a:r>
            <a:r>
              <a:rPr b="0" lang="en-US" sz="1600" spc="-1" strike="noStrike">
                <a:solidFill>
                  <a:srgbClr val="00b050"/>
                </a:solidFill>
                <a:latin typeface="Times New Roman"/>
              </a:rPr>
              <a:t>//print row by 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(int r=0; r&lt;arr.length; r++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(int c=0; c&lt;arr[r].length; c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.out.print(arr[r][c]+"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.out.println("The array column by column:"); </a:t>
            </a:r>
            <a:r>
              <a:rPr b="0" lang="en-US" sz="1600" spc="-1" strike="noStrike">
                <a:solidFill>
                  <a:srgbClr val="00b050"/>
                </a:solidFill>
                <a:latin typeface="Times New Roman"/>
              </a:rPr>
              <a:t>//print column by colu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(int c=0; c&lt;arr[max_row].length; c++){   // assume we know the max row 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(int r=0; r&lt;arr.length; r++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&gt;=arr[r].leng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in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.out.print(arr[r][c]+"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6108840" y="127080"/>
            <a:ext cx="314964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22E3-2AF0-4AEA-A36D-1385B56E3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855360"/>
            <a:ext cx="8991720" cy="55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give examples of representing data using two-dimensional arrays (§7.1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declare variables for two-dimensional arrays, create arrays, and access array elements in a two-dimensional array using row and column indexes (§7.2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program common operations for two-dimensional arrays (displaying arrays, summing all elements, finding the minimum and maximum elements, and random shuffling) (§7.3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pass two-dimensional arrays to methods (§7.4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write a program for grading multiple-choice questions using two-dimensional arrays (§7.5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solve the closest-pair problem using two-dimensional arrays (§8.6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use multidimensional arrays (§7.8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245E-65EE-4F05-BF2E-18B1A7D4A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9600" y="380880"/>
            <a:ext cx="8564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 shuffling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5520" y="1355760"/>
            <a:ext cx="8718480" cy="50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int i = 0; i &lt; matrix.length; i++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int j = 0; j &lt; matrix[i].length; j++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1 = (int)(Math.random() * matrix.length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j1 = (int)(Math.random() * matrix[i].length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Swap matrix[i][j] with matrix[i1][j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temp = matrix[i][j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[i][j] = matrix[i1][j1]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[i1][j1] = te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E48D-FDA6-42C4-94CF-141D404FF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3680" y="380880"/>
            <a:ext cx="87566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ing Tow-Dimensional Arrays to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7B82-5575-4856-A78F-C6C43FEAD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231840" y="11160"/>
            <a:ext cx="84884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public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class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PassTwoDimensionalArray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public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static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void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main(String[] args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[][] m = getArray(); // Get an arr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bcbcb"/>
                </a:solidFill>
                <a:latin typeface="Times New Roman"/>
              </a:rPr>
              <a:t>// Display sum of ele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System.out.println(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"\nSum of all elements is "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+ sum(m)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public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static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[][] getArray(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Scanner input =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new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Scanner(System.in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bcbcb"/>
                </a:solidFill>
                <a:latin typeface="Times New Roman"/>
              </a:rPr>
              <a:t>// Enter array valu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[][] m =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new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[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][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System.out.println(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"Enter "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+ m.length +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" rows and "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+ m[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].length +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"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columns: "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(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i =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; i &lt; m.length; i++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(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j =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; j &lt; m[i].length; j++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m[i][j] = input.next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return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public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static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sum(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[][] m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total =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(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row =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; row &lt; m.length; row++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(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column =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; column &lt; m[row].length; column++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total += m[row][column];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return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tot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</a:rPr>
              <a:t>}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743E-045C-48ED-85A9-2A5C20F1F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5960" y="3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: Grading Multiple-Choice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181480" y="1904760"/>
            <a:ext cx="38102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program that grades multiple-choice tes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Object 5" descr=""/>
          <p:cNvPicPr/>
          <p:nvPr/>
        </p:nvPicPr>
        <p:blipFill>
          <a:blip r:embed="rId1"/>
          <a:stretch/>
        </p:blipFill>
        <p:spPr>
          <a:xfrm>
            <a:off x="-266760" y="2200320"/>
            <a:ext cx="5334120" cy="30481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6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Object 7" descr=""/>
          <p:cNvPicPr/>
          <p:nvPr/>
        </p:nvPicPr>
        <p:blipFill>
          <a:blip r:embed="rId2"/>
          <a:stretch/>
        </p:blipFill>
        <p:spPr>
          <a:xfrm>
            <a:off x="4648320" y="3657600"/>
            <a:ext cx="4190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1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FD0E-2DA5-4A09-8100-C79776723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155520" y="0"/>
            <a:ext cx="821844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public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class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GradeExam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public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static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void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main(String args[]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Times New Roman"/>
              </a:rPr>
              <a:t>// Students' answers to the ques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char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[][] answers = {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B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B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B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B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B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B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B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B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B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B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B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Times New Roman"/>
              </a:rPr>
              <a:t>// Key to the ques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char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[] keys =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B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C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E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A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'D'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Times New Roman"/>
              </a:rPr>
              <a:t>// Grade all answ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i =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; i &lt; answers.length; i++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Times New Roman"/>
              </a:rPr>
              <a:t>// Grade one stu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correctCount =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j =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; j &lt; answers[i].length; j++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(answers[i][j] == keys[j]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correctCount++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System.out.println(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"Student "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+ i +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"'s correct count is "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+ correctCount); }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1246-C230-4FBA-9F3E-6F54503BA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dimensional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asionally, you will need to represent n-dimensional data structures. In Java, you can create n-dimensional arrays for any integer 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ay to declare two-dimensional array variables and create two-dimensional arrays can be generalized to declare n-dimensional array variables and create n-dimensional arrays for n &gt;=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DFDD-C327-4317-A6A0-78AB29516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dimensional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32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[][][] scores =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{{7.5, 20.5}, {9.0, 22.5}, {15, 33.5}, {13, 21.5}, {15, 2.5}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{{4.5, 21.5}, {9.0, 22.5}, {15, 34.5}, {12, 20.5}, {14, 9.5}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{{6.5, 30.5}, {9.4, 10.5}, {11, 33.5}, {11, 23.5}, {10, 2.5}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{{6.5, 23.5}, {9.4, 32.5}, {13, 34.5}, {11, 20.5}, {16, 7.5}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{{8.5, 26.5}, {9.4, 52.5}, {13, 36.5}, {13, 24.5}, {16, 2.5}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{{9.5, 20.5}, {9.4, 42.5}, {13, 31.5}, {12, 20.5}, {16, 6.5}}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Object 4"/>
          <p:cNvGraphicFramePr/>
          <p:nvPr/>
        </p:nvGraphicFramePr>
        <p:xfrm>
          <a:off x="0" y="4556160"/>
          <a:ext cx="9144000" cy="18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56160"/>
                    <a:ext cx="9144000" cy="18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2CF4-B533-40CE-951F-9B6A49BFA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: Calculating Total Sc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program that calculates the total score for students in a class. Suppose the scores are stored in a three-dimensional array nam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o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first index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o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fers to a student, the second refers to an exam, and the third refers to the part of the exam. Suppose there are 7 students, 5 exams, and each exam has two parts--the multiple-choice part and the programming part. So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ores[i][j][0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sents the score on the multiple-choice part for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student o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exam. Your program displays the total score for each studen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0B57-1BD7-4E6C-947D-65422A08A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231840" y="165240"/>
            <a:ext cx="8758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public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class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TotalScor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public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static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void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main(String args[]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double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[][][] scores =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{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2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33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1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}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{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1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2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34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4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}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{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3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33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3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}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{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3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32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34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6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}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{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2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36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4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6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}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{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42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6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}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{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9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22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4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3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3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, {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16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}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Times New Roman"/>
              </a:rPr>
              <a:t>// Calculate and display total score for each stu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i =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; i &lt; scores.length; i++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double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totalScore =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j =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; j &lt; scores[i].length; j++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k =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; k &lt; scores[i][j].length; k++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totalScore += scores[i][j][k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System.out.println(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"Student "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+ i + </a:t>
            </a: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"'s score is "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+ totalScore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}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B0A1-2F5F-4891-A0B1-98102035B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70000" y="228240"/>
            <a:ext cx="8564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Problem: Weather Informa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70000" y="1163160"/>
            <a:ext cx="8874000" cy="255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se a meteorology station records the temperature and humidity at each hour of every day and stores the data for the past ten days in a text file named weather.txt. Each line of the file consists of four numbers that indicate the day, hour, temperature, and humidity. Your task is to write a program that calculates the average daily temperature and humidity for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ay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Object 8"/>
          <p:cNvGraphicFramePr/>
          <p:nvPr/>
        </p:nvGraphicFramePr>
        <p:xfrm>
          <a:off x="1500120" y="4356000"/>
          <a:ext cx="3303720" cy="18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4356000"/>
                    <a:ext cx="330372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Rectangle 11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Object 10"/>
          <p:cNvGraphicFramePr/>
          <p:nvPr/>
        </p:nvGraphicFramePr>
        <p:xfrm>
          <a:off x="4881600" y="4351320"/>
          <a:ext cx="3187800" cy="17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1600" y="4351320"/>
                    <a:ext cx="318780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13"/>
          <p:cNvSpPr/>
          <p:nvPr/>
        </p:nvSpPr>
        <p:spPr>
          <a:xfrm>
            <a:off x="3381480" y="3851280"/>
            <a:ext cx="4646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ata [9][23][1] stores the humidity in day 10 at hours 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BBFB-6936-437D-BCF7-156135933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564400" cy="95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lare/Create Two-dimensional 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9600" y="1431720"/>
            <a:ext cx="8602560" cy="447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eclare array ref 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Type[][] refVa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reate array and assign its reference to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fVar = new dataType[10][10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mbine declaration and creation in one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Type[][] refVar = new dataType[10][10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lternative syn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Type refVar[][] = new dataType[10][10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81D4-D204-4149-B4CC-5BF36AEAD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2"/>
          <p:cNvSpPr/>
          <p:nvPr/>
        </p:nvSpPr>
        <p:spPr>
          <a:xfrm>
            <a:off x="0" y="-27000"/>
            <a:ext cx="914400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public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class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Weather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public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static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void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final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NUMBER_OF_DAYS =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10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final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NUMBER_OF_HOURS =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24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double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[][][] data =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new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d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ouble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[NUMBER_OF_DAYS][NUMBER_OF_HOURS][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Scanner input =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new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Scanner(System.i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Times New Roman"/>
              </a:rPr>
              <a:t>// Read input using input redirection from a f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for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k =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; k &lt; NUMBER_OF_DAYS * NUMBER_OF_HOURS; k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day = input.nextInt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hour = input.nextInt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double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temperature = input.nextDouble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double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humidity = input.nextDouble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data[day -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][hour -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][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] = temperatur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data[day -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][hour -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][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] = humidi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Times New Roman"/>
              </a:rPr>
              <a:t>// Find the average daily temperature and humid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for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i =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; i &lt; NUMBER_OF_DAYS; i++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double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dailyTemperatureTotal =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dailyHumidityTotal =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for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j =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; j &lt; NUMBER_OF_HOURS; j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dailyTemperatureTotal += data[i][j][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dailyHumidityTotal += data[i][j][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]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System.out.println(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"Day "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+ i +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"'s average temperature is "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+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dailyTemperatureTotal /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NUMBER_OF_HOURS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System.out.println(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"Day "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+ i + 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</a:rPr>
              <a:t>"'s average humidity is "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 +dailyHumidityTotal /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NUMBER_OF_HOURS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} }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4C92-2137-40C0-83A8-86DB985C5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laring Variables of Two-dimensional Arrays and Creating Two-dimensional Array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][] matrix = new int[10][1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trix[][] = new int[10][1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rix[0][0]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i = 0; i &lt; matrix.length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j = 0; j &lt; matrix[i].length; j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rix[i][j] = (int)(Math.random() * 10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uble[][]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3498-07C2-42E4-AED8-B765DFA78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dimensional Array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32416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6108840" y="523404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.length?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[0].length?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770040" y="519588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.length?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[0].length?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0" y="1179360"/>
            <a:ext cx="912816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F026-3C78-4661-ADC6-779D0C6B1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laring, Creating, and Initializing Using Shorthand No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also use an array initializer to declare, create and initialize a two-dimensional array. For examp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3809880" y="3124080"/>
            <a:ext cx="5178600" cy="190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[][] array = new int[4]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[0][0] = 1; array[0][1] = 2; array[0][2] = 3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[1][0] = 4; array[1][1] = 5; array[1][2] = 6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[2][0] = 7; array[2][1] = 8; array[2][2] = 9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[3][0] = 10; array[3][1] = 11; array[3][2] = 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228600" y="2971800"/>
            <a:ext cx="1905120" cy="228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[][] array =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1, 2, 3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4, 5, 6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7, 8, 9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10, 11, 1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2133720" y="4191120"/>
            <a:ext cx="1600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438280" y="36576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2133720" y="4114800"/>
            <a:ext cx="1600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9"/>
          <p:cNvSpPr/>
          <p:nvPr/>
        </p:nvSpPr>
        <p:spPr>
          <a:xfrm flipH="1">
            <a:off x="1905120" y="1905120"/>
            <a:ext cx="2743200" cy="175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EAF5-A58F-409F-85DA-C49E8F283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ngths of Two-dimensional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246708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65744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[][] x = new int[3][4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117360" y="2471760"/>
            <a:ext cx="89092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84E3-19F0-4FBD-9AC0-F43BA9A3A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ngths of Two-dimensional Array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657080"/>
            <a:ext cx="3352680" cy="31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[][] array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1, 2, 3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4, 5, 6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7, 8, 9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10, 11, 1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5029200" y="1752480"/>
            <a:ext cx="335268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.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[0].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[1].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[2].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[3].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838080" y="5181480"/>
            <a:ext cx="83059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[4].length      ArrayIndexOutOfBoundsEx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31DE-198D-43D6-8493-4628BACCA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gged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row in a two-dimensional array is itself an array. So, the rows can have different lengths. Such an array is known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agged arr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For exampl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[][] matrix = {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1, 2, 3, 4, 5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2, 3, 4, 5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3, 4, 5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4, 5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5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886200" y="2971800"/>
            <a:ext cx="4648320" cy="335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.length is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[0].length is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[1].length is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[2].length i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[3].length i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[4].length i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AREEJ MAATOG SALEEM ALHOTHALI</cp:lastModifiedBy>
  <dcterms:modified xsi:type="dcterms:W3CDTF">2019-08-30T08:33:48Z</dcterms:modified>
  <cp:revision>299</cp:revision>
  <dc:subject/>
  <dc:title>Chapter 5 Arrays</dc:title>
</cp:coreProperties>
</file>