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tif" ContentType="image/tiff"/>
  <Override PartName="/ppt/media/image3.png" ContentType="image/png"/>
  <Override PartName="/ppt/media/image4.png" ContentType="image/png"/>
  <Override PartName="/ppt/media/image5.tif" ContentType="image/tiff"/>
  <Override PartName="/ppt/media/image9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tif" ContentType="image/tif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2FDD-60D3-40BF-B07D-50E0964177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947-04FB-4E20-9F50-ACAED137DB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B9A-1744-44D2-8C72-B9C604346E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9E8C-1632-48A2-8063-3169078C5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BAB3-5154-4A82-B085-C37CCB5D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CFF3-6B89-4EB9-AFE3-195E6E4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DAE0-40C3-4822-934C-BC033D147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4B2D-725E-47F1-AA5A-0D377EF5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3E2EB-D7F7-4086-A03F-F0DCAA6E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E0441-D719-4C63-9224-B80D9E5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37A33-E036-4C6C-AC7C-B2CE054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3FB2-46D1-467E-ACFC-65DBE95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7B8BC-DD1A-4BA2-83FC-3F1569D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9C05A-4E03-4F16-9C64-68CE0B7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A11A-EB89-40D6-BF57-DEAA12D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0E6F-8D8F-4001-B3CB-D25765E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3D197-63AF-46F8-87E2-52FCDF9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7958-1DE7-4453-93ED-9C833283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BC8F-DEBC-4E3A-A7A5-DEED2969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08152-B27F-49AB-902D-390FCC9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2D64-52C0-4609-B89A-81911AC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F651-F3F2-406D-A6B3-F2B1C852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2BDC-73F5-4E22-99A0-1DF35F61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B5D7-ECEB-4E3E-B46C-EAAF8D49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4208-ED96-4DB4-9986-C18BED2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80E9-951A-40A4-8DDD-DDD5BD56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516E-1BB3-420A-BADA-F3FB9630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64E-5820-46BE-A10D-FF03C6B25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5C6-CD7A-4607-A73F-A29A0A24D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TestFileClass.bat" TargetMode="External"/><Relationship Id="rId2" Type="http://schemas.openxmlformats.org/officeDocument/2006/relationships/hyperlink" Target="http://www.cs.armstrong.edu/liang/intro10e/html/TestFileClas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t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tif"/><Relationship Id="rId2" Type="http://schemas.openxmlformats.org/officeDocument/2006/relationships/image" Target="../media/image5.t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ml/ReplaceText.bat" TargetMode="External"/><Relationship Id="rId2" Type="http://schemas.openxmlformats.org/officeDocument/2006/relationships/hyperlink" Target="http://www.cs.armstrong.edu/liang/intro10e/html/ReplaceText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t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A59-B765-466A-A5AA-1797CADF2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4000" y="1955520"/>
            <a:ext cx="807732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Text 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\test.dat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AbsolutePath(): St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CanonicalPath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Name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Path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Parent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5E60-ACB7-4B26-8DBA-27E5AED6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123-895C-4BEB-8953-F2588A54E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Explore Fil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370480" y="586728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File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>
            <a:hlinkClick r:id="rId1"/>
          </p:cNvPr>
          <p:cNvSpPr/>
          <p:nvPr/>
        </p:nvSpPr>
        <p:spPr>
          <a:xfrm>
            <a:off x="76564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1940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2194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">
            <a:hlinkClick r:id="rId2"/>
          </p:cNvPr>
          <p:cNvSpPr/>
          <p:nvPr/>
        </p:nvSpPr>
        <p:spPr>
          <a:xfrm>
            <a:off x="4761000" y="58672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3"/>
          <a:stretch/>
        </p:blipFill>
        <p:spPr>
          <a:xfrm>
            <a:off x="76320" y="1143000"/>
            <a:ext cx="6019560" cy="4191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6019920" y="1906560"/>
            <a:ext cx="3886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it exist?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le has 543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be read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be written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 directory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 file?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bsolute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hidden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path is c:\ags10e\etext2014\firsttime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\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modified on Wed Dec 31 19:00:00 EST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2"/>
          <p:cNvCxnSpPr/>
          <p:nvPr/>
        </p:nvCxnSpPr>
        <p:spPr>
          <a:xfrm>
            <a:off x="5257440" y="20570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Straight Arrow Connector 12"/>
          <p:cNvCxnSpPr/>
          <p:nvPr/>
        </p:nvCxnSpPr>
        <p:spPr>
          <a:xfrm>
            <a:off x="5866920" y="22856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Straight Arrow Connector 15"/>
          <p:cNvCxnSpPr/>
          <p:nvPr/>
        </p:nvCxnSpPr>
        <p:spPr>
          <a:xfrm>
            <a:off x="5334120" y="2514240"/>
            <a:ext cx="762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Straight Arrow Connector 16"/>
          <p:cNvCxnSpPr/>
          <p:nvPr/>
        </p:nvCxnSpPr>
        <p:spPr>
          <a:xfrm>
            <a:off x="5790960" y="27428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Straight Arrow Connector 17"/>
          <p:cNvCxnSpPr/>
          <p:nvPr/>
        </p:nvCxnSpPr>
        <p:spPr>
          <a:xfrm>
            <a:off x="5790960" y="29714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Straight Arrow Connector 18"/>
          <p:cNvCxnSpPr/>
          <p:nvPr/>
        </p:nvCxnSpPr>
        <p:spPr>
          <a:xfrm>
            <a:off x="5257440" y="32000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Straight Arrow Connector 20"/>
          <p:cNvCxnSpPr/>
          <p:nvPr/>
        </p:nvCxnSpPr>
        <p:spPr>
          <a:xfrm>
            <a:off x="5638320" y="3504960"/>
            <a:ext cx="381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Straight Arrow Connector 22"/>
          <p:cNvCxnSpPr/>
          <p:nvPr/>
        </p:nvCxnSpPr>
        <p:spPr>
          <a:xfrm>
            <a:off x="5333760" y="3733560"/>
            <a:ext cx="686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Straight Arrow Connector 24"/>
          <p:cNvCxnSpPr/>
          <p:nvPr/>
        </p:nvCxnSpPr>
        <p:spPr>
          <a:xfrm>
            <a:off x="4191120" y="4038120"/>
            <a:ext cx="1829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Straight Arrow Connector 26"/>
          <p:cNvCxnSpPr/>
          <p:nvPr/>
        </p:nvCxnSpPr>
        <p:spPr>
          <a:xfrm>
            <a:off x="4343040" y="4647960"/>
            <a:ext cx="1677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6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3F3-35FC-4C9F-B928-40E83227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ontent Placeholder 10" descr=""/>
          <p:cNvPicPr/>
          <p:nvPr/>
        </p:nvPicPr>
        <p:blipFill>
          <a:blip r:embed="rId1"/>
          <a:srcRect l="2327" t="0" r="0" b="0"/>
          <a:stretch/>
        </p:blipFill>
        <p:spPr>
          <a:xfrm>
            <a:off x="190440" y="1400040"/>
            <a:ext cx="7315200" cy="545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6400" y="152352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 you use the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ass for I/O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C96-D0B1-4277-B176-EA553AA50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038-35D3-4F10-B136-D6C63CAA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7400" y="180720"/>
            <a:ext cx="635472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 I/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encapsulates the properties of a file or a path, but does not contain the methods for reading/writing data from/to a file. In order to perform I/O, you need to create objects using appropriate Java I/O classes. The objects contain the methods for reading/writing data from/to a file. This section introduces how to read/write strings and numeric values from/to a text file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2" descr="Image result for Pen"/>
          <p:cNvPicPr/>
          <p:nvPr/>
        </p:nvPicPr>
        <p:blipFill>
          <a:blip r:embed="rId1"/>
          <a:stretch/>
        </p:blipFill>
        <p:spPr>
          <a:xfrm>
            <a:off x="3048120" y="5207040"/>
            <a:ext cx="457200" cy="7365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8"/>
          <p:cNvSpPr/>
          <p:nvPr/>
        </p:nvSpPr>
        <p:spPr>
          <a:xfrm>
            <a:off x="777960" y="426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2894040" y="4459320"/>
            <a:ext cx="766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Data Using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intWri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PrintWriter(file: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PrintWriter(filename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rint(s: String):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ay: char[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: int , long, float, 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: 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so contains the overloaded printl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so contains the overloaded printf method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35B-D332-413B-A0D0-A1EB7BE8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F61-B4F6-42D3-BDFF-C893BA823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031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Data Using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Scanner(source: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Scanner(source: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hasNext(): 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():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Byte():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Short():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Int():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Long():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Float()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Double():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useDelimiter(pattern: String):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751-C1A0-46C3-BB5D-EF43E1E83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Content Placeholder 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781680" cy="535464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AB7-F10F-4A3C-B5ED-F1A6B81AC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477720" y="2422440"/>
            <a:ext cx="2266920" cy="226872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FAC-FDCF-4C8F-9637-1D566AB7C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692280" y="3181320"/>
            <a:ext cx="155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75000"/>
              <a:buFont typeface="Times New Roman"/>
              <a:buAutoNum type="arabicPlain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itle 1"/>
          <p:cNvSpPr/>
          <p:nvPr/>
        </p:nvSpPr>
        <p:spPr>
          <a:xfrm>
            <a:off x="324000" y="204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603360" y="1542960"/>
            <a:ext cx="68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le has the following text what is the output of the following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1014120" y="451656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3"/>
          <a:stretch/>
        </p:blipFill>
        <p:spPr>
          <a:xfrm>
            <a:off x="2743200" y="2595600"/>
            <a:ext cx="63468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CE8-8C71-4C97-8452-420166E0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ou need to enter 100 students’ name and ID, How would you do tha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800" y="905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800" y="2064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800" y="3215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267080" y="3124080"/>
            <a:ext cx="1752840" cy="2210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762120" y="3124080"/>
            <a:ext cx="2133360" cy="762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Conso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766800" y="4572000"/>
            <a:ext cx="2133720" cy="762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>
            <a:stCxn id="157" idx="3"/>
          </p:cNvCxnSpPr>
          <p:nvPr/>
        </p:nvCxnSpPr>
        <p:spPr>
          <a:xfrm>
            <a:off x="2895480" y="35049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7"/>
          <p:cNvCxnSpPr>
            <a:stCxn id="158" idx="3"/>
          </p:cNvCxnSpPr>
          <p:nvPr/>
        </p:nvCxnSpPr>
        <p:spPr>
          <a:xfrm>
            <a:off x="2900520" y="4952520"/>
            <a:ext cx="1367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Rectangle 8"/>
          <p:cNvSpPr/>
          <p:nvPr/>
        </p:nvSpPr>
        <p:spPr>
          <a:xfrm>
            <a:off x="2895480" y="3124080"/>
            <a:ext cx="12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temporary 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932560" y="464832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perman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7E0-696D-4F0A-A7B5-A1F7D818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Replacing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class na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placeT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replaces a string in a text file with a new string. The filename and strings are passed as an input 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File.txt targetFile.txt oldString old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invo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.txt Target.txt Hello H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s all the occurrenc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d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d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urce.tx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saves the new fil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rget.tx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267080" y="53341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Replace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>
            <a:hlinkClick r:id="rId1"/>
          </p:cNvPr>
          <p:cNvSpPr/>
          <p:nvPr/>
        </p:nvSpPr>
        <p:spPr>
          <a:xfrm>
            <a:off x="6553080" y="53341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>
            <a:hlinkClick r:id="rId2"/>
          </p:cNvPr>
          <p:cNvSpPr/>
          <p:nvPr/>
        </p:nvSpPr>
        <p:spPr>
          <a:xfrm>
            <a:off x="3657600" y="5334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920" y="152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t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util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lass Testing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tatic void main(String[] args) throws 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 in= new Scanner(System.i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Please Enter the sourcefile , targetfile, oldstring, ne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[] mainStrings=(in.nextLine()).split("\\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f (mainStrings.length != 4) {     System.out.println( “</a:t>
            </a:r>
            <a:r>
              <a:rPr b="0" lang="en-US" sz="1100" spc="-1" strike="noStrike">
                <a:solidFill>
                  <a:srgbClr val="0070c0"/>
                </a:solidFill>
                <a:latin typeface="Times New Roman"/>
              </a:rPr>
              <a:t>You should enter sourceFile targetFile oldStr newSt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1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heck if source file ex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ourceFile = new File(mainStrings[0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!sourceFile.exists()) {        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Source fi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+ mainStrings[0] + "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does not ex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2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heck if target file ex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argetFile = new File(mainStrings[1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targetFile.exists()) {          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Target fi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+ mainStrings[1] + "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already exi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3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reate input and output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 input = new Scanner(source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Writer output = new PrintWriter(target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{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(input.hasNext()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s1 = input.nextLin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s2 = s1.replaceAll(mainStrings[2], mainStrings[3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println(s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D8DA-EA22-4F39-9F28-EF5C81DA9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Content Placeholder 6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645320" cy="3454200"/>
          </a:xfrm>
          <a:prstGeom prst="rect">
            <a:avLst/>
          </a:prstGeom>
          <a:ln w="0">
            <a:noFill/>
          </a:ln>
        </p:spPr>
      </p:pic>
      <p:sp>
        <p:nvSpPr>
          <p:cNvPr id="26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2D1-5D07-4DF3-B393-6AB156B8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681480" y="190008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324000" y="204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3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058E-3026-47BC-BB6C-48A50855B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cover file/directory properties, to delete and rename files/directories, and to create directories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data to a file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Wri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1.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data from a file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1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how data is read using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§14.11.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program that replaces text in a file (§14.11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B3B-B956-42BD-B7CE-252C22B7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intended to provide an abstraction that deals with most of the machine-dependent complexities of files and path names in a machine-independent fashion. The filename is a string.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a wrapper  class for the file name and its directory p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thname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\test.dat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rent: String, child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rent: File, child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F4D-D3A7-4382-AC07-7514650B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0" y="2587680"/>
            <a:ext cx="2362320" cy="627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743880" y="3214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0" y="266688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6705720" y="3381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Directory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Fil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Absolu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Hidden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exists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canRead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canWri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EE5D-42B7-4324-8D9D-B44253C84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astModified():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ength():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istFile(): File[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dele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renameTo(dest: File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458E-BCD8-4668-AA72-5AA0A0F39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119-E2AA-4377-9F39-17815000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14308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8536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9440" y="1955880"/>
            <a:ext cx="40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AbsolutePa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119480" y="1797120"/>
            <a:ext cx="519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comple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or represented by the File object. A file or directory might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absolut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280" y="36766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getCanonicalPath()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86280" y="3537000"/>
            <a:ext cx="48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unique and complete path except that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s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s, such as "." and "..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5160" y="513252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getPath()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986280" y="5029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complete directory and file name represented by the File object and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be relative to current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920" y="1600200"/>
            <a:ext cx="848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and 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two directories and 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est.t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file is i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dir1 and C:\dir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ossible absolute path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at refer to test.txt are: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C:\dir1\test.tx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:\dir1\.\test.txt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dir2\..\dir1\test.tx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nonical path refer to test.txt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temp\test.tx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hat are the possible path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24A8-416F-4BC6-90FC-B0EAC532F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5562720" y="3887640"/>
            <a:ext cx="3276360" cy="1941840"/>
            <a:chOff x="5562720" y="3887640"/>
            <a:chExt cx="3276360" cy="194184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5562720" y="3887640"/>
              <a:ext cx="327636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5"/>
            <p:cNvSpPr/>
            <p:nvPr/>
          </p:nvSpPr>
          <p:spPr>
            <a:xfrm>
              <a:off x="6126120" y="5369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Box 6"/>
            <p:cNvSpPr/>
            <p:nvPr/>
          </p:nvSpPr>
          <p:spPr>
            <a:xfrm>
              <a:off x="7731000" y="53409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Box 7"/>
            <p:cNvSpPr/>
            <p:nvPr/>
          </p:nvSpPr>
          <p:spPr>
            <a:xfrm>
              <a:off x="6108840" y="459576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12:16:28Z</dcterms:modified>
  <cp:revision>202</cp:revision>
  <dc:subject/>
  <dc:title>Chapter 13 Exception Handling</dc:title>
</cp:coreProperties>
</file>