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A66C-7833-4140-8ECC-D12C6E5A1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9A8B-60DD-4616-8B21-1BAB457E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5A83-70BA-4BDA-9AE6-7838EBB8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3923-5B6D-4B17-87B6-BE630E9F7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EE4F8-498A-46E7-A156-832EB2E77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A0C87-1007-43E4-969A-7F227EDA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84465-18EC-41CA-B5CE-1D379105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12A09-923F-48C7-8E17-7967EEE6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3BB0A-DCCB-4022-900A-AC7B7B70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93FB2-1DE7-418B-A50C-F48E7920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AC555-7247-470C-BDB7-654EC9AA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8CC6-8422-4E87-87D1-EE47D7FE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A80C2-3384-4A20-AF70-22ACF9F0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83B33-CDF7-4EFD-B8AC-7E8D3AAD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D384F-7357-44DF-8000-082C7035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A2273-0CA4-46BD-BD63-21AA257C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16A97-FE25-4CC1-AF75-A7BED837C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A473-6580-46C5-B5E8-D26D386F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7550-AAC9-46A7-8C65-72B8E21C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E444-9189-49C1-90B6-8E0472D7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05DC-9F68-4C6A-B33D-7D46ACB5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9424-1B08-4043-AB57-7444C11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2E2A-3982-44DF-844D-CF66620E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CDE5-B801-4EDA-85F4-42F762C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9BF0-F574-4F74-ABA7-DD0894C46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3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3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CDEE-39B6-4B8D-B46C-BB7F6DCA2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55B2-6F69-42A7-95FF-A24E51488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4120" y="58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7 Multi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D787-B2FA-4DAE-BE57-69ED80CB9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gged Array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58588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270000" y="1547640"/>
            <a:ext cx="84754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6D76-A159-4952-8710-79B7D087C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gged Array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58588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501480" y="1585800"/>
            <a:ext cx="4224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[][] triangleArray = new int [5]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0] = new int 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1] = new int 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2] = new int 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3] = new int 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4] = new int 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692360" y="4503600"/>
            <a:ext cx="52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f you don’t know the values in a ragg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7924-A16D-46D7-9F67-C4AF8413A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ing Two-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9240" y="1431720"/>
            <a:ext cx="8682120" cy="45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he examples in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itializing arrays with input value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 arrays with random value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ting array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mming all element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mming all elements by column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nd the row with the largest sum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nding the smallest index of the largest elemen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Random shufflin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69C9-E338-4F4C-8D73-2EE5C69A9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 arrays with input valu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5520" y="1778040"/>
            <a:ext cx="8794800" cy="32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util.Scanner input = new Scanner(System.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"Enter " + matrix.length + " rows and "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0].length + " columns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row][column] = input.nextIn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7DA0-7D9F-409E-B72A-44FDD541B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 arrays with random valu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5160" y="1777680"/>
            <a:ext cx="883620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row][column] = (int)(Math.random() * 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2A06-E724-4E5A-A140-CB5B5892E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ing array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5520" y="1778040"/>
            <a:ext cx="8832960" cy="26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(matrix[row][column] + "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621-79C6-4C0E-9AF2-A5D145211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ing all elemen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5520" y="1778040"/>
            <a:ext cx="8832960" cy="26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otal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+= matrix[row][colum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086-651F-41CE-9B70-ECF7A442C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ing elements by colum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5520" y="1777680"/>
            <a:ext cx="8718480" cy="31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(int column = 0; column &lt; matrix[0].length; column++) {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 total = 0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tal += matrix[row][column]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ystem.out.println("Sum for column " + column + " is 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 total)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hat if we are using ragged array?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hat if length.row[0] &lt; lengthrow[3]???  H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3562-F01D-4E67-B0F5-1079743DB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row with the largest sum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5520" y="1355760"/>
            <a:ext cx="871848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 maxRow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 indexOfMaxRow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//Get sum of the first row in max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 (int column = 0; column &lt;matrix[0].length;column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maxRow+= matrix[0][colum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 (int row =1; row &lt;matrix.length;row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 totalOfThisRow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 (int column = 0; column &lt;matrix[row].length; column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totalOfThisRow+= matrix[row][colum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f (totalOfThisRow &gt;maxR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maxRow = totalOfThis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dexOfMaxRow = 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System.out.println(“Row” + indexOfMaxRow + “ has the maximum sum of “ maxR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380880" y="304920"/>
            <a:ext cx="87631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[][] arr= new int[3][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r[0]= new int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r[1]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r[2]= new int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i=0; i&lt;arr.length; i++)          </a:t>
            </a: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initialize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j=0; j&lt;arr[i].length; j++){              arr[i][j]= i+1;            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Array(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void PrintArray(int[][] arr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The array row by row:");      </a:t>
            </a: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print row by 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r=0; r&lt;arr.length; r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c=0; c&lt;arr[r].length; c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(arr[r][c]+"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The array column by column:"); </a:t>
            </a: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print column by 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c=0; c&lt;arr[max_row].length; c++){   // assume we know the max row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r=0; r&lt;arr.length; r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&gt;=arr[r].leng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in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(arr[r][c]+"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6108840" y="127080"/>
            <a:ext cx="31496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16BA-9F31-4C79-B39A-9A7A76411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855360"/>
            <a:ext cx="899172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give examples of representing data using two-dimensional arrays (§7.1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declare variables for two-dimensional arrays, create arrays, and access array elements in a two-dimensional array using row and column indexes (§7.2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program common operations for two-dimensional arrays (displaying arrays, summing all elements, finding the minimum and maximum elements, and random shuffling) (§7.3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pass two-dimensional arrays to methods (§7.4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write a program for grading multiple-choice questions using two-dimensional arrays (§7.5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solve the closest-pair problem using two-dimensional arrays (§8.6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use multidimensional arrays (§7.8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0839-E270-4DD7-A6CA-D83461010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shuffl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5520" y="1355760"/>
            <a:ext cx="871848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 = 0; i &lt; matrix.length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j = 0; j &lt; matrix[i].length; j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1 = (int)(Math.random() * matrix.length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j1 = (int)(Math.random() * matrix[i].length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Swap matrix[i][j] with matrix[i1][j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emp = matrix[i][j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[i][j] = matrix[i1][j1]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[i1][j1] = te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F069-6541-4C71-8298-23EDC32FD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3680" y="380880"/>
            <a:ext cx="8756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Tow-Dimensional Arrays to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DAB4-A693-4ADE-951E-612C31F76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31840" y="11160"/>
            <a:ext cx="8488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PassTwoDimensionalArray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void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main(String[] args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][] m = getArray(); // Get an arr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// Display sum of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"\nSum of all elements is "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+ sum(m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][] getArray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Scanner input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Scanner(System.in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// Enter array val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][] m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][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"Enter "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+ m.length +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" rows and "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+ m[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].length +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"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columns: "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i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i &lt; m.length; i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j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j &lt; m[i].length; j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m[i][j] = input.next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sum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][] m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total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row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row &lt; m.length; row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column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column &lt; m[row].length; column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total += m[row][column];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to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414B-7E3D-4269-92A6-B36CD0A9B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5960" y="3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Grading Multiple-Choic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81480" y="1904760"/>
            <a:ext cx="38102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program that grades multiple-choice tes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Object 5" descr=""/>
          <p:cNvPicPr/>
          <p:nvPr/>
        </p:nvPicPr>
        <p:blipFill>
          <a:blip r:embed="rId1"/>
          <a:stretch/>
        </p:blipFill>
        <p:spPr>
          <a:xfrm>
            <a:off x="-266760" y="2200320"/>
            <a:ext cx="533412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Object 7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190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1E31-1C54-4AEC-BE22-F7A0DF9A8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155520" y="0"/>
            <a:ext cx="82184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GradeExa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main(String args[]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Students' answers to the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[][] answers = {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Key to the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[] keys =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Grade all answ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i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i &lt; answers.length; i++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Grade one stu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correctCount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j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j &lt; answers[i].length; j++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answers[i][j] == keys[j]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correctCount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"Student "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+ i +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"'s correct count is "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+ correctCount);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517-DB0B-4580-916A-1C9EB2FCA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asionally, you will need to represent n-dimensional data structures. In Java, you can create n-dimensional arrays for any integer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y to declare two-dimensional array variables and create two-dimensional arrays can be generalized to declare n-dimensional array variables and create n-dimensional arrays for n &gt;=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1F2C-7DC3-4884-B638-FAF21D8B7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32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[][][] scores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7.5, 20.5}, {9.0, 22.5}, {15, 33.5}, {13, 21.5}, {15, 2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4.5, 21.5}, {9.0, 22.5}, {15, 34.5}, {12, 20.5}, {14, 9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6.5, 30.5}, {9.4, 10.5}, {11, 33.5}, {11, 23.5}, {10, 2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6.5, 23.5}, {9.4, 32.5}, {13, 34.5}, {11, 20.5}, {16, 7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8.5, 26.5}, {9.4, 52.5}, {13, 36.5}, {13, 24.5}, {16, 2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9.5, 20.5}, {9.4, 42.5}, {13, 31.5}, {12, 20.5}, {16, 6.5}}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0" y="4556160"/>
          <a:ext cx="91440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56160"/>
                    <a:ext cx="91440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238-C21C-48FE-A35A-B5183D596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: Calculating Total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program that calculates the total score for students in a class. Suppose the scores are stored in a three-dimensional array nam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o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first index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o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a student, the second refers to an exam, and the third refers to the part of the exam. Suppose there are 7 students, 5 exams, and each exam has two parts--the multiple-choice part and the programming part. So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ores[i][j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score on the multiple-choice part f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student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xam. Your program displays the total score for each stud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D193-8F29-4C54-B496-F6A595505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231840" y="165240"/>
            <a:ext cx="8758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TotalScor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main(String args[]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[][][] scores =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Calculate and display total score for each stu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i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i &lt; scores.length; i++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totalScore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j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j &lt; scores[i].length; j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k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k &lt; scores[i][j].length; k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totalScore += scores[i][j][k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"Student "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+ i +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"'s score is "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+ totalScore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16F6-58B8-4C63-AF52-A018B0FB5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0000" y="228240"/>
            <a:ext cx="8564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Problem: Weather Inform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0000" y="1163160"/>
            <a:ext cx="887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se a meteorology station records the temperature and humidity at each hour of every day and stores the data for the past ten days in a text file named weather.txt. Each line of the file consists of four numbers that indicate the day, hour, temperature, and humidity. Your task is to write a program that calculates the average daily temperature and humidity for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ay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Object 8"/>
          <p:cNvGraphicFramePr/>
          <p:nvPr/>
        </p:nvGraphicFramePr>
        <p:xfrm>
          <a:off x="1500120" y="4356000"/>
          <a:ext cx="33037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356000"/>
                    <a:ext cx="33037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11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10"/>
          <p:cNvGraphicFramePr/>
          <p:nvPr/>
        </p:nvGraphicFramePr>
        <p:xfrm>
          <a:off x="4881600" y="4351320"/>
          <a:ext cx="318780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4351320"/>
                    <a:ext cx="318780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3"/>
          <p:cNvSpPr/>
          <p:nvPr/>
        </p:nvSpPr>
        <p:spPr>
          <a:xfrm>
            <a:off x="3381480" y="3851280"/>
            <a:ext cx="4646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ata [9][23][1] stores the humidity in day 10 at hours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74E0-7FC8-4AD9-B8CC-95E3AB2CD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564400" cy="95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e/Create Two-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602560" cy="44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clare array ref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Type[][] refVa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array and assign its reference to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fVar = new dataType[10]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mbine declaration and creation in on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Type[][] refVar = new dataType[10]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ternative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Type refVar[][] = new dataType[10]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261E-0A85-4F6E-A793-448B07CC7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"/>
          <p:cNvSpPr/>
          <p:nvPr/>
        </p:nvSpPr>
        <p:spPr>
          <a:xfrm>
            <a:off x="0" y="-27000"/>
            <a:ext cx="91440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class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Weather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inal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NUMBER_OF_DAYS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inal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NUMBER_OF_HOURS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[][][] data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new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d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[NUMBER_OF_DAYS][NUMBER_OF_HOURS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canner input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new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Scanner(System.i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 Read input using input redirection from a 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k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k &lt; NUMBER_OF_DAYS * NUMBER_OF_HOURS; k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day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hour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temperature = input.nextDoubl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humidity = input.nextDoubl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ta[day -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[hour -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 = temperatur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ta[day -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[hour -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 = humidi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 Find the average daily temperature and humid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i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i &lt; NUMBER_OF_DAYS; i++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dailyTemperatureTotal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ilyHumidityTotal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j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j &lt; NUMBER_OF_HOURS; j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ilyTemperatureTotal += data[i][j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ilyHumidityTotal += data[i][j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"Day "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+ i +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"'s average temperature is "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+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ilyTemperatureTotal /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NUMBER_OF_HOUR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"Day "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+ i +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"'s average humidity is "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+dailyHumidityTotal /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NUMBER_OF_HOUR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} }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6527-6AD4-4EFC-A95B-744AF4419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ing Variables of Two-dimensional Arrays and Creating Two-dimensional Array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[] matrix = new int[10]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trix[][] = new int[10]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rix[0][0]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 = 0; i &lt; matrix.length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j = 0; j &lt; matrix[i].length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rix[i][j] = (int)(Math.random() *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[][]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6FD5-A1CB-41E6-9FB0-137E6871F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dimensional Array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3241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108840" y="523404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.length?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[0].length?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70040" y="51958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.length?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[0].length?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0" y="1179360"/>
            <a:ext cx="912816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E49A-AAEE-4A42-A3AE-0562AE837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laring, Creating, and Initializing Using Shorthand N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so use an array initializer to declare, create and initialize a two-dimensional array. For examp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809880" y="3124080"/>
            <a:ext cx="517860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array = new int[4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0][0] = 1; array[0][1] = 2; array[0][2] = 3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1][0] = 4; array[1][1] = 5; array[1][2] = 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2][0] = 7; array[2][1] = 8; array[2][2] = 9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3][0] = 10; array[3][1] = 11; array[3][2] = 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28600" y="2971800"/>
            <a:ext cx="190512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array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, 2, 3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4, 5, 6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7, 8, 9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0, 11, 1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133720" y="4191120"/>
            <a:ext cx="1600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438280" y="36576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2133720" y="4114800"/>
            <a:ext cx="1600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1905120" y="1905120"/>
            <a:ext cx="2743200" cy="175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7033-6295-4B9A-ABA1-07D908FBE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gths of Two-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4670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x = new int[3][4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117360" y="2471760"/>
            <a:ext cx="8909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5FCC-AF74-428A-A916-F12912C78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gths of Two-dimensional Array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657080"/>
            <a:ext cx="335268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array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, 2, 3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4, 5, 6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7, 8, 9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0, 11, 1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029200" y="1752480"/>
            <a:ext cx="33526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0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1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2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3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38080" y="5181480"/>
            <a:ext cx="8305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4].length      ArrayIndexOutOfBounds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BCE9-B338-48A1-82D2-E5B89B9D6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gged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ow in a two-dimensional array is itself an array. So, the rows can have different lengths. Such an array 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gged 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or exampl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matrix = {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, 2, 3, 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2, 3, 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3, 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5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886200" y="2971800"/>
            <a:ext cx="464832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.length i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0].length i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1].length is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2].length i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3].length 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4].length i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0T08:33:48Z</dcterms:modified>
  <cp:revision>299</cp:revision>
  <dc:subject/>
  <dc:title>Chapter 5 Arrays</dc:title>
</cp:coreProperties>
</file>