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11.wmf" ContentType="image/x-wmf"/>
  <Override PartName="/ppt/media/image3.png" ContentType="image/png"/>
  <Override PartName="/ppt/media/image12.png" ContentType="image/png"/>
  <Override PartName="/ppt/media/image32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0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6.wmf" ContentType="image/x-wmf"/>
  <Override PartName="/ppt/media/image34.jpeg" ContentType="image/jpeg"/>
  <Override PartName="/ppt/media/image7.png" ContentType="image/png"/>
  <Override PartName="/ppt/media/image15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0920" y="691920"/>
            <a:ext cx="455616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FED1-D3C1-4D3E-9BC4-E945DE28EBB4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8C77-76B0-42C3-8594-5BD5679054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7DF08-7BAB-4EE0-8590-1F87602FF7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F4207-45E1-4E67-8AA6-64F1C012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245D-95CF-40F9-8062-C947C6A4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3229-8E88-43F5-9AB6-4A9DB8EBFF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20A6C-4C98-48FB-8DF5-446B20C094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9E319-B69E-4BF2-9237-86A891B4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EDD59-6B76-4518-9A24-CE34CC6F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6EC13-D926-4C22-8C1F-452F7AF7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A2E67-8E21-49B5-A1EC-8BDCC898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4991A-3244-4B83-A1BC-4DD480E3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307C7-4D74-47E5-91E4-3DC37098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A49A-8FC5-40B8-B739-3F0750C9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3B234-C6F7-4329-99F1-024F011B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58AD3-0129-4C57-97F9-B875C826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F1B17-E30D-47DB-BBEB-87A38D14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E2881-8AD3-4B9E-9964-CC06DB2A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7F6E5-98DC-4920-81DB-3DD9D8504E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2B2E-CF83-45FB-9245-7CAD257E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74A1B-6C12-41AB-912C-312A777B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F4F8-291F-4404-9D8A-E470051E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5FE9-A800-42D3-A92D-51AA97BE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A44B-BDAA-4CAA-B6A3-97FC1B33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1D269-E1C5-4F35-9AB0-3E7BD75F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A1860-A6B6-4C8F-B655-E067BB7B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129F-C9AB-414E-A39F-72CDCF223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Rectangle 37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7F80-788D-4D14-A6CF-EAE39805A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ml/TestSimpleCircle.bat" TargetMode="External"/><Relationship Id="rId2" Type="http://schemas.openxmlformats.org/officeDocument/2006/relationships/hyperlink" Target="http://www.cs.armstrong.edu/liang/intro10e/html/TestSimpleCircle.html" TargetMode="External"/><Relationship Id="rId3" Type="http://schemas.openxmlformats.org/officeDocument/2006/relationships/hyperlink" Target="http://www.cs.armstrong.edu/liang/animation/web/java10e/Listing9_1.html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ml/TestTV.bat" TargetMode="External"/><Relationship Id="rId2" Type="http://schemas.openxmlformats.org/officeDocument/2006/relationships/hyperlink" Target="http://www.cs.armstrong.edu/liang/intro10e/html/TestTV.html" TargetMode="External"/><Relationship Id="rId3" Type="http://schemas.openxmlformats.org/officeDocument/2006/relationships/hyperlink" Target="http://www.cs.armstrong.edu/liang/intro10e/html/TV.html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3536-563D-43D1-ADED-C7FB20591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7800" y="1700280"/>
            <a:ext cx="78040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 Objects and Clas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0908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2090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2090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ECDD-3827-46F8-87DB-3BAA59FA1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Example: Defining Classes and Creating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3680" y="2133720"/>
            <a:ext cx="87566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: Demonstrate creating objects, accessing data, and using methods.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2344680" y="5272200"/>
            <a:ext cx="3276720" cy="533160"/>
          </a:xfrm>
          <a:custGeom>
            <a:avLst/>
            <a:gdLst>
              <a:gd name="textAreaLeft" fmla="*/ 34560 w 3276720"/>
              <a:gd name="textAreaRight" fmla="*/ 3242160 w 3276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32675" h="21600">
                <a:moveTo>
                  <a:pt x="0" y="0"/>
                </a:moveTo>
                <a:lnTo>
                  <a:pt x="132675" y="0"/>
                </a:lnTo>
                <a:lnTo>
                  <a:pt x="132675" y="21600"/>
                </a:lnTo>
                <a:lnTo>
                  <a:pt x="0" y="21600"/>
                </a:lnTo>
                <a:close/>
              </a:path>
              <a:path fill="lightenLess" w="132675" h="21600">
                <a:moveTo>
                  <a:pt x="0" y="0"/>
                </a:moveTo>
                <a:lnTo>
                  <a:pt x="132675" y="0"/>
                </a:lnTo>
                <a:lnTo>
                  <a:pt x="131275" y="1400"/>
                </a:lnTo>
                <a:lnTo>
                  <a:pt x="1400" y="1400"/>
                </a:lnTo>
                <a:close/>
              </a:path>
              <a:path fill="darken" w="132675" h="21600">
                <a:moveTo>
                  <a:pt x="132675" y="0"/>
                </a:moveTo>
                <a:lnTo>
                  <a:pt x="132675" y="21600"/>
                </a:lnTo>
                <a:lnTo>
                  <a:pt x="131275" y="20200"/>
                </a:lnTo>
                <a:lnTo>
                  <a:pt x="131275" y="1400"/>
                </a:lnTo>
                <a:close/>
              </a:path>
              <a:path fill="darkenLess" w="132675" h="21600">
                <a:moveTo>
                  <a:pt x="132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275" y="20200"/>
                </a:lnTo>
                <a:close/>
              </a:path>
              <a:path fill="lighten" w="132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Simple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0">
            <a:hlinkClick r:id="rId1"/>
          </p:cNvPr>
          <p:cNvSpPr/>
          <p:nvPr/>
        </p:nvSpPr>
        <p:spPr>
          <a:xfrm>
            <a:off x="5954760" y="527220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1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1" y="20200"/>
                </a:lnTo>
                <a:lnTo>
                  <a:pt x="66091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1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1">
            <a:hlinkClick r:id="rId2"/>
          </p:cNvPr>
          <p:cNvSpPr/>
          <p:nvPr/>
        </p:nvSpPr>
        <p:spPr>
          <a:xfrm>
            <a:off x="1652760" y="5234040"/>
            <a:ext cx="468000" cy="576360"/>
          </a:xfrm>
          <a:custGeom>
            <a:avLst/>
            <a:gdLst>
              <a:gd name="textAreaLeft" fmla="*/ 30240 w 468000"/>
              <a:gd name="textAreaRight" fmla="*/ 437760 w 46800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97">
                <a:moveTo>
                  <a:pt x="0" y="0"/>
                </a:moveTo>
                <a:lnTo>
                  <a:pt x="21600" y="0"/>
                </a:lnTo>
                <a:lnTo>
                  <a:pt x="21600" y="26597"/>
                </a:lnTo>
                <a:lnTo>
                  <a:pt x="0" y="26597"/>
                </a:lnTo>
                <a:close/>
              </a:path>
              <a:path fill="lightenLess" w="21600" h="265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97">
                <a:moveTo>
                  <a:pt x="21600" y="0"/>
                </a:moveTo>
                <a:lnTo>
                  <a:pt x="21600" y="26597"/>
                </a:lnTo>
                <a:lnTo>
                  <a:pt x="20200" y="25197"/>
                </a:lnTo>
                <a:lnTo>
                  <a:pt x="20200" y="1400"/>
                </a:lnTo>
                <a:close/>
              </a:path>
              <a:path fill="darkenLess" w="21600" h="26597">
                <a:moveTo>
                  <a:pt x="21600" y="26597"/>
                </a:moveTo>
                <a:lnTo>
                  <a:pt x="0" y="26597"/>
                </a:lnTo>
                <a:lnTo>
                  <a:pt x="1400" y="25197"/>
                </a:lnTo>
                <a:lnTo>
                  <a:pt x="20200" y="25197"/>
                </a:lnTo>
                <a:close/>
              </a:path>
              <a:path fill="lighten" w="21600" h="26597">
                <a:moveTo>
                  <a:pt x="0" y="265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97"/>
                </a:lnTo>
                <a:close/>
              </a:path>
              <a:path fill="darkenLess" w="21600" h="26597">
                <a:moveTo>
                  <a:pt x="5273" y="6484"/>
                </a:moveTo>
                <a:lnTo>
                  <a:pt x="12271" y="6484"/>
                </a:lnTo>
                <a:lnTo>
                  <a:pt x="16327" y="9983"/>
                </a:lnTo>
                <a:lnTo>
                  <a:pt x="16327" y="20114"/>
                </a:lnTo>
                <a:lnTo>
                  <a:pt x="5273" y="20114"/>
                </a:lnTo>
                <a:close/>
              </a:path>
              <a:path fill="darken" w="21600" h="26597">
                <a:moveTo>
                  <a:pt x="12271" y="6484"/>
                </a:moveTo>
                <a:lnTo>
                  <a:pt x="16327" y="9983"/>
                </a:lnTo>
                <a:lnTo>
                  <a:pt x="12271" y="9983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AutoShape 4"/>
          <p:cNvGrpSpPr/>
          <p:nvPr/>
        </p:nvGrpSpPr>
        <p:grpSpPr>
          <a:xfrm>
            <a:off x="4059360" y="4773600"/>
            <a:ext cx="1939680" cy="762120"/>
            <a:chOff x="4059360" y="4773600"/>
            <a:chExt cx="1939680" cy="762120"/>
          </a:xfrm>
        </p:grpSpPr>
        <p:pic>
          <p:nvPicPr>
            <p:cNvPr id="217" name="AutoShape 4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059360" y="4773600"/>
              <a:ext cx="19396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4264200" y="4865760"/>
              <a:ext cx="15238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ni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E6F3-98D9-401C-B095-FBEF3C60D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5840" y="345960"/>
            <a:ext cx="4518000" cy="4926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4648320" y="406440"/>
            <a:ext cx="41432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65708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 Television sets.Each TV is 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6AD6-F0B0-44F9-B38E-A14FEB623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422360" y="4389480"/>
            <a:ext cx="22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n or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4287960" y="4335480"/>
            <a:ext cx="226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 on or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" descr="Image result for think"/>
          <p:cNvPicPr/>
          <p:nvPr/>
        </p:nvPicPr>
        <p:blipFill>
          <a:blip r:embed="rId1"/>
          <a:stretch/>
        </p:blipFill>
        <p:spPr>
          <a:xfrm>
            <a:off x="81000" y="763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7"/>
          <p:cNvSpPr/>
          <p:nvPr/>
        </p:nvSpPr>
        <p:spPr>
          <a:xfrm>
            <a:off x="5186520" y="2476440"/>
            <a:ext cx="181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5302080" y="250812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1308240" y="3592440"/>
            <a:ext cx="2144520" cy="527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4408560" y="3592440"/>
            <a:ext cx="2144520" cy="527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80E0-2744-4F01-B3C8-8EE863AD2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60" y="124920"/>
            <a:ext cx="890928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ample: Defining Classes and Creating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3419640" y="5886360"/>
            <a:ext cx="3276360" cy="533520"/>
          </a:xfrm>
          <a:custGeom>
            <a:avLst/>
            <a:gdLst>
              <a:gd name="textAreaLeft" fmla="*/ 34560 w 3276360"/>
              <a:gd name="textAreaRight" fmla="*/ 3241800 w 3276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2571" h="21600">
                <a:moveTo>
                  <a:pt x="0" y="0"/>
                </a:moveTo>
                <a:lnTo>
                  <a:pt x="132571" y="0"/>
                </a:lnTo>
                <a:lnTo>
                  <a:pt x="132571" y="21600"/>
                </a:lnTo>
                <a:lnTo>
                  <a:pt x="0" y="21600"/>
                </a:lnTo>
                <a:close/>
              </a:path>
              <a:path fill="lightenLess" w="132571" h="21600">
                <a:moveTo>
                  <a:pt x="0" y="0"/>
                </a:moveTo>
                <a:lnTo>
                  <a:pt x="132571" y="0"/>
                </a:lnTo>
                <a:lnTo>
                  <a:pt x="131171" y="1400"/>
                </a:lnTo>
                <a:lnTo>
                  <a:pt x="1400" y="1400"/>
                </a:lnTo>
                <a:close/>
              </a:path>
              <a:path fill="darken" w="132571" h="21600">
                <a:moveTo>
                  <a:pt x="132571" y="0"/>
                </a:moveTo>
                <a:lnTo>
                  <a:pt x="132571" y="21600"/>
                </a:lnTo>
                <a:lnTo>
                  <a:pt x="131171" y="20200"/>
                </a:lnTo>
                <a:lnTo>
                  <a:pt x="131171" y="1400"/>
                </a:lnTo>
                <a:close/>
              </a:path>
              <a:path fill="darkenLess" w="132571" h="21600">
                <a:moveTo>
                  <a:pt x="1325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171" y="20200"/>
                </a:lnTo>
                <a:close/>
              </a:path>
              <a:path fill="lighten" w="1325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">
            <a:hlinkClick r:id="rId1"/>
          </p:cNvPr>
          <p:cNvSpPr/>
          <p:nvPr/>
        </p:nvSpPr>
        <p:spPr>
          <a:xfrm>
            <a:off x="7029360" y="58723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1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1" y="20200"/>
                </a:lnTo>
                <a:lnTo>
                  <a:pt x="66091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1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3381480" y="5234040"/>
            <a:ext cx="3276360" cy="533520"/>
          </a:xfrm>
          <a:custGeom>
            <a:avLst/>
            <a:gdLst>
              <a:gd name="textAreaLeft" fmla="*/ 34560 w 3276360"/>
              <a:gd name="textAreaRight" fmla="*/ 3241800 w 3276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2571" h="21600">
                <a:moveTo>
                  <a:pt x="0" y="0"/>
                </a:moveTo>
                <a:lnTo>
                  <a:pt x="132571" y="0"/>
                </a:lnTo>
                <a:lnTo>
                  <a:pt x="132571" y="21600"/>
                </a:lnTo>
                <a:lnTo>
                  <a:pt x="0" y="21600"/>
                </a:lnTo>
                <a:close/>
              </a:path>
              <a:path fill="lightenLess" w="132571" h="21600">
                <a:moveTo>
                  <a:pt x="0" y="0"/>
                </a:moveTo>
                <a:lnTo>
                  <a:pt x="132571" y="0"/>
                </a:lnTo>
                <a:lnTo>
                  <a:pt x="131171" y="1400"/>
                </a:lnTo>
                <a:lnTo>
                  <a:pt x="1400" y="1400"/>
                </a:lnTo>
                <a:close/>
              </a:path>
              <a:path fill="darken" w="132571" h="21600">
                <a:moveTo>
                  <a:pt x="132571" y="0"/>
                </a:moveTo>
                <a:lnTo>
                  <a:pt x="132571" y="21600"/>
                </a:lnTo>
                <a:lnTo>
                  <a:pt x="131171" y="20200"/>
                </a:lnTo>
                <a:lnTo>
                  <a:pt x="131171" y="1400"/>
                </a:lnTo>
                <a:close/>
              </a:path>
              <a:path fill="darkenLess" w="132571" h="21600">
                <a:moveTo>
                  <a:pt x="1325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171" y="20200"/>
                </a:lnTo>
                <a:close/>
              </a:path>
              <a:path fill="lighten" w="1325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7">
            <a:hlinkClick r:id="rId2"/>
          </p:cNvPr>
          <p:cNvSpPr/>
          <p:nvPr/>
        </p:nvSpPr>
        <p:spPr>
          <a:xfrm>
            <a:off x="2727360" y="584820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8">
            <a:hlinkClick r:id="rId3"/>
          </p:cNvPr>
          <p:cNvSpPr/>
          <p:nvPr/>
        </p:nvSpPr>
        <p:spPr>
          <a:xfrm>
            <a:off x="2728800" y="521028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Less" w="21600" h="26560">
                <a:moveTo>
                  <a:pt x="5273" y="6465"/>
                </a:moveTo>
                <a:lnTo>
                  <a:pt x="12271" y="6465"/>
                </a:lnTo>
                <a:lnTo>
                  <a:pt x="16327" y="9964"/>
                </a:lnTo>
                <a:lnTo>
                  <a:pt x="16327" y="20095"/>
                </a:lnTo>
                <a:lnTo>
                  <a:pt x="5273" y="20095"/>
                </a:lnTo>
                <a:close/>
              </a:path>
              <a:path fill="darken" w="21600" h="26560">
                <a:moveTo>
                  <a:pt x="12271" y="6465"/>
                </a:moveTo>
                <a:lnTo>
                  <a:pt x="16327" y="9964"/>
                </a:lnTo>
                <a:lnTo>
                  <a:pt x="12271" y="996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10"/>
          <p:cNvGraphicFramePr/>
          <p:nvPr/>
        </p:nvGraphicFramePr>
        <p:xfrm>
          <a:off x="0" y="893880"/>
          <a:ext cx="9144000" cy="395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893880"/>
                    <a:ext cx="91440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D069-9E8C-4032-937E-A0E4ACAE8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2"/>
          <a:stretch/>
        </p:blipFill>
        <p:spPr>
          <a:xfrm>
            <a:off x="4379760" y="233280"/>
            <a:ext cx="4206960" cy="323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3"/>
          <a:stretch/>
        </p:blipFill>
        <p:spPr>
          <a:xfrm>
            <a:off x="79200" y="25560"/>
            <a:ext cx="399132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1451-BB35-46B9-8336-129AE6334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0C31-FE46-4808-8BD9-2F3649FCA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ircl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ircle(double newRadius) {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dius = newRadiu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4303800" y="1589040"/>
            <a:ext cx="38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-arg constru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BCED-332B-41C9-98D4-781B6EC60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o special about Constructor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80880" y="1143000"/>
            <a:ext cx="8534520" cy="44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are a special kind of methods that are invoked to construct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 must have the same name as the class itsel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 do not have a return type—not even voi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 are invoked using the new operator when an object is cre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 play the role of initializing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878A-CB5E-45C0-98B8-8FBA808EE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Constr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80880" y="1295280"/>
            <a:ext cx="8534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class may be defined without constructors. In this case, a no-arg constructor with an empty body is implicitly defined in the class. This constructor,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default construc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is provided automatical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nly if no constructors are explicitly defined in the 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3B53-8019-4F56-8DA3-581107072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Objects Using 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new ClassName(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 Circl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 Circle(5.0);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Object 8"/>
          <p:cNvGraphicFramePr/>
          <p:nvPr/>
        </p:nvGraphicFramePr>
        <p:xfrm>
          <a:off x="4917960" y="3851280"/>
          <a:ext cx="268776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3851280"/>
                    <a:ext cx="26877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8"/>
          <p:cNvGraphicFramePr/>
          <p:nvPr/>
        </p:nvGraphicFramePr>
        <p:xfrm>
          <a:off x="4916520" y="2722680"/>
          <a:ext cx="269064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16520" y="2722680"/>
                    <a:ext cx="26906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1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4BF0-9A94-4FF8-AB5E-C3615DF0D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7"/>
          <p:cNvGrpSpPr/>
          <p:nvPr/>
        </p:nvGrpSpPr>
        <p:grpSpPr>
          <a:xfrm>
            <a:off x="4767120" y="1128600"/>
            <a:ext cx="3571920" cy="4835520"/>
            <a:chOff x="4767120" y="1128600"/>
            <a:chExt cx="3571920" cy="4835520"/>
          </a:xfrm>
        </p:grpSpPr>
        <p:sp>
          <p:nvSpPr>
            <p:cNvPr id="156" name="Rounded Rectangle 16"/>
            <p:cNvSpPr/>
            <p:nvPr/>
          </p:nvSpPr>
          <p:spPr>
            <a:xfrm>
              <a:off x="4767120" y="1128600"/>
              <a:ext cx="3571920" cy="4835520"/>
            </a:xfrm>
            <a:custGeom>
              <a:avLst/>
              <a:gdLst>
                <a:gd name="textAreaLeft" fmla="*/ 174240 w 3571920"/>
                <a:gd name="textAreaRight" fmla="*/ 3397680 w 3571920"/>
                <a:gd name="textAreaTop" fmla="*/ 174240 h 4835520"/>
                <a:gd name="textAreaBottom" fmla="*/ 4661280 h 4835520"/>
              </a:gdLst>
              <a:ahLst/>
              <a:rect l="textAreaLeft" t="textAreaTop" r="textAreaRight" b="textAreaBottom"/>
              <a:pathLst>
                <a:path w="21600" h="29240">
                  <a:moveTo>
                    <a:pt x="3600" y="0"/>
                  </a:moveTo>
                  <a:arcTo wR="3600" hR="3600" stAng="16200000" swAng="-5400000"/>
                  <a:lnTo>
                    <a:pt x="0" y="25640"/>
                  </a:lnTo>
                  <a:arcTo wR="3600" hR="3600" stAng="10800000" swAng="-5400000"/>
                  <a:lnTo>
                    <a:pt x="18000" y="29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bject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Picture 10" descr=""/>
            <p:cNvPicPr/>
            <p:nvPr/>
          </p:nvPicPr>
          <p:blipFill>
            <a:blip r:embed="rId1"/>
            <a:stretch/>
          </p:blipFill>
          <p:spPr>
            <a:xfrm>
              <a:off x="4875120" y="3074040"/>
              <a:ext cx="3349800" cy="138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1" descr=""/>
            <p:cNvPicPr/>
            <p:nvPr/>
          </p:nvPicPr>
          <p:blipFill>
            <a:blip r:embed="rId2"/>
            <a:srcRect l="0" t="0" r="2222" b="18350"/>
            <a:stretch/>
          </p:blipFill>
          <p:spPr>
            <a:xfrm>
              <a:off x="4957560" y="4448880"/>
              <a:ext cx="320868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4" descr=""/>
            <p:cNvPicPr/>
            <p:nvPr/>
          </p:nvPicPr>
          <p:blipFill>
            <a:blip r:embed="rId3"/>
            <a:srcRect l="2381" t="5911" r="0" b="12202"/>
            <a:stretch/>
          </p:blipFill>
          <p:spPr>
            <a:xfrm>
              <a:off x="4957560" y="1807920"/>
              <a:ext cx="3250800" cy="113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Rounded Rectangle 18"/>
          <p:cNvSpPr/>
          <p:nvPr/>
        </p:nvSpPr>
        <p:spPr>
          <a:xfrm>
            <a:off x="770040" y="1389240"/>
            <a:ext cx="3571920" cy="445608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4456080"/>
              <a:gd name="textAreaBottom" fmla="*/ 4281840 h 4456080"/>
            </a:gdLst>
            <a:ahLst/>
            <a:rect l="textAreaLeft" t="textAreaTop" r="textAreaRight" b="textAreaBottom"/>
            <a:pathLst>
              <a:path w="21600" h="26946">
                <a:moveTo>
                  <a:pt x="3600" y="0"/>
                </a:moveTo>
                <a:arcTo wR="3600" hR="3600" stAng="16200000" swAng="-5400000"/>
                <a:lnTo>
                  <a:pt x="0" y="23346"/>
                </a:lnTo>
                <a:arcTo wR="3600" hR="3600" stAng="10800000" swAng="-5400000"/>
                <a:lnTo>
                  <a:pt x="18000" y="269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1"/>
          <p:cNvGrpSpPr/>
          <p:nvPr/>
        </p:nvGrpSpPr>
        <p:grpSpPr>
          <a:xfrm>
            <a:off x="1000080" y="3063960"/>
            <a:ext cx="3111480" cy="1344600"/>
            <a:chOff x="1000080" y="3063960"/>
            <a:chExt cx="3111480" cy="1344600"/>
          </a:xfrm>
        </p:grpSpPr>
        <p:sp>
          <p:nvSpPr>
            <p:cNvPr id="162" name="Straight Connector 35"/>
            <p:cNvSpPr/>
            <p:nvPr/>
          </p:nvSpPr>
          <p:spPr>
            <a:xfrm>
              <a:off x="1000080" y="4132800"/>
              <a:ext cx="31114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Group 40"/>
            <p:cNvGrpSpPr/>
            <p:nvPr/>
          </p:nvGrpSpPr>
          <p:grpSpPr>
            <a:xfrm>
              <a:off x="1000080" y="3063960"/>
              <a:ext cx="3111480" cy="1344600"/>
              <a:chOff x="1000080" y="3063960"/>
              <a:chExt cx="3111480" cy="1344600"/>
            </a:xfrm>
          </p:grpSpPr>
          <p:sp>
            <p:nvSpPr>
              <p:cNvPr id="164" name="Straight Connector 31"/>
              <p:cNvSpPr/>
              <p:nvPr/>
            </p:nvSpPr>
            <p:spPr>
              <a:xfrm>
                <a:off x="4111560" y="3512160"/>
                <a:ext cx="0" cy="620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39"/>
              <p:cNvGrpSpPr/>
              <p:nvPr/>
            </p:nvGrpSpPr>
            <p:grpSpPr>
              <a:xfrm>
                <a:off x="1000080" y="3063960"/>
                <a:ext cx="3111480" cy="1344600"/>
                <a:chOff x="1000080" y="3063960"/>
                <a:chExt cx="3111480" cy="1344600"/>
              </a:xfrm>
            </p:grpSpPr>
            <p:sp>
              <p:nvSpPr>
                <p:cNvPr id="166" name="Straight Connector 20"/>
                <p:cNvSpPr/>
                <p:nvPr/>
              </p:nvSpPr>
              <p:spPr>
                <a:xfrm>
                  <a:off x="2005920" y="3063960"/>
                  <a:ext cx="1005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Straight Connector 22"/>
                <p:cNvSpPr/>
                <p:nvPr/>
              </p:nvSpPr>
              <p:spPr>
                <a:xfrm flipH="1">
                  <a:off x="1690920" y="3063960"/>
                  <a:ext cx="314280" cy="448200"/>
                </a:xfrm>
                <a:prstGeom prst="line">
                  <a:avLst/>
                </a:prstGeom>
                <a:ln w="38160">
                  <a:solidFill>
                    <a:srgbClr val="5f5f5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Straight Connector 24"/>
                <p:cNvSpPr/>
                <p:nvPr/>
              </p:nvSpPr>
              <p:spPr>
                <a:xfrm>
                  <a:off x="3043080" y="3063960"/>
                  <a:ext cx="282600" cy="44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Straight Connector 27"/>
                <p:cNvSpPr/>
                <p:nvPr/>
              </p:nvSpPr>
              <p:spPr>
                <a:xfrm>
                  <a:off x="3326040" y="3512160"/>
                  <a:ext cx="785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Straight Connector 29"/>
                <p:cNvSpPr/>
                <p:nvPr/>
              </p:nvSpPr>
              <p:spPr>
                <a:xfrm flipH="1">
                  <a:off x="1000080" y="3512160"/>
                  <a:ext cx="691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Straight Connector 33"/>
                <p:cNvSpPr/>
                <p:nvPr/>
              </p:nvSpPr>
              <p:spPr>
                <a:xfrm>
                  <a:off x="1000080" y="3512160"/>
                  <a:ext cx="0" cy="62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Oval 37"/>
                <p:cNvSpPr/>
                <p:nvPr/>
              </p:nvSpPr>
              <p:spPr>
                <a:xfrm>
                  <a:off x="3043080" y="3951360"/>
                  <a:ext cx="439920" cy="457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Oval 38"/>
                <p:cNvSpPr/>
                <p:nvPr/>
              </p:nvSpPr>
              <p:spPr>
                <a:xfrm>
                  <a:off x="1770120" y="3951360"/>
                  <a:ext cx="439920" cy="457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694B-40E7-4F40-9B96-17F176890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laring Object Reference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eclare a reference variable, use the syntax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assName objectRefVar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rcle myCirc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"/>
          <p:cNvSpPr/>
          <p:nvPr/>
        </p:nvSpPr>
        <p:spPr>
          <a:xfrm>
            <a:off x="1652760" y="5041800"/>
            <a:ext cx="500040" cy="422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Straight Arrow Connector 3"/>
          <p:cNvCxnSpPr/>
          <p:nvPr/>
        </p:nvCxnSpPr>
        <p:spPr>
          <a:xfrm>
            <a:off x="1922040" y="5233680"/>
            <a:ext cx="20358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Rectangle 4"/>
          <p:cNvSpPr/>
          <p:nvPr/>
        </p:nvSpPr>
        <p:spPr>
          <a:xfrm>
            <a:off x="1346040" y="4543560"/>
            <a:ext cx="16131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4111560" y="4967280"/>
            <a:ext cx="1612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D466-18ED-4C31-A7FA-33B589A67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ll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28120" y="2238480"/>
            <a:ext cx="86108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data field of a reference type does not reference any object, the data field holds a special literal value, nu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E563-A626-4C12-926B-539159ABA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/Creating Obje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 Single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990612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assNam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objectRefVa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= new ClassNam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ircle myCircle = new Circle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3657600" y="3809880"/>
            <a:ext cx="2590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5"/>
          <p:cNvSpPr/>
          <p:nvPr/>
        </p:nvSpPr>
        <p:spPr>
          <a:xfrm>
            <a:off x="495288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875840" y="296856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n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"/>
          <p:cNvSpPr/>
          <p:nvPr/>
        </p:nvSpPr>
        <p:spPr>
          <a:xfrm flipH="1" flipV="1">
            <a:off x="3276720" y="3505320"/>
            <a:ext cx="3808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8"/>
          <p:cNvSpPr/>
          <p:nvPr/>
        </p:nvSpPr>
        <p:spPr>
          <a:xfrm flipH="1">
            <a:off x="2666880" y="3505320"/>
            <a:ext cx="6098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139480" y="297180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ign object 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Object 8"/>
          <p:cNvGraphicFramePr/>
          <p:nvPr/>
        </p:nvGraphicFramePr>
        <p:xfrm>
          <a:off x="3862440" y="4707000"/>
          <a:ext cx="26906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2440" y="4707000"/>
                    <a:ext cx="26906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11"/>
          <p:cNvSpPr/>
          <p:nvPr/>
        </p:nvSpPr>
        <p:spPr>
          <a:xfrm>
            <a:off x="1652760" y="5041800"/>
            <a:ext cx="500040" cy="422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12"/>
          <p:cNvCxnSpPr/>
          <p:nvPr/>
        </p:nvCxnSpPr>
        <p:spPr>
          <a:xfrm>
            <a:off x="1922040" y="5233680"/>
            <a:ext cx="20358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Rectangle 13"/>
          <p:cNvSpPr/>
          <p:nvPr/>
        </p:nvSpPr>
        <p:spPr>
          <a:xfrm>
            <a:off x="1346040" y="4543560"/>
            <a:ext cx="16131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A752-C780-4920-8D62-B0D6C067D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Object’s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ing the object’s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objectRefVar.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Circle.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ing the object’s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objectRefVar.methodName(argumen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Circle.getAre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1F9B-CC2E-43EB-88A0-5CC8B5050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 Data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 fields can be of reference types or prim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453960" y="2108160"/>
            <a:ext cx="8610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tud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ge;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isScienceMajor;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gender;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'\u0000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2482920" y="1585800"/>
            <a:ext cx="40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 is the default values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453960" y="2111400"/>
            <a:ext cx="8610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tud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ge;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isScienceMaj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gend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'\u0000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453960" y="3794040"/>
            <a:ext cx="8763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udent student = new Stud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name? " + student.name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age? " + student.age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isScienceMajor? " + student.isScienceMajo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gender? " + student.gende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56DE-54BB-421B-9DF4-571A63AA6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80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5920" y="1740960"/>
            <a:ext cx="861048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y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x is " + x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y is " + y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4"/>
          <p:cNvSpPr/>
          <p:nvPr/>
        </p:nvSpPr>
        <p:spPr>
          <a:xfrm flipH="1">
            <a:off x="2819520" y="3238560"/>
            <a:ext cx="2133360" cy="1676520"/>
          </a:xfrm>
          <a:prstGeom prst="line">
            <a:avLst/>
          </a:prstGeom>
          <a:ln w="12600">
            <a:solidFill>
              <a:srgbClr val="ff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5"/>
          <p:cNvSpPr/>
          <p:nvPr/>
        </p:nvSpPr>
        <p:spPr>
          <a:xfrm flipH="1">
            <a:off x="3047760" y="3541680"/>
            <a:ext cx="1904760" cy="1295280"/>
          </a:xfrm>
          <a:prstGeom prst="line">
            <a:avLst/>
          </a:prstGeom>
          <a:ln w="12600">
            <a:solidFill>
              <a:srgbClr val="ff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33360" y="4390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ile error: variable not initi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746520" y="449424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8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assigns no default value to a local variable inside a meth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5443-781A-4C67-BAA3-8612AAE85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821880"/>
            <a:ext cx="91440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ces between Variabl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mitive Data Types and Object Typ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3112920" y="24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237168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Object 10"/>
          <p:cNvGraphicFramePr/>
          <p:nvPr/>
        </p:nvGraphicFramePr>
        <p:xfrm>
          <a:off x="423720" y="2265480"/>
          <a:ext cx="8610840" cy="21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2265480"/>
                    <a:ext cx="861084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81B4-1A6E-44B7-8449-803ED890D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Variables of Primitive Data Types and Object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384200" y="1662120"/>
            <a:ext cx="6183360" cy="65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9000"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Primitive type assignmen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i =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730520" y="2830680"/>
            <a:ext cx="2457360" cy="2608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4424400" y="2824200"/>
            <a:ext cx="2374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3C66-4BC0-421C-B7E2-F05B2302C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Variables of Primitive Data Types and Object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806480" y="1623960"/>
            <a:ext cx="5194440" cy="8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2000"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bject type assig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1 =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720720" y="2575080"/>
            <a:ext cx="2979720" cy="32731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"/>
          <p:cNvPicPr/>
          <p:nvPr/>
        </p:nvPicPr>
        <p:blipFill>
          <a:blip r:embed="rId2"/>
          <a:stretch/>
        </p:blipFill>
        <p:spPr>
          <a:xfrm>
            <a:off x="4680000" y="2724120"/>
            <a:ext cx="2825640" cy="3162240"/>
          </a:xfrm>
          <a:prstGeom prst="rect">
            <a:avLst/>
          </a:prstGeom>
          <a:ln w="0">
            <a:noFill/>
          </a:ln>
        </p:spPr>
      </p:pic>
      <p:sp>
        <p:nvSpPr>
          <p:cNvPr id="330" name="&quot;No&quot; Symbol 7"/>
          <p:cNvSpPr/>
          <p:nvPr/>
        </p:nvSpPr>
        <p:spPr>
          <a:xfrm>
            <a:off x="5176800" y="3848040"/>
            <a:ext cx="397080" cy="398520"/>
          </a:xfrm>
          <a:custGeom>
            <a:avLst/>
            <a:gdLst/>
            <a:ahLst/>
            <a:rect l="l" t="t" r="r" b="b"/>
            <a:pathLst>
              <a:path w="396875" h="398463">
                <a:moveTo>
                  <a:pt x="0" y="199232"/>
                </a:moveTo>
                <a:cubicBezTo>
                  <a:pt x="0" y="89199"/>
                  <a:pt x="88844" y="0"/>
                  <a:pt x="198438" y="0"/>
                </a:cubicBezTo>
                <a:cubicBezTo>
                  <a:pt x="308032" y="0"/>
                  <a:pt x="396876" y="89199"/>
                  <a:pt x="396876" y="199232"/>
                </a:cubicBezTo>
                <a:cubicBezTo>
                  <a:pt x="396876" y="309265"/>
                  <a:pt x="308032" y="398464"/>
                  <a:pt x="198438" y="398464"/>
                </a:cubicBezTo>
                <a:cubicBezTo>
                  <a:pt x="88844" y="398464"/>
                  <a:pt x="0" y="309265"/>
                  <a:pt x="0" y="199232"/>
                </a:cubicBezTo>
                <a:close/>
                <a:moveTo>
                  <a:pt x="307624" y="258430"/>
                </a:moveTo>
                <a:cubicBezTo>
                  <a:pt x="333492" y="210106"/>
                  <a:pt x="324954" y="150446"/>
                  <a:pt x="286589" y="111432"/>
                </a:cubicBezTo>
                <a:cubicBezTo>
                  <a:pt x="247845" y="72033"/>
                  <a:pt x="187924" y="63070"/>
                  <a:pt x="139470" y="89426"/>
                </a:cubicBezTo>
                <a:lnTo>
                  <a:pt x="307624" y="258430"/>
                </a:lnTo>
                <a:close/>
                <a:moveTo>
                  <a:pt x="89251" y="140033"/>
                </a:moveTo>
                <a:cubicBezTo>
                  <a:pt x="63383" y="188357"/>
                  <a:pt x="71921" y="248017"/>
                  <a:pt x="110286" y="287031"/>
                </a:cubicBezTo>
                <a:cubicBezTo>
                  <a:pt x="149030" y="326430"/>
                  <a:pt x="208951" y="335393"/>
                  <a:pt x="257405" y="309037"/>
                </a:cubicBezTo>
                <a:lnTo>
                  <a:pt x="89251" y="140033"/>
                </a:lnTo>
                <a:close/>
              </a:path>
            </a:pathLst>
          </a:custGeom>
          <a:solidFill>
            <a:srgbClr val="ff505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Straight Arrow Connector 9"/>
          <p:cNvCxnSpPr/>
          <p:nvPr/>
        </p:nvCxnSpPr>
        <p:spPr>
          <a:xfrm>
            <a:off x="6222960" y="3658680"/>
            <a:ext cx="923040" cy="1080"/>
          </a:xfrm>
          <a:prstGeom prst="straightConnector1">
            <a:avLst/>
          </a:prstGeom>
          <a:ln w="28440">
            <a:solidFill>
              <a:srgbClr val="ff5050"/>
            </a:solidFill>
            <a:miter/>
          </a:ln>
        </p:spPr>
      </p:cxnSp>
      <p:cxnSp>
        <p:nvCxnSpPr>
          <p:cNvPr id="332" name="Straight Arrow Connector 11"/>
          <p:cNvCxnSpPr/>
          <p:nvPr/>
        </p:nvCxnSpPr>
        <p:spPr>
          <a:xfrm>
            <a:off x="7144920" y="3658680"/>
            <a:ext cx="1080" cy="1445040"/>
          </a:xfrm>
          <a:prstGeom prst="straightConnector1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9BD0-797B-4909-879A-9C874F5B3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120" y="4481280"/>
            <a:ext cx="8417160" cy="12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bject is known as garbage. Garbage is automatically collected by JV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3035160" y="1009800"/>
            <a:ext cx="2851200" cy="2849400"/>
          </a:xfrm>
          <a:prstGeom prst="rect">
            <a:avLst/>
          </a:prstGeom>
          <a:ln w="0">
            <a:noFill/>
          </a:ln>
        </p:spPr>
      </p:pic>
      <p:sp>
        <p:nvSpPr>
          <p:cNvPr id="337" name="Oval 3"/>
          <p:cNvSpPr/>
          <p:nvPr/>
        </p:nvSpPr>
        <p:spPr>
          <a:xfrm>
            <a:off x="2712960" y="2689200"/>
            <a:ext cx="1997280" cy="1709640"/>
          </a:xfrm>
          <a:prstGeom prst="ellipse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CE1A-80AE-4565-938F-10D28A1FC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0000" y="779040"/>
            <a:ext cx="8874000" cy="573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escribe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bjects and classe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, and use classes to model objects (§8.2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use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UML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graphical notation to describe classes and objects (§8.2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emonstrate how to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classes and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objects (§8.3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create objects using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§8.4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access objects vi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bject reference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ariables (§8.5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efine a reference variable using 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ference type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§8.5.1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access an object’s data and methods using the object member access operator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.)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§8.5.2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efine data fields of reference types and assign default values for an object’s data fields (§8.5.3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istinguish between object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variables and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imitiv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ata type variables (§8.5.4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use the Java library classes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§8.6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8FB2-0369-4641-8E51-B38F02913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rbage Collection, c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5520" y="1371600"/>
            <a:ext cx="8531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: If you know that an object is no longer needed, you can explicitly assign null to a reference variable for the object. The JVM will automatically collect the space if the object is not referenced by any variable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0E74-CCBC-495A-A743-79F93548B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ce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152280" y="190512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myCircle = new Circle(5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yourCircle = 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Circle.radius =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228600" y="1981080"/>
            <a:ext cx="15778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9"/>
          <p:cNvSpPr/>
          <p:nvPr/>
        </p:nvSpPr>
        <p:spPr>
          <a:xfrm>
            <a:off x="5838840" y="1009800"/>
            <a:ext cx="2265480" cy="344160"/>
          </a:xfrm>
          <a:prstGeom prst="wedgeRoundRectCallout">
            <a:avLst>
              <a:gd name="adj1" fmla="val -25824"/>
              <a:gd name="adj2" fmla="val 245851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lare 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6837480" y="204624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no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5724360" y="202104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9A77-B52C-4152-9D33-400911621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,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52280" y="190512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myCircle = new Circle(5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yourCircle = 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Circle.radius =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1974960" y="1969920"/>
            <a:ext cx="1650960" cy="26676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Object 8"/>
          <p:cNvGraphicFramePr/>
          <p:nvPr/>
        </p:nvGraphicFramePr>
        <p:xfrm>
          <a:off x="5570640" y="2852640"/>
          <a:ext cx="268740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0640" y="2852640"/>
                    <a:ext cx="2687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11"/>
          <p:cNvSpPr/>
          <p:nvPr/>
        </p:nvSpPr>
        <p:spPr>
          <a:xfrm>
            <a:off x="6837480" y="204624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no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724360" y="202104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7"/>
          <p:cNvSpPr/>
          <p:nvPr/>
        </p:nvSpPr>
        <p:spPr>
          <a:xfrm>
            <a:off x="3881520" y="4695840"/>
            <a:ext cx="1689120" cy="422280"/>
          </a:xfrm>
          <a:prstGeom prst="wedgeRoundRectCallout">
            <a:avLst>
              <a:gd name="adj1" fmla="val 77162"/>
              <a:gd name="adj2" fmla="val -407143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65C8-1159-4709-8DAD-B87332BF3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,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152280" y="190512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myCircle = new Circle(5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yourCircle = 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Circle.radius =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1730520" y="1969920"/>
            <a:ext cx="191880" cy="26856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Object 7"/>
          <p:cNvGraphicFramePr/>
          <p:nvPr/>
        </p:nvGraphicFramePr>
        <p:xfrm>
          <a:off x="5570640" y="2852640"/>
          <a:ext cx="268740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0640" y="2852640"/>
                    <a:ext cx="2687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Rectangle 8"/>
          <p:cNvSpPr/>
          <p:nvPr/>
        </p:nvSpPr>
        <p:spPr>
          <a:xfrm>
            <a:off x="6837480" y="204624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referenc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5724360" y="202104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1"/>
          <p:cNvSpPr/>
          <p:nvPr/>
        </p:nvSpPr>
        <p:spPr>
          <a:xfrm flipH="1">
            <a:off x="6990840" y="2238480"/>
            <a:ext cx="652680" cy="80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2"/>
          <p:cNvSpPr/>
          <p:nvPr/>
        </p:nvSpPr>
        <p:spPr>
          <a:xfrm>
            <a:off x="3151080" y="2928960"/>
            <a:ext cx="2497320" cy="730080"/>
          </a:xfrm>
          <a:prstGeom prst="wedgeRoundRectCallout">
            <a:avLst>
              <a:gd name="adj1" fmla="val 113509"/>
              <a:gd name="adj2" fmla="val -77606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object reference to 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29C4-1FD1-4C4E-8610-F61D5B764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,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152280" y="108576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myCircle = new Circle(5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yourCircle = 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Circle.radius =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Object 7"/>
          <p:cNvGraphicFramePr/>
          <p:nvPr/>
        </p:nvGraphicFramePr>
        <p:xfrm>
          <a:off x="5570640" y="2033640"/>
          <a:ext cx="268740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0640" y="2033640"/>
                    <a:ext cx="2687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8"/>
          <p:cNvSpPr/>
          <p:nvPr/>
        </p:nvSpPr>
        <p:spPr>
          <a:xfrm>
            <a:off x="6837480" y="122724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referenc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5724360" y="120168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"/>
          <p:cNvSpPr/>
          <p:nvPr/>
        </p:nvSpPr>
        <p:spPr>
          <a:xfrm flipH="1">
            <a:off x="6990840" y="1419120"/>
            <a:ext cx="652680" cy="80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239760" y="1700280"/>
            <a:ext cx="1720800" cy="2682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837480" y="358308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no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4"/>
          <p:cNvSpPr/>
          <p:nvPr/>
        </p:nvSpPr>
        <p:spPr>
          <a:xfrm>
            <a:off x="5724360" y="3557520"/>
            <a:ext cx="12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r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11"/>
          <p:cNvSpPr/>
          <p:nvPr/>
        </p:nvSpPr>
        <p:spPr>
          <a:xfrm>
            <a:off x="5646600" y="4888080"/>
            <a:ext cx="2843280" cy="500040"/>
          </a:xfrm>
          <a:prstGeom prst="wedgeRoundRectCallout">
            <a:avLst>
              <a:gd name="adj1" fmla="val -5444"/>
              <a:gd name="adj2" fmla="val -261430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e your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9E44-24B7-4741-B0B9-D2BEE105B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,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152280" y="108576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myCircle = new Circle(5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yourCircle = 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Circle.radius =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Object 6"/>
          <p:cNvGraphicFramePr/>
          <p:nvPr/>
        </p:nvGraphicFramePr>
        <p:xfrm>
          <a:off x="5570640" y="2033640"/>
          <a:ext cx="268740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0640" y="2033640"/>
                    <a:ext cx="2687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Rectangle 7"/>
          <p:cNvSpPr/>
          <p:nvPr/>
        </p:nvSpPr>
        <p:spPr>
          <a:xfrm>
            <a:off x="6837480" y="122724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referenc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724360" y="120168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9"/>
          <p:cNvSpPr/>
          <p:nvPr/>
        </p:nvSpPr>
        <p:spPr>
          <a:xfrm flipH="1">
            <a:off x="6990840" y="1419120"/>
            <a:ext cx="652680" cy="80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6837480" y="358308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no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5724360" y="3557520"/>
            <a:ext cx="12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r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2166840" y="1662120"/>
            <a:ext cx="1266840" cy="3078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Object 15"/>
          <p:cNvGraphicFramePr/>
          <p:nvPr/>
        </p:nvGraphicFramePr>
        <p:xfrm>
          <a:off x="5800680" y="4351320"/>
          <a:ext cx="268776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00680" y="4351320"/>
                    <a:ext cx="26877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AutoShape 16"/>
          <p:cNvSpPr/>
          <p:nvPr/>
        </p:nvSpPr>
        <p:spPr>
          <a:xfrm>
            <a:off x="3573360" y="4927680"/>
            <a:ext cx="1805040" cy="652320"/>
          </a:xfrm>
          <a:prstGeom prst="wedgeRoundRectCallout">
            <a:avLst>
              <a:gd name="adj1" fmla="val 89226"/>
              <a:gd name="adj2" fmla="val -87226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new Circle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88D2-FE67-409B-A8F6-9C427523B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,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52280" y="108576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myCircle = new Circle(5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yourCircle = 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Circle.radius =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Object 6"/>
          <p:cNvGraphicFramePr/>
          <p:nvPr/>
        </p:nvGraphicFramePr>
        <p:xfrm>
          <a:off x="5570640" y="2033640"/>
          <a:ext cx="268740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0640" y="2033640"/>
                    <a:ext cx="2687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Rectangle 7"/>
          <p:cNvSpPr/>
          <p:nvPr/>
        </p:nvSpPr>
        <p:spPr>
          <a:xfrm>
            <a:off x="6837480" y="122724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erenc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724360" y="120168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9"/>
          <p:cNvSpPr/>
          <p:nvPr/>
        </p:nvSpPr>
        <p:spPr>
          <a:xfrm flipH="1">
            <a:off x="6990840" y="1419120"/>
            <a:ext cx="652680" cy="80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6837480" y="358308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erenc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5724360" y="3557520"/>
            <a:ext cx="12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r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1960560" y="1700280"/>
            <a:ext cx="230040" cy="2682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Object 13"/>
          <p:cNvGraphicFramePr/>
          <p:nvPr/>
        </p:nvGraphicFramePr>
        <p:xfrm>
          <a:off x="5800680" y="4351320"/>
          <a:ext cx="268776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00680" y="4351320"/>
                    <a:ext cx="26877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AutoShape 15"/>
          <p:cNvSpPr/>
          <p:nvPr/>
        </p:nvSpPr>
        <p:spPr>
          <a:xfrm>
            <a:off x="3343320" y="4119480"/>
            <a:ext cx="2495520" cy="692280"/>
          </a:xfrm>
          <a:prstGeom prst="wedgeRoundRectCallout">
            <a:avLst>
              <a:gd name="adj1" fmla="val 98027"/>
              <a:gd name="adj2" fmla="val -52523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object reference to your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6"/>
          <p:cNvSpPr/>
          <p:nvPr/>
        </p:nvSpPr>
        <p:spPr>
          <a:xfrm flipH="1">
            <a:off x="7106760" y="3813120"/>
            <a:ext cx="652680" cy="80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7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D263-2CE3-4898-8687-C012DF8A8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,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152280" y="108576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myCircle = new Circle(5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yourCircle = 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Circle.radius =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Object 6"/>
          <p:cNvGraphicFramePr/>
          <p:nvPr/>
        </p:nvGraphicFramePr>
        <p:xfrm>
          <a:off x="5570640" y="2046240"/>
          <a:ext cx="268740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0640" y="2046240"/>
                    <a:ext cx="2687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7"/>
          <p:cNvSpPr/>
          <p:nvPr/>
        </p:nvSpPr>
        <p:spPr>
          <a:xfrm>
            <a:off x="6837480" y="122724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enc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5724360" y="120168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9"/>
          <p:cNvSpPr/>
          <p:nvPr/>
        </p:nvSpPr>
        <p:spPr>
          <a:xfrm flipH="1">
            <a:off x="6990840" y="1419120"/>
            <a:ext cx="652680" cy="80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6837480" y="358308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enc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5724360" y="3557520"/>
            <a:ext cx="12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r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193680" y="2238480"/>
            <a:ext cx="4456080" cy="2682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Object 13"/>
          <p:cNvGraphicFramePr/>
          <p:nvPr/>
        </p:nvGraphicFramePr>
        <p:xfrm>
          <a:off x="5800680" y="4351320"/>
          <a:ext cx="268776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00680" y="4351320"/>
                    <a:ext cx="26877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AutoShape 14"/>
          <p:cNvSpPr/>
          <p:nvPr/>
        </p:nvSpPr>
        <p:spPr>
          <a:xfrm>
            <a:off x="3035160" y="4849920"/>
            <a:ext cx="2497320" cy="806400"/>
          </a:xfrm>
          <a:prstGeom prst="wedgeRoundRectCallout">
            <a:avLst>
              <a:gd name="adj1" fmla="val 73268"/>
              <a:gd name="adj2" fmla="val -7874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radius in your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5"/>
          <p:cNvSpPr/>
          <p:nvPr/>
        </p:nvSpPr>
        <p:spPr>
          <a:xfrm flipH="1">
            <a:off x="7106760" y="3813120"/>
            <a:ext cx="652680" cy="80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6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7F99-C71D-4915-BB1D-837AF51B7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t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17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vides a system-independent encapsulation of date and time i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ava.util.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 You can us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to create an instance for the current date and time and use i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to return the date and time as a str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77760" y="2968560"/>
          <a:ext cx="9066240" cy="24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2968560"/>
                    <a:ext cx="9066240" cy="24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46EE-4EB1-404D-AFB7-DBFDE0F27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te Clas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the following cod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9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Date date = new java.util.Da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9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date.toString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a string lik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Sun Mar 09 13:50:19 EST 2003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B910-69A0-4312-A8A4-A7274DAC6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O Programming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304920" y="1303200"/>
            <a:ext cx="8610480" cy="28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OP involves programming using objec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represents an entity in the real world that can be distinctly identifi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For example, a student, a desk, a circle, a button, and even a loan can all be viewed as objec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5F87-0E48-4B6E-B748-851D9C426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17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us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.random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obtain a random double value between 0.0 and 1.0 (excluding 1.0). A more useful random number generator is provided i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ava.util.Ran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8" name="Object 6"/>
          <p:cNvGraphicFramePr/>
          <p:nvPr/>
        </p:nvGraphicFramePr>
        <p:xfrm>
          <a:off x="309600" y="2814480"/>
          <a:ext cx="8564400" cy="33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2814480"/>
                    <a:ext cx="8564400" cy="33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89040" y="2425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specify the seed what is the output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wo random objects have the same seeds, what is the output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wo random objects have the same seeds, but have different ranges (n), what is the output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CC35-9C37-403D-9DBB-8E8FCE8B4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2" descr="Image result for task"/>
          <p:cNvPicPr/>
          <p:nvPr/>
        </p:nvPicPr>
        <p:blipFill>
          <a:blip r:embed="rId1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7"/>
          <p:cNvSpPr/>
          <p:nvPr/>
        </p:nvSpPr>
        <p:spPr>
          <a:xfrm>
            <a:off x="2036880" y="1709640"/>
            <a:ext cx="70689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om1 = new Rando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random1.nextIn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2401-5ED4-40AD-814D-13A05463F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Clas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11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w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have the same seed, they will generate identical sequences of numbers. For example, the following code creates tw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with the same seed 3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152280" y="2392200"/>
            <a:ext cx="706932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random1 = new Random(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From random1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random1.nextInt(1000) + "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random2 = new Random(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\nFrom random2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random2.nextInt(1000) + "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150840" y="5562720"/>
            <a:ext cx="70689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From random1: 734 660 210 581 128 202 549 564 459 9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From random2: 734 660 210 581 128 202 549 564 459 9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047A-07BC-43FC-8AC5-8983ACEC5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O Programming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304920" y="917640"/>
            <a:ext cx="86104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n object h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unique id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nd behavi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stat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f an object consists of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fiel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also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per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with their current valu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behavio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f an object is defined by a set of metho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6F8F-7892-4E9A-B190-0BB491F88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04920" y="42670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bject has both a state and behavior. The state defines the object, and the behavior defines what the object do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6"/>
          <p:cNvGraphicFramePr/>
          <p:nvPr/>
        </p:nvGraphicFramePr>
        <p:xfrm>
          <a:off x="385920" y="1047600"/>
          <a:ext cx="8299440" cy="29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1047600"/>
                    <a:ext cx="8299440" cy="29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B4C5-3A62-4616-A691-784F010F2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04920" y="129528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onstructs that define objects of the same type. A Java class uses variables to define data fields and methods to define behaviors. Additionally, a class provides a special type of methods, known as constructors, which are invoked to construct objects from the cla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7460-0E28-409F-8AAC-F8F4A1E12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6"/>
          <p:cNvGraphicFramePr/>
          <p:nvPr/>
        </p:nvGraphicFramePr>
        <p:xfrm>
          <a:off x="228600" y="838080"/>
          <a:ext cx="8763120" cy="56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76312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48FF-240B-41A4-8987-57C337B09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 Class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240048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11"/>
          <p:cNvGraphicFramePr/>
          <p:nvPr/>
        </p:nvGraphicFramePr>
        <p:xfrm>
          <a:off x="117360" y="1623960"/>
          <a:ext cx="891252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623960"/>
                    <a:ext cx="891252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bshuaib</cp:lastModifiedBy>
  <dcterms:modified xsi:type="dcterms:W3CDTF">2019-11-24T03:09:28Z</dcterms:modified>
  <cp:revision>311</cp:revision>
  <dc:subject/>
  <dc:title>Chapter 6 Objects and Classes</dc:title>
</cp:coreProperties>
</file>