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tif" ContentType="image/tiff"/>
  <Override PartName="/ppt/media/image3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C065-6E8D-42E3-AA13-FB726416DF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BFFD-FFAB-4677-AB77-D2E8ECEC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6185-9FE6-45F4-9B7F-5B8494D9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A32F-6753-494B-BD97-EAB60D0A3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A4BA-4166-4B58-A654-3886F5207B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61A80-7EAF-4D0A-AF93-045A4E11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FCC46-7399-4C9E-97D2-BC5639C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FA91F-F78B-4D0A-BE83-FCAD51F3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31213-6056-44F4-BD82-079F77F6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96D7D-BDC9-4BEC-8076-36E5CCB2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2E391-FB21-4C4B-9405-BA60DEB8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C62B-7E83-4E1F-A374-665D7843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DF582-A92F-44F9-98B9-C58A8D4F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9965D-2FF7-4FCB-8AE6-6C8D029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289B8-8A77-454A-B679-3B77E64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BF0FC-C749-4308-8DA6-E4A6D4B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E01AB-855B-4AB6-B5E2-5B4837582A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2247-C26A-4BA6-97B7-34E176F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D739-E42E-4A2C-9BCE-13BA73E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71EB-BF7E-4415-BCF0-05CBDF30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BD1E-CC57-4E2A-823A-AEAC148F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2D8B-8D31-460C-AF40-2A1C4CC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148A-343E-4F70-BBBD-3B8F2639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D3F1-5288-4BC6-94F8-0CF5E0B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45E-AA36-494C-8134-9B47DDC0E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516-6BF6-473F-AF41-EDBB6FA36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ml/PalindromeIgnoreNonAlphanumeric.bat" TargetMode="External"/><Relationship Id="rId2" Type="http://schemas.openxmlformats.org/officeDocument/2006/relationships/hyperlink" Target="http://www.cs.armstrong.edu/liang/intro10e/html/PalindromeIgnoreNonAlphanumeric.html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B8F-BEFB-4A09-BAF5-68003F82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880" y="2612880"/>
            <a:ext cx="7880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9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tr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B72F-ED0F-403C-9F48-FF2094C34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7"/>
          <p:cNvGraphicFramePr/>
          <p:nvPr/>
        </p:nvGraphicFramePr>
        <p:xfrm>
          <a:off x="160200" y="990720"/>
          <a:ext cx="88236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990720"/>
                    <a:ext cx="88236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8"/>
          <p:cNvSpPr/>
          <p:nvPr/>
        </p:nvSpPr>
        <p:spPr>
          <a:xfrm>
            <a:off x="228600" y="1447920"/>
            <a:ext cx="510552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867280" y="2438280"/>
            <a:ext cx="2895840" cy="9144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4011-EF13-4979-B922-25CFD79C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7"/>
          <p:cNvGraphicFramePr/>
          <p:nvPr/>
        </p:nvGraphicFramePr>
        <p:xfrm>
          <a:off x="160200" y="990720"/>
          <a:ext cx="88236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990720"/>
                    <a:ext cx="88236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8"/>
          <p:cNvSpPr/>
          <p:nvPr/>
        </p:nvSpPr>
        <p:spPr>
          <a:xfrm>
            <a:off x="152280" y="1828800"/>
            <a:ext cx="510552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791320" y="1219320"/>
            <a:ext cx="83808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228-5BF7-4B44-904B-3D1CD908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2819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== s is fals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== s3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048120" y="38098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new object is created if you use the new oper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you use the string initializer, no new object is created if the interned object is already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18"/>
          <p:cNvGraphicFramePr/>
          <p:nvPr/>
        </p:nvGraphicFramePr>
        <p:xfrm>
          <a:off x="152280" y="1066680"/>
          <a:ext cx="876312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7631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154E-272D-46A2-AA55-65692D8A0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92240" y="279360"/>
            <a:ext cx="9794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ring s1=“te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ring s2= new String(s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2==s1                                         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String("test").equals("test”)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String("test") == "test”        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String("test") == new String("test")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test" == "test" 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test" == “Test"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test" == "te" + "st”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2" descr=""/>
          <p:cNvPicPr/>
          <p:nvPr/>
        </p:nvPicPr>
        <p:blipFill>
          <a:blip r:embed="rId1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EEE3-E435-4714-8229-399538B1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ing and Splitting Str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1735200" y="1893960"/>
          <a:ext cx="5749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1893960"/>
                    <a:ext cx="5749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162000" y="3581280"/>
          <a:ext cx="8756640" cy="29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00" y="3581280"/>
                    <a:ext cx="875664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9032-CDB2-48A3-8876-97A868C5C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First("e", "AB") returns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("e", "AB") returns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lcom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("el", "AB") returns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All(”e", "AB") return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7183440" y="914400"/>
            <a:ext cx="165096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28600" y="2981160"/>
            <a:ext cx="21193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8600" y="3840120"/>
            <a:ext cx="19620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0FC-66A2-4C30-917F-19046D093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ting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tokens = "Java#HTML#Perl".split("#"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tokens.length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(tokens[i] + 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28600" y="3581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TML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28600" y="28195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0" y="3429000"/>
            <a:ext cx="345744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80880" y="3733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TML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C75E-7D6B-45EA-B850-971BE0E26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, Replacing and Splitting by Patte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14200" y="17395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ch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, 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li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tring by specifying a pattern. This is an extremely useful and powerful feature, commonly know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egular express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Regular expression is complex to beginning studen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BA9A-B2ED-464B-B394-BEE797809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2714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ular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bbrevi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string that describes a pattern for matching a set of strings. Regular expression is a powerful tool for string manipulations. You can use regular expressions for matching, replacing, and splitting str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2516-E582-4215-B44D-A1FC2F35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1002960"/>
            <a:ext cx="2916360" cy="197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r Expression 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1"/>
          <a:stretch/>
        </p:blipFill>
        <p:spPr>
          <a:xfrm>
            <a:off x="3475080" y="0"/>
            <a:ext cx="52610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E5F-68FE-41BC-B7B8-B628E644F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1108080"/>
            <a:ext cx="8874000" cy="57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tructing a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taining String length and Retrieving Individual Charact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atenation - Substrings - Comparis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 Conver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ing a Character or a Substring in a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sions between Strings and Arr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ing Characters and Numeric Values to Str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o process immutable strings (§9.1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 to process mutable strings (§9.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5D5-5F1D-4829-99E3-F35ECE2A2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ching Str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9640" y="2647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".matches("Java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".equals("Java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0000" y="4133880"/>
            <a:ext cx="6933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 is fun".matches("Java.*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 is cool".matches("Java.*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 is powerful".matches("Java.*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152280" y="1122480"/>
          <a:ext cx="8928360" cy="31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2480"/>
                    <a:ext cx="892836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7DED-2C3D-41B3-9EA0-635C97E02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ing and Splitting Str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Object 8"/>
          <p:cNvGraphicFramePr/>
          <p:nvPr/>
        </p:nvGraphicFramePr>
        <p:xfrm>
          <a:off x="-6480" y="1292400"/>
          <a:ext cx="892836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1292400"/>
                    <a:ext cx="89283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10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8"/>
          <p:cNvGraphicFramePr/>
          <p:nvPr/>
        </p:nvGraphicFramePr>
        <p:xfrm>
          <a:off x="260280" y="3149640"/>
          <a:ext cx="892800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280" y="3149640"/>
                    <a:ext cx="89280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A71-2A9E-420A-A16A-00186A72B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"Java Java Java".replaceAll("v\\w", "wi"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80880" y="1981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"Java Java Java".replaceFirst("v\\w", "wi"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04920" y="3124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[] s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"Java1HTML2Perl".split("\\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AAA2-CE0D-4FD6-A3BE-3175CAF93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, Replacing and Splitting by Patte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eplaceAll, replaceFirst, and split methods can be used with a regular expression. For example, the following statement returns a new string that replaces $, +, or # in "a+b$#c" by the string NN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93720" y="3121200"/>
            <a:ext cx="8686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ring s = "a+b$#c".replaceAll("[$+#]", "NNN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ystem.out.println(s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Here the regular expression [$+#] specifies a pattern that matches $, +, or #. So, the output is aNNNbNNNNNNc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2DC-F8AF-45CC-9041-1496B080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, Replacing and Splitting by Patte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llowing statement splits the string into an array of strings delimited by some punctuation mar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ring[] tokens = "Java,C?C#,C++".split("[.,:;?]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for (int i = 0; i &lt; tokens.length; i++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ystem.out.println(tokens[i]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689040" y="10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output each of the followi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31520" y="1931760"/>
            <a:ext cx="7373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s".matches("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k".matches(".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st".matches("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mms".matches("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as".matches(".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1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4443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323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1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4443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ak123".matches("\\D*\\d*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E98-96D7-41B4-864C-E45511E4853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"/>
          <p:cNvPicPr/>
          <p:nvPr/>
        </p:nvPicPr>
        <p:blipFill>
          <a:blip r:embed="rId1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D08A-2A6E-4218-B66D-DE5E076C7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 Character and Numbers to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ng class provides several static valueOf methods for converting a character, an array of characters, and numeric values to str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methods have the same n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ifferent argument types char, char[], double, long, int, and flo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.valueOf(5.44).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‘5’, ‘.’, ‘4’, and ‘4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8EFB-265C-44D3-9CCF-6CB0BB282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is an alternative to 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 In general, a StringBuilder/StringBuffer can be used wherever a string is used. StringBuilder/StringBuffer is more flexible than String. You can add, insert, or append new contents into a string buffer, whereas the value of a String object is fixed once the string is crea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3632-A49A-4EFF-AD94-555AEF336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5228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380880" y="3352680"/>
          <a:ext cx="87631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87631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3"/>
          <p:cNvSpPr/>
          <p:nvPr/>
        </p:nvSpPr>
        <p:spPr>
          <a:xfrm>
            <a:off x="838080" y="1747800"/>
            <a:ext cx="777240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x= new StringBuilder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x= new StringBuilder 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x= new StringBuilder (“CPCS203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868-FEB2-4B2B-B86A-3C72E8D3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Strings in the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12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5"/>
          <p:cNvGraphicFramePr/>
          <p:nvPr/>
        </p:nvGraphicFramePr>
        <p:xfrm>
          <a:off x="0" y="1495440"/>
          <a:ext cx="927720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5440"/>
                    <a:ext cx="92772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1"/>
          <p:cNvSpPr/>
          <p:nvPr/>
        </p:nvSpPr>
        <p:spPr>
          <a:xfrm>
            <a:off x="222120" y="4273560"/>
            <a:ext cx="73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append("abdulaziz",2,7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2559960" y="55688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a linjawidul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86E-E8E8-4840-AB9B-F9AF31FF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3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tructing a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message = "Welcome to Java“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essage = new String("Welcome to Java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new 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C30-B685-41B6-9F0D-8FF2E1E7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Strings in the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Object 5"/>
          <p:cNvGraphicFramePr/>
          <p:nvPr/>
        </p:nvGraphicFramePr>
        <p:xfrm>
          <a:off x="-9360" y="1728720"/>
          <a:ext cx="91310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728720"/>
                    <a:ext cx="91310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Rectangle 5"/>
          <p:cNvSpPr/>
          <p:nvPr/>
        </p:nvSpPr>
        <p:spPr>
          <a:xfrm>
            <a:off x="2559960" y="55688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a dulazlinja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01480" y="4351320"/>
            <a:ext cx="73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insert(5,"abdulaziz",2,7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3895-429B-4FB5-83E3-A4EF51A51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Strings in the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1593720" y="1158840"/>
          <a:ext cx="57484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158840"/>
                    <a:ext cx="57484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808200" y="2637000"/>
          <a:ext cx="8256600" cy="18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200" y="2637000"/>
                    <a:ext cx="825660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"/>
          <p:cNvSpPr/>
          <p:nvPr/>
        </p:nvSpPr>
        <p:spPr>
          <a:xfrm>
            <a:off x="453960" y="48402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etCharAt(3,'y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4845960" y="55785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y linja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42B9-0B94-48B1-A1E1-ED9A75CE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append("Java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insert(11, "HTML and 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delete(8, 11) changes the builder to Welcome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deleteCharAt(8) changes the builder to Welcome o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reverse() changes the builder to avaJ ot emocl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replace(11, 15, "HTML"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he builder to Welcome to HT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setCharAt(0, 'w') sets the builder to welcome to Ja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3C9-7C86-4938-BDBC-87CAB8006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pac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ng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tLeng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r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Object 5"/>
          <p:cNvGraphicFramePr/>
          <p:nvPr/>
        </p:nvGraphicFramePr>
        <p:xfrm>
          <a:off x="311040" y="2133720"/>
          <a:ext cx="867276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2133720"/>
                    <a:ext cx="867276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00B1-E4F5-4B92-89C3-3AD3BD93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433440"/>
            <a:ext cx="87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abdulaziz al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capacit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length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etLength(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y= new StringBuilder ("arwa al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y.length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y.capacit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.trimToSiz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y.capacit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5916600" y="3736800"/>
            <a:ext cx="17668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a 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689040" y="10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output of the followi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31520" y="1931760"/>
            <a:ext cx="7373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ilder sb =new StringBuild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append("Welcom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append(" to Java")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insert(11, "HTML and "))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delete(8, 1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deleteCharAt(8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revers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replace(11, 15, "HTML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b.setCharAt(0, 'w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3353-2420-4226-8A85-5F9C7CF2765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2" descr=""/>
          <p:cNvPicPr/>
          <p:nvPr/>
        </p:nvPicPr>
        <p:blipFill>
          <a:blip r:embed="rId1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138-E3DA-4883-BDBC-79E45861E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ing Palindromes Ignoring Non-alphanumeric Characte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gives a program that counts the number of occurrence of each letter in a string. Assume the letters are not case-sensitiv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1371600" y="5029200"/>
            <a:ext cx="5562720" cy="533520"/>
          </a:xfrm>
          <a:custGeom>
            <a:avLst/>
            <a:gdLst>
              <a:gd name="textAreaLeft" fmla="*/ 34560 w 5562720"/>
              <a:gd name="textAreaRight" fmla="*/ 5528160 w 5562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25074" h="21600">
                <a:moveTo>
                  <a:pt x="0" y="0"/>
                </a:moveTo>
                <a:lnTo>
                  <a:pt x="225074" y="0"/>
                </a:lnTo>
                <a:lnTo>
                  <a:pt x="225074" y="21600"/>
                </a:lnTo>
                <a:lnTo>
                  <a:pt x="0" y="21600"/>
                </a:lnTo>
                <a:close/>
              </a:path>
              <a:path fill="lightenLess" w="225074" h="21600">
                <a:moveTo>
                  <a:pt x="0" y="0"/>
                </a:moveTo>
                <a:lnTo>
                  <a:pt x="225074" y="0"/>
                </a:lnTo>
                <a:lnTo>
                  <a:pt x="223674" y="1400"/>
                </a:lnTo>
                <a:lnTo>
                  <a:pt x="1400" y="1400"/>
                </a:lnTo>
                <a:close/>
              </a:path>
              <a:path fill="darken" w="225074" h="21600">
                <a:moveTo>
                  <a:pt x="225074" y="0"/>
                </a:moveTo>
                <a:lnTo>
                  <a:pt x="225074" y="21600"/>
                </a:lnTo>
                <a:lnTo>
                  <a:pt x="223674" y="20200"/>
                </a:lnTo>
                <a:lnTo>
                  <a:pt x="223674" y="1400"/>
                </a:lnTo>
                <a:close/>
              </a:path>
              <a:path fill="darkenLess" w="225074" h="21600">
                <a:moveTo>
                  <a:pt x="225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74" y="20200"/>
                </a:lnTo>
                <a:close/>
              </a:path>
              <a:path fill="lighten" w="225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  <a:ea typeface="Times New Roman"/>
              </a:rPr>
              <a:t>PalindromeIgnoreNonAlphanumeric</a:t>
            </a: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>
            <a:hlinkClick r:id="rId1"/>
          </p:cNvPr>
          <p:cNvSpPr/>
          <p:nvPr/>
        </p:nvSpPr>
        <p:spPr>
          <a:xfrm>
            <a:off x="7238880" y="49528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6">
            <a:hlinkClick r:id="rId2"/>
          </p:cNvPr>
          <p:cNvSpPr/>
          <p:nvPr/>
        </p:nvSpPr>
        <p:spPr>
          <a:xfrm>
            <a:off x="762120" y="50292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DFE-6653-46E6-B6FA-73FF823BB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49200" y="197640"/>
            <a:ext cx="8794800" cy="350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java.util.Scanner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PalindromeIgnoreNonAlphanumer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Main method */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Scanne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Prompt the user to enter a string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Enter a string: "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 s = input.nextLi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Display resul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Ignoring non-alphanumeric characters, \nis "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+ s + 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 a palindrom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+ isPalindrome(s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************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346040" y="3774960"/>
            <a:ext cx="597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Return true if a string is a palindrome */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isPalindrome(String 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new string by eliminating non-alphanumeric char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 s1 = filter(s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new string that is the reversal of s1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 s2 = reverse(s1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ompare if the reversal is the same as the original string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2.equals(s1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977-8485-4040-B7AC-841B39DA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1230480" y="3553920"/>
            <a:ext cx="8794440" cy="201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Create a new string by reversing a specified string */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 reverse(String 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Builder stringBuilder =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(s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Builder.revers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Invoke reverse in StringBuilde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.toString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230480" y="787320"/>
            <a:ext cx="7227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Create a new string by eliminating non-alphanumeric char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 filter(String 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string builde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Builder stringBuilder =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Examine each char in the string to skip alphanumeric 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4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; i &lt; s.length(); i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(Character.isLetterOrDigit(s.charAt(i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{ stringBuilder.append(s.charAt(i)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Return a new filtered string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.toString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//*******************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EE0-EBCA-4A1A-A24C-69A6DC1C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newString = new String(stringLitera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essage = new String("Welcome to Java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ince strings are used frequently, Java provides a shorthand initializer for creating a st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essage = "Welcome to Java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814-EEC8-4E8A-B992-0BA1EDF6F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 Are Immu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String object is immutable; its contents cannot be changed. Does the following code change the contents of the str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"Java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"HTML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820-1F18-453C-A68C-14F0FEE5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"Java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"HTML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11"/>
          <p:cNvGraphicFramePr/>
          <p:nvPr/>
        </p:nvGraphicFramePr>
        <p:xfrm>
          <a:off x="152280" y="3505320"/>
          <a:ext cx="883944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88394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2"/>
          <p:cNvSpPr/>
          <p:nvPr/>
        </p:nvSpPr>
        <p:spPr>
          <a:xfrm>
            <a:off x="1066680" y="1447920"/>
            <a:ext cx="3124440" cy="457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52280" y="3352680"/>
            <a:ext cx="39625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91F4-2602-40E0-B02B-54903A9B8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"Java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"HTML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152280" y="3505320"/>
          <a:ext cx="883944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88394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12"/>
          <p:cNvSpPr/>
          <p:nvPr/>
        </p:nvSpPr>
        <p:spPr>
          <a:xfrm>
            <a:off x="1371600" y="2209680"/>
            <a:ext cx="3124080" cy="3812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114800" y="3429000"/>
            <a:ext cx="4876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87F7-C6A5-4FE6-BCD6-8FDFD78F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d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strings are immutable and are frequently used, to improve efficiency and save memory, the JVM uses a unique instance for string literals with the same character sequence. Such an instance is calle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ter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example, the following state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9E7F-1607-4C70-B4DC-2909854FA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9"/>
          <p:cNvGraphicFramePr/>
          <p:nvPr/>
        </p:nvGraphicFramePr>
        <p:xfrm>
          <a:off x="152280" y="1295280"/>
          <a:ext cx="88236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236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1"/>
          <p:cNvSpPr/>
          <p:nvPr/>
        </p:nvSpPr>
        <p:spPr>
          <a:xfrm>
            <a:off x="228600" y="1371600"/>
            <a:ext cx="510552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5791320" y="1295280"/>
            <a:ext cx="3047760" cy="11430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0T08:35:59Z</dcterms:modified>
  <cp:revision>294</cp:revision>
  <dc:subject/>
  <dc:title>Chapter 6 Objects and Classes</dc:title>
</cp:coreProperties>
</file>