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589C-52FE-42EA-89D1-E70D7AA90C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523-19EF-4463-89C8-B9E44AFAA617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E84-849B-499D-A731-D89A398AAF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ro to OOP with Java, C. Thomas W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©The McGraw-Hill Compan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5CC9-6E6A-4968-9FEC-C35157E542B0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ro to OOP with Java, C. Thomas W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©The McGraw-Hill Compan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9EB-D033-4567-85FF-15B98C48D12F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ro to OOP with Java, C. Thomas W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©The McGraw-Hill Compan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3E9-AE30-4116-A43C-859172E6F6E2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B4C3-7426-49AB-9799-7BB4EF88D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9109-2F60-4D8A-9F3D-57A5569B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F0FD-95B8-41B0-9291-31C9460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B16F-CDD8-49D4-B9A7-A4D24DCA4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55CF-D874-4BA3-8206-2A6B4342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2D44C-0E98-403C-B3BD-B7CA8B6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05378-8224-40DC-839C-CD0BED83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358C7-7FB5-428F-BC95-1A057D0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4742-FC73-44F8-AFEF-261729FA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B4312-4ADA-425A-8216-15CE00BE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A7677-8A0D-46E4-9E69-C19A0F6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C5C9-1143-4954-ABBA-FA38872F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6BE53-8FAD-47E4-A13F-9E1C741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ACAE8-7002-4398-ADAA-A49717A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96E7-85AA-41FF-BC6F-9DAA6EE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AEE3-B715-401B-AC3F-6AD66EA3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54900-5F58-4DB6-8CFF-F84771A1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4A4A-8A25-4473-B3C4-C0FC02AB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B939-8F9C-4B31-94A3-1EBE5BA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6DF0-DF69-4A25-BEF2-BEAF3069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CFD0-DDBB-41A2-AB8F-BD0C8EF6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CDD7-50CD-4C8C-9BC3-C198293B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0DFA-92C9-4E9D-9A40-D0D274C9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AD8D-BA87-48A2-BB2A-A4ABE5D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C416-0718-4464-9C13-148C03259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7145-1A0D-4637-97CD-7DF8BBDC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ml/TestCircleRectangle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hyperlink" Target="http://www.cs.armstrong.edu/liang/intro10e/html/RectangleFromSimpleGeometricObject.html" TargetMode="External"/><Relationship Id="rId5" Type="http://schemas.openxmlformats.org/officeDocument/2006/relationships/hyperlink" Target="http://www.cs.armstrong.edu/liang/intro10e/html/CircleFromSimpleGeometricObject.html" TargetMode="External"/><Relationship Id="rId6" Type="http://schemas.openxmlformats.org/officeDocument/2006/relationships/hyperlink" Target="http://www.cs.armstrong.edu/liang/intro10e/html/SimpleGeometricObject.html" TargetMode="External"/><Relationship Id="rId7" Type="http://schemas.openxmlformats.org/officeDocument/2006/relationships/hyperlink" Target="http://www.cs.armstrong.edu/liang/intro10e/html/TestCircleRectangle.html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075E-4A61-449E-90FA-E293AE5C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Inheritance and Polymorphism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Inherita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6117-807F-4006-9C50-8E6BBF915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76320" y="155160"/>
            <a:ext cx="8991360" cy="666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color =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white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 dateCreate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Construct a default object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ateCreated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();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Construct an object with the specified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( String color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ateCreated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();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color = color;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filled =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Get and Set color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getColor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olor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Color(String color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color = color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Get and Set filled. Since filled is boolean, the get is named isFilled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sFilled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Filled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filled =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Get dateCreated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 getDateCreated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dateCreat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Return a string representation of this object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toStrin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reated on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dateCreated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\ncolor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color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and filled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13"/>
          <p:cNvGraphicFramePr/>
          <p:nvPr/>
        </p:nvGraphicFramePr>
        <p:xfrm>
          <a:off x="6400800" y="-84240"/>
          <a:ext cx="26812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-84240"/>
                    <a:ext cx="26812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4CD-C8D9-49CE-B75E-588F77C8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6960" y="2133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’s Constru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6553080" y="6934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258A-8C52-4365-ABAE-714B12DB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28520" y="1683000"/>
            <a:ext cx="5435640" cy="52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t() {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, String color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tColor(color);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tFilled(fille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ubClass and its Constru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1852560" y="1498680"/>
            <a:ext cx="7265880" cy="703800"/>
            <a:chOff x="1852560" y="1498680"/>
            <a:chExt cx="7265880" cy="703800"/>
          </a:xfrm>
        </p:grpSpPr>
        <p:sp>
          <p:nvSpPr>
            <p:cNvPr id="231" name="Oval 10"/>
            <p:cNvSpPr/>
            <p:nvPr/>
          </p:nvSpPr>
          <p:spPr>
            <a:xfrm>
              <a:off x="1852560" y="1653840"/>
              <a:ext cx="990360" cy="42912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4343040" y="1498680"/>
              <a:ext cx="47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 Java, we use the reserved word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</a:rPr>
                <a:t>extend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establish an inheritance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Straight Arrow Connector 2"/>
            <p:cNvCxnSpPr/>
            <p:nvPr/>
          </p:nvCxnSpPr>
          <p:spPr>
            <a:xfrm>
              <a:off x="2770560" y="1981080"/>
              <a:ext cx="149688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34" name="Group 6"/>
          <p:cNvGrpSpPr/>
          <p:nvPr/>
        </p:nvGrpSpPr>
        <p:grpSpPr>
          <a:xfrm>
            <a:off x="1523880" y="2162160"/>
            <a:ext cx="7318440" cy="518040"/>
            <a:chOff x="1523880" y="2162160"/>
            <a:chExt cx="7318440" cy="518040"/>
          </a:xfrm>
        </p:grpSpPr>
        <p:sp>
          <p:nvSpPr>
            <p:cNvPr id="235" name="Oval 10"/>
            <p:cNvSpPr/>
            <p:nvPr/>
          </p:nvSpPr>
          <p:spPr>
            <a:xfrm>
              <a:off x="1523880" y="2162160"/>
              <a:ext cx="990720" cy="42840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Straight Arrow Connector 2"/>
            <p:cNvCxnSpPr/>
            <p:nvPr/>
          </p:nvCxnSpPr>
          <p:spPr>
            <a:xfrm>
              <a:off x="2441880" y="2488680"/>
              <a:ext cx="149688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7" name="Rectangle 15"/>
            <p:cNvSpPr/>
            <p:nvPr/>
          </p:nvSpPr>
          <p:spPr>
            <a:xfrm>
              <a:off x="4066200" y="2281320"/>
              <a:ext cx="477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pecific 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1074600" y="2971440"/>
            <a:ext cx="7963200" cy="3770640"/>
            <a:chOff x="1074600" y="2971440"/>
            <a:chExt cx="7963200" cy="3770640"/>
          </a:xfrm>
        </p:grpSpPr>
        <p:cxnSp>
          <p:nvCxnSpPr>
            <p:cNvPr id="239" name="Straight Arrow Connector 12"/>
            <p:cNvCxnSpPr/>
            <p:nvPr/>
          </p:nvCxnSpPr>
          <p:spPr>
            <a:xfrm>
              <a:off x="1074600" y="2971440"/>
              <a:ext cx="3224880" cy="6102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0" name="Text Box 3"/>
            <p:cNvSpPr/>
            <p:nvPr/>
          </p:nvSpPr>
          <p:spPr>
            <a:xfrm>
              <a:off x="4385520" y="3096720"/>
              <a:ext cx="4137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parent constructors are not inherit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y are invoked explicitly or implicitl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licitly using the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up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keywor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1" name="Straight Arrow Connector 12"/>
            <p:cNvCxnSpPr/>
            <p:nvPr/>
          </p:nvCxnSpPr>
          <p:spPr>
            <a:xfrm>
              <a:off x="2285640" y="3857400"/>
              <a:ext cx="205776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2" name="Straight Arrow Connector 12"/>
            <p:cNvCxnSpPr/>
            <p:nvPr/>
          </p:nvCxnSpPr>
          <p:spPr>
            <a:xfrm flipV="1">
              <a:off x="1669680" y="4190760"/>
              <a:ext cx="2750400" cy="53424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  <p:cxnSp>
          <p:nvCxnSpPr>
            <p:cNvPr id="243" name="Straight Arrow Connector 12"/>
            <p:cNvCxnSpPr/>
            <p:nvPr/>
          </p:nvCxnSpPr>
          <p:spPr>
            <a:xfrm flipH="1">
              <a:off x="7923960" y="4191120"/>
              <a:ext cx="1080" cy="68904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244" name="Picture 7" descr=""/>
            <p:cNvPicPr/>
            <p:nvPr/>
          </p:nvPicPr>
          <p:blipFill>
            <a:blip r:embed="rId1"/>
            <a:stretch/>
          </p:blipFill>
          <p:spPr>
            <a:xfrm>
              <a:off x="5867640" y="4952880"/>
              <a:ext cx="3170160" cy="17892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per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is used to construct an instance of a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properties and methods, a superclass's constructors are not inherited in the sub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il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 is responsible for calling the paren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only be invoked from the subclasses' constructors, using the keywor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chil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 should use the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MS PGothic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reference to call the paren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666520" y="1360440"/>
            <a:ext cx="4343400" cy="26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() { }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B33-3783-4CDF-BED1-548138BC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371520" y="2603520"/>
            <a:ext cx="8467560" cy="4025160"/>
            <a:chOff x="371520" y="2603520"/>
            <a:chExt cx="8467560" cy="4025160"/>
          </a:xfrm>
        </p:grpSpPr>
        <p:sp>
          <p:nvSpPr>
            <p:cNvPr id="252" name="TextBox 6"/>
            <p:cNvSpPr/>
            <p:nvPr/>
          </p:nvSpPr>
          <p:spPr>
            <a:xfrm>
              <a:off x="7496280" y="260352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371520" y="4827600"/>
              <a:ext cx="765792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// </a:t>
              </a:r>
              <a:r>
                <a:rPr b="1" i="1" lang="en-US" sz="2000" spc="-1" strike="noStrike">
                  <a:solidFill>
                    <a:srgbClr val="00b050"/>
                  </a:solidFill>
                  <a:latin typeface="Trebuchet MS"/>
                </a:rPr>
                <a:t>invisible</a:t>
              </a: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 call to superclass 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he keyword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super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not explicitly used, the superclass's no-arg constructor is automatically invo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4" name="Object 8"/>
            <p:cNvGraphicFramePr/>
            <p:nvPr/>
          </p:nvGraphicFramePr>
          <p:xfrm>
            <a:off x="399960" y="4175280"/>
            <a:ext cx="8439120" cy="100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9960" y="4175280"/>
                      <a:ext cx="8439120" cy="10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66520" y="1360440"/>
            <a:ext cx="4343400" cy="26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(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adius) {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radius = radius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7192-1ECA-4F21-AF5E-21B90539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"/>
          <p:cNvGrpSpPr/>
          <p:nvPr/>
        </p:nvGrpSpPr>
        <p:grpSpPr>
          <a:xfrm>
            <a:off x="-136440" y="2438280"/>
            <a:ext cx="9737640" cy="3891960"/>
            <a:chOff x="-136440" y="2438280"/>
            <a:chExt cx="9737640" cy="3891960"/>
          </a:xfrm>
        </p:grpSpPr>
        <p:sp>
          <p:nvSpPr>
            <p:cNvPr id="261" name="TextBox 6"/>
            <p:cNvSpPr/>
            <p:nvPr/>
          </p:nvSpPr>
          <p:spPr>
            <a:xfrm>
              <a:off x="7467840" y="243828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321520"/>
              <a:ext cx="765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// </a:t>
              </a:r>
              <a:r>
                <a:rPr b="1" i="1" lang="en-US" sz="2000" spc="-1" strike="noStrike">
                  <a:solidFill>
                    <a:srgbClr val="00b050"/>
                  </a:solidFill>
                  <a:latin typeface="Trebuchet MS"/>
                </a:rPr>
                <a:t>invisible</a:t>
              </a: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 call to superclass 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Object 6"/>
            <p:cNvGraphicFramePr/>
            <p:nvPr/>
          </p:nvGraphicFramePr>
          <p:xfrm>
            <a:off x="-136440" y="4224240"/>
            <a:ext cx="9737640" cy="1476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136440" y="4224240"/>
                      <a:ext cx="9737640" cy="14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Content Placeholder 2"/>
          <p:cNvSpPr/>
          <p:nvPr/>
        </p:nvSpPr>
        <p:spPr>
          <a:xfrm>
            <a:off x="2743200" y="1676520"/>
            <a:ext cx="43434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t() {  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"/>
          <p:cNvGrpSpPr/>
          <p:nvPr/>
        </p:nvGrpSpPr>
        <p:grpSpPr>
          <a:xfrm>
            <a:off x="914400" y="2671920"/>
            <a:ext cx="7078680" cy="2917080"/>
            <a:chOff x="914400" y="2671920"/>
            <a:chExt cx="7078680" cy="2917080"/>
          </a:xfrm>
        </p:grpSpPr>
        <p:sp>
          <p:nvSpPr>
            <p:cNvPr id="269" name="TextBox 8"/>
            <p:cNvSpPr/>
            <p:nvPr/>
          </p:nvSpPr>
          <p:spPr>
            <a:xfrm>
              <a:off x="7459920" y="267192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914400" y="4397760"/>
              <a:ext cx="66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no such call exists , Java will automatically make a call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uper(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t the beginning of the constructor, </a:t>
              </a:r>
              <a:r>
                <a:rPr b="0" lang="en-US" sz="2400" spc="-1" strike="noStrike">
                  <a:solidFill>
                    <a:srgbClr val="de2c28"/>
                  </a:solidFill>
                  <a:latin typeface="Times New Roman"/>
                </a:rPr>
                <a:t>if there exist an empty construct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2743200" y="1676520"/>
            <a:ext cx="43434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t() {  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838080" y="2666880"/>
            <a:ext cx="7094520" cy="2912040"/>
            <a:chOff x="838080" y="2666880"/>
            <a:chExt cx="7094520" cy="2912040"/>
          </a:xfrm>
        </p:grpSpPr>
        <p:sp>
          <p:nvSpPr>
            <p:cNvPr id="275" name="TextBox 8"/>
            <p:cNvSpPr/>
            <p:nvPr/>
          </p:nvSpPr>
          <p:spPr>
            <a:xfrm>
              <a:off x="7399440" y="266688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838080" y="4387680"/>
              <a:ext cx="66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no such call exists , Java will automatically make a call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efault sup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) at the beginning of the constructor, </a:t>
              </a:r>
              <a:r>
                <a:rPr b="0" lang="en-US" sz="2400" spc="-1" strike="noStrike">
                  <a:solidFill>
                    <a:srgbClr val="de2c28"/>
                  </a:solidFill>
                  <a:latin typeface="Times New Roman"/>
                </a:rPr>
                <a:t>as no constructors in the parent cla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2506680" y="1711440"/>
            <a:ext cx="4343400" cy="25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t() { super (“Red”,true)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"/>
          <p:cNvGrpSpPr/>
          <p:nvPr/>
        </p:nvGrpSpPr>
        <p:grpSpPr>
          <a:xfrm>
            <a:off x="1066680" y="2743200"/>
            <a:ext cx="6629400" cy="3161160"/>
            <a:chOff x="1066680" y="2743200"/>
            <a:chExt cx="6629400" cy="3161160"/>
          </a:xfrm>
        </p:grpSpPr>
        <p:sp>
          <p:nvSpPr>
            <p:cNvPr id="281" name="TextBox 10"/>
            <p:cNvSpPr/>
            <p:nvPr/>
          </p:nvSpPr>
          <p:spPr>
            <a:xfrm>
              <a:off x="7162920" y="274320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"/>
            <p:cNvSpPr/>
            <p:nvPr/>
          </p:nvSpPr>
          <p:spPr>
            <a:xfrm>
              <a:off x="1066680" y="4713120"/>
              <a:ext cx="601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irst li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 a child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s constructor should use the </a:t>
              </a:r>
              <a:r>
                <a:rPr b="0" lang="en-US" sz="24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sup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reference to call the paren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s constr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274B-FD7B-42BD-AECF-04B2F7A0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2438280" y="1905120"/>
            <a:ext cx="4343400" cy="24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1"/>
          <p:cNvGrpSpPr/>
          <p:nvPr/>
        </p:nvGrpSpPr>
        <p:grpSpPr>
          <a:xfrm>
            <a:off x="914400" y="2743200"/>
            <a:ext cx="6781680" cy="3193200"/>
            <a:chOff x="914400" y="2743200"/>
            <a:chExt cx="6781680" cy="3193200"/>
          </a:xfrm>
        </p:grpSpPr>
        <p:sp>
          <p:nvSpPr>
            <p:cNvPr id="288" name="Rectangle 13"/>
            <p:cNvSpPr/>
            <p:nvPr/>
          </p:nvSpPr>
          <p:spPr>
            <a:xfrm>
              <a:off x="914400" y="47451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no such call exists , Java will automatically make a call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up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) at the beginning of the constructor, </a:t>
              </a:r>
              <a:r>
                <a:rPr b="0" lang="en-US" sz="2400" spc="-1" strike="noStrike">
                  <a:solidFill>
                    <a:srgbClr val="de2c28"/>
                  </a:solidFill>
                  <a:latin typeface="Times New Roman"/>
                </a:rPr>
                <a:t>if there exist an empty construct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Box 7"/>
            <p:cNvSpPr/>
            <p:nvPr/>
          </p:nvSpPr>
          <p:spPr>
            <a:xfrm>
              <a:off x="7162920" y="274320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80B8-A424-4DCA-BE5B-1A8C91DF5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fine a subclass from a superclass throug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§11.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voke the superclass’s constructors and methods us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 (§11.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ance methods in the subclass (§11.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istinguish differences betwe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ing and overloa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§11.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able data and methods in a superclass accessible from subclasses us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ed visibil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r (§11.1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event class extending and method overriding us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ifier (§11.1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xplore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String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(§11.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9C3A-6CB8-4EB0-9788-74486D6C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04960" y="53352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n the Impact of a Superclass without no-arg Constr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04920" y="3052800"/>
            <a:ext cx="861048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Apple extends Frui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Frui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ruit(String nam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Fruit's constructor is invoked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80880" y="2214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 out the errors in the program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713B-BD7D-4C51-ABCF-22357264A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33520" y="1419120"/>
            <a:ext cx="82296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22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use the keywor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all the superclass construct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ing a superclass constructor’s name in a subclass causes a syntax err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requires that the statement that uses the keywor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ear first in the constru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082-8396-48CA-BF5D-30BE62D7A3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call to another constructor must b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 first thing you 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</a:t>
            </a:r>
            <a:r>
              <a:rPr b="0" lang="en-US" sz="2400" spc="-1" strike="noStrike">
                <a:solidFill>
                  <a:srgbClr val="969696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this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l another constructor in the sam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Foo extends Bar {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o(String message) {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(message, 0, 0);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your </a:t>
            </a:r>
            <a:r>
              <a:rPr b="1" i="1" lang="en-US" sz="1800" spc="-1" strike="noStrike">
                <a:solidFill>
                  <a:srgbClr val="00b050"/>
                </a:solidFill>
                <a:latin typeface="Trebuchet MS"/>
              </a:rPr>
              <a:t>explicit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 call to another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  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</a:t>
            </a:r>
            <a:r>
              <a:rPr b="0" lang="en-US" sz="2400" spc="-1" strike="noStrike">
                <a:solidFill>
                  <a:srgbClr val="969696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super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l a specif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Foo extends Bar {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o(String name) {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uper(name, 5);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your </a:t>
            </a:r>
            <a:r>
              <a:rPr b="1" i="1" lang="en-US" sz="1800" spc="-1" strike="noStrike">
                <a:solidFill>
                  <a:srgbClr val="00b050"/>
                </a:solidFill>
                <a:latin typeface="Trebuchet MS"/>
              </a:rPr>
              <a:t>explicit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 call to some superclass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  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875E-250D-42D7-A4C8-9DD5005DC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228960" y="533520"/>
            <a:ext cx="9829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or Ch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19040" y="12193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 an instance of a class invokes all the superclasses’ constructors along the inheritance chain. This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ch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3352680" y="2515680"/>
            <a:ext cx="1752480" cy="1753560"/>
            <a:chOff x="3352680" y="2515680"/>
            <a:chExt cx="1752480" cy="1753560"/>
          </a:xfrm>
        </p:grpSpPr>
        <p:sp>
          <p:nvSpPr>
            <p:cNvPr id="305" name="Line 6"/>
            <p:cNvSpPr/>
            <p:nvPr/>
          </p:nvSpPr>
          <p:spPr>
            <a:xfrm flipV="1">
              <a:off x="4267080" y="32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7"/>
            <p:cNvSpPr/>
            <p:nvPr/>
          </p:nvSpPr>
          <p:spPr>
            <a:xfrm>
              <a:off x="4114440" y="298620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3428640" y="2515680"/>
              <a:ext cx="1600200" cy="4597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3352680" y="3809520"/>
              <a:ext cx="1752480" cy="4597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13"/>
          <p:cNvGrpSpPr/>
          <p:nvPr/>
        </p:nvGrpSpPr>
        <p:grpSpPr>
          <a:xfrm>
            <a:off x="3444840" y="4297320"/>
            <a:ext cx="1600200" cy="1284480"/>
            <a:chOff x="3444840" y="4297320"/>
            <a:chExt cx="1600200" cy="1284480"/>
          </a:xfrm>
        </p:grpSpPr>
        <p:sp>
          <p:nvSpPr>
            <p:cNvPr id="310" name="Line 6"/>
            <p:cNvSpPr/>
            <p:nvPr/>
          </p:nvSpPr>
          <p:spPr>
            <a:xfrm flipV="1">
              <a:off x="4283280" y="45255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4130640" y="42973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3444840" y="5122080"/>
              <a:ext cx="1600200" cy="4597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ul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B8AD-CE28-4484-95F7-1E411996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457200" y="990720"/>
            <a:ext cx="419112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5715000" y="990720"/>
            <a:ext cx="2362320" cy="685800"/>
          </a:xfrm>
          <a:prstGeom prst="wedgeRoundRectCallout">
            <a:avLst>
              <a:gd name="adj1" fmla="val -100671"/>
              <a:gd name="adj2" fmla="val -3148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Start from the mai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DBCB-5E0B-445B-866E-58D19A1D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5715000" y="990720"/>
            <a:ext cx="2362320" cy="685800"/>
          </a:xfrm>
          <a:prstGeom prst="wedgeRoundRectCallout">
            <a:avLst>
              <a:gd name="adj1" fmla="val -99194"/>
              <a:gd name="adj2" fmla="val 69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Invoke Faculty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061-2BEC-4CF7-A184-1B24A0A9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5562720" y="2362320"/>
            <a:ext cx="3124080" cy="685800"/>
          </a:xfrm>
          <a:prstGeom prst="wedgeRoundRectCallout">
            <a:avLst>
              <a:gd name="adj1" fmla="val -94768"/>
              <a:gd name="adj2" fmla="val 766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nvoke Employee’s no-arg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57200" y="312408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FAD-2B79-406C-9772-AF4771720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257800" y="2514600"/>
            <a:ext cx="3352680" cy="685800"/>
          </a:xfrm>
          <a:prstGeom prst="wedgeRoundRectCallout">
            <a:avLst>
              <a:gd name="adj1" fmla="val -84898"/>
              <a:gd name="adj2" fmla="val 766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Invoke Employee(String)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57200" y="419112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9604-304E-402A-8C71-53906D05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257800" y="4648320"/>
            <a:ext cx="3352680" cy="685800"/>
          </a:xfrm>
          <a:prstGeom prst="wedgeRoundRectCallout">
            <a:avLst>
              <a:gd name="adj1" fmla="val -81773"/>
              <a:gd name="adj2" fmla="val 9027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Invoke Person()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457200" y="419112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457200" y="548640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DA7-6C04-43F2-9489-A99B023A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257800" y="4876920"/>
            <a:ext cx="3352680" cy="685800"/>
          </a:xfrm>
          <a:prstGeom prst="wedgeRoundRectCallout">
            <a:avLst>
              <a:gd name="adj1" fmla="val -84898"/>
              <a:gd name="adj2" fmla="val 766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457200" y="419112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685800" y="571500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52680" y="2854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are the attribut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4600" y="2513160"/>
            <a:ext cx="3733560" cy="27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= 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us 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of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BB53-64B0-41E4-8F3E-D6C400001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600200" y="1477800"/>
            <a:ext cx="1905120" cy="1619280"/>
          </a:xfrm>
          <a:prstGeom prst="ellipse">
            <a:avLst/>
          </a:prstGeom>
          <a:solidFill>
            <a:srgbClr val="ff505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572000" y="1657440"/>
            <a:ext cx="2895480" cy="12301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4419720" y="2438280"/>
            <a:ext cx="3733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=G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th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of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1981080" y="5688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What is common 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804960" y="2971800"/>
            <a:ext cx="6662520" cy="11430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43120" y="4648320"/>
            <a:ext cx="2966760" cy="6094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424400" y="5029200"/>
            <a:ext cx="2967120" cy="6094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BF07-ECBD-4ECB-A65E-0CE91F95F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5257800" y="4876920"/>
            <a:ext cx="3352680" cy="685800"/>
          </a:xfrm>
          <a:prstGeom prst="wedgeRoundRectCallout">
            <a:avLst>
              <a:gd name="adj1" fmla="val -87310"/>
              <a:gd name="adj2" fmla="val -10393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85800" y="441972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059C-B670-43F5-B176-56C3EE5B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5257800" y="4876920"/>
            <a:ext cx="3352680" cy="685800"/>
          </a:xfrm>
          <a:prstGeom prst="wedgeRoundRectCallout">
            <a:avLst>
              <a:gd name="adj1" fmla="val -71449"/>
              <a:gd name="adj2" fmla="val -21875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685800" y="358128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1592-84ED-4E54-84C9-614AF9214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410080" y="2590920"/>
            <a:ext cx="3353040" cy="685800"/>
          </a:xfrm>
          <a:prstGeom prst="wedgeRoundRectCallout">
            <a:avLst>
              <a:gd name="adj1" fmla="val -60083"/>
              <a:gd name="adj2" fmla="val -85416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685800" y="205740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4A06-6498-4BAB-A913-CECF2F0D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7E0-C775-4AC7-B62D-9A262717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76320" y="868320"/>
            <a:ext cx="906768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area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Area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Math.PI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dia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Dia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peri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Peri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 * Math.PI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 Print the circle info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printCircl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adius)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Object 13"/>
          <p:cNvGraphicFramePr/>
          <p:nvPr/>
        </p:nvGraphicFramePr>
        <p:xfrm>
          <a:off x="5961240" y="52560"/>
          <a:ext cx="278604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52560"/>
                    <a:ext cx="278604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Oval 6"/>
          <p:cNvSpPr/>
          <p:nvPr/>
        </p:nvSpPr>
        <p:spPr>
          <a:xfrm>
            <a:off x="5638680" y="299880"/>
            <a:ext cx="2819520" cy="267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Straight Arrow Connector 8"/>
          <p:cNvCxnSpPr/>
          <p:nvPr/>
        </p:nvCxnSpPr>
        <p:spPr>
          <a:xfrm flipH="1">
            <a:off x="3607920" y="1511280"/>
            <a:ext cx="1982160" cy="915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6" name="Rectangle 3"/>
          <p:cNvSpPr/>
          <p:nvPr/>
        </p:nvSpPr>
        <p:spPr>
          <a:xfrm rot="19981800">
            <a:off x="2517480" y="1006560"/>
            <a:ext cx="4138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440" indent="-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 inherits from a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7FA9-D33F-407D-ADD9-E1D3DDF5A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76320" y="868320"/>
            <a:ext cx="906768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area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Area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Math.PI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dia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Dia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peri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Peri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 * Math.PI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 Print the circle info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printCircl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adius)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6742080" y="-181080"/>
          <a:ext cx="27860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2080" y="-181080"/>
                    <a:ext cx="27860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Oval 6"/>
          <p:cNvSpPr/>
          <p:nvPr/>
        </p:nvSpPr>
        <p:spPr>
          <a:xfrm>
            <a:off x="0" y="1139760"/>
            <a:ext cx="2517840" cy="708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Straight Arrow Connector 8"/>
          <p:cNvCxnSpPr/>
          <p:nvPr/>
        </p:nvCxnSpPr>
        <p:spPr>
          <a:xfrm flipV="1">
            <a:off x="2579400" y="1493280"/>
            <a:ext cx="849960" cy="2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4" name="Rectangle 3"/>
          <p:cNvSpPr/>
          <p:nvPr/>
        </p:nvSpPr>
        <p:spPr>
          <a:xfrm>
            <a:off x="3457440" y="1276200"/>
            <a:ext cx="4140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lvl="1" marL="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 Add new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935-E3EE-4624-A1AA-9C0AB61D0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76320" y="868320"/>
            <a:ext cx="906768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area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Area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Math.PI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dia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Dia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peri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Peri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 * Math.PI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 Print the circle info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printCircl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adius)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Object 13"/>
          <p:cNvGraphicFramePr/>
          <p:nvPr/>
        </p:nvGraphicFramePr>
        <p:xfrm>
          <a:off x="6742080" y="-181080"/>
          <a:ext cx="27860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2080" y="-181080"/>
                    <a:ext cx="27860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Oval 6"/>
          <p:cNvSpPr/>
          <p:nvPr/>
        </p:nvSpPr>
        <p:spPr>
          <a:xfrm>
            <a:off x="11160" y="2205000"/>
            <a:ext cx="6475320" cy="3597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Straight Arrow Connector 8"/>
          <p:cNvCxnSpPr/>
          <p:nvPr/>
        </p:nvCxnSpPr>
        <p:spPr>
          <a:xfrm flipV="1">
            <a:off x="4495320" y="1493280"/>
            <a:ext cx="1080" cy="821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2" name="Rectangle 3"/>
          <p:cNvSpPr/>
          <p:nvPr/>
        </p:nvSpPr>
        <p:spPr>
          <a:xfrm>
            <a:off x="3562200" y="938160"/>
            <a:ext cx="41389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lvl="1" marL="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 Add new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908-820A-452B-855B-53039991A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108000" y="1619640"/>
            <a:ext cx="906768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Override the toString method defined in Shape class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String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String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adiu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Object 13"/>
          <p:cNvGraphicFramePr/>
          <p:nvPr/>
        </p:nvGraphicFramePr>
        <p:xfrm>
          <a:off x="6742080" y="-181080"/>
          <a:ext cx="27860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2080" y="-181080"/>
                    <a:ext cx="27860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Group 5"/>
          <p:cNvGrpSpPr/>
          <p:nvPr/>
        </p:nvGrpSpPr>
        <p:grpSpPr>
          <a:xfrm>
            <a:off x="1143000" y="1992240"/>
            <a:ext cx="6894360" cy="2274840"/>
            <a:chOff x="1143000" y="1992240"/>
            <a:chExt cx="6894360" cy="2274840"/>
          </a:xfrm>
        </p:grpSpPr>
        <p:sp>
          <p:nvSpPr>
            <p:cNvPr id="419" name="Oval 6"/>
            <p:cNvSpPr/>
            <p:nvPr/>
          </p:nvSpPr>
          <p:spPr>
            <a:xfrm>
              <a:off x="1143000" y="3247560"/>
              <a:ext cx="1295280" cy="10195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0" name="Straight Arrow Connector 8"/>
            <p:cNvCxnSpPr/>
            <p:nvPr/>
          </p:nvCxnSpPr>
          <p:spPr>
            <a:xfrm flipV="1">
              <a:off x="2437920" y="2836800"/>
              <a:ext cx="610200" cy="66816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21" name="Rectangle 3"/>
            <p:cNvSpPr/>
            <p:nvPr/>
          </p:nvSpPr>
          <p:spPr>
            <a:xfrm>
              <a:off x="2340720" y="1992240"/>
              <a:ext cx="44197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69000"/>
            </a:bodyPr>
            <a:p>
              <a:pPr lvl="1" marL="216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4.  Override the methods of the super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16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6742080" y="2224440"/>
              <a:ext cx="1295280" cy="443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3" name="Straight Arrow Connector 3"/>
            <p:cNvCxnSpPr/>
            <p:nvPr/>
          </p:nvCxnSpPr>
          <p:spPr>
            <a:xfrm>
              <a:off x="4800600" y="2513520"/>
              <a:ext cx="182952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24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A9D-5616-424E-9CFB-B07253365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riding Methods in the Super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181160" y="144792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class inherits methods from a superclass. Sometimes it is necessary for the subclass to modify the implementation of a method defined in the superclass. This is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thod overr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E49-1140-41A6-AD56-A2868E0E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81080" y="5904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vs.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2860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Object 9"/>
          <p:cNvGraphicFramePr/>
          <p:nvPr/>
        </p:nvGraphicFramePr>
        <p:xfrm>
          <a:off x="222120" y="1639800"/>
          <a:ext cx="869976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639800"/>
                    <a:ext cx="869976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Picture 2" descr="Image result for task"/>
          <p:cNvPicPr/>
          <p:nvPr/>
        </p:nvPicPr>
        <p:blipFill>
          <a:blip r:embed="rId3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4267080" y="1219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is the output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1981080" y="5029200"/>
            <a:ext cx="9907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324480" y="5029200"/>
            <a:ext cx="9907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003F-C16D-4483-A75B-97F8E10D8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2743200" y="152280"/>
            <a:ext cx="3124080" cy="3144960"/>
            <a:chOff x="2743200" y="152280"/>
            <a:chExt cx="3124080" cy="3144960"/>
          </a:xfrm>
        </p:grpSpPr>
        <p:pic>
          <p:nvPicPr>
            <p:cNvPr id="166" name="Picture 2" descr="https://i.ytimg.com/vi/XU3PsRNNypc/maxresdefault.jpg"/>
            <p:cNvPicPr/>
            <p:nvPr/>
          </p:nvPicPr>
          <p:blipFill>
            <a:blip r:embed="rId1"/>
            <a:stretch/>
          </p:blipFill>
          <p:spPr>
            <a:xfrm>
              <a:off x="3276360" y="398160"/>
              <a:ext cx="1828800" cy="15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Content Placeholder 2"/>
            <p:cNvSpPr/>
            <p:nvPr/>
          </p:nvSpPr>
          <p:spPr>
            <a:xfrm>
              <a:off x="2743200" y="152280"/>
              <a:ext cx="3124080" cy="314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 Sha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e of cre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"/>
          <p:cNvGrpSpPr/>
          <p:nvPr/>
        </p:nvGrpSpPr>
        <p:grpSpPr>
          <a:xfrm>
            <a:off x="1828800" y="3296520"/>
            <a:ext cx="4876920" cy="2570760"/>
            <a:chOff x="1828800" y="3296520"/>
            <a:chExt cx="4876920" cy="2570760"/>
          </a:xfrm>
        </p:grpSpPr>
        <p:sp>
          <p:nvSpPr>
            <p:cNvPr id="169" name="Oval 7"/>
            <p:cNvSpPr/>
            <p:nvPr/>
          </p:nvSpPr>
          <p:spPr>
            <a:xfrm>
              <a:off x="2361960" y="4373640"/>
              <a:ext cx="1143000" cy="111276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Content Placeholder 2"/>
            <p:cNvSpPr/>
            <p:nvPr/>
          </p:nvSpPr>
          <p:spPr>
            <a:xfrm>
              <a:off x="1828800" y="3962160"/>
              <a:ext cx="22096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 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Content Placeholder 2"/>
            <p:cNvSpPr/>
            <p:nvPr/>
          </p:nvSpPr>
          <p:spPr>
            <a:xfrm>
              <a:off x="4496040" y="3962160"/>
              <a:ext cx="22096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 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4915080" y="4373640"/>
              <a:ext cx="1371600" cy="704880"/>
            </a:xfrm>
            <a:prstGeom prst="rect">
              <a:avLst/>
            </a:pr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Straight Arrow Connector 16"/>
            <p:cNvCxnSpPr/>
            <p:nvPr/>
          </p:nvCxnSpPr>
          <p:spPr>
            <a:xfrm flipV="1">
              <a:off x="3657240" y="3296520"/>
              <a:ext cx="1080" cy="66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Straight Arrow Connector 19"/>
            <p:cNvCxnSpPr/>
            <p:nvPr/>
          </p:nvCxnSpPr>
          <p:spPr>
            <a:xfrm flipV="1">
              <a:off x="4800240" y="3296520"/>
              <a:ext cx="1080" cy="66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5" name="TextBox 18"/>
          <p:cNvSpPr/>
          <p:nvPr/>
        </p:nvSpPr>
        <p:spPr>
          <a:xfrm>
            <a:off x="5867280" y="1400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uper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6711840" y="39164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ubClass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16040" y="221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e method: is the new version (behavior) of the old one. How can we reuse the old method plus adding the new behavior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8C31-6BED-4220-A269-E2C3DC4B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C0C0-F2EA-46FB-A85A-E815BCEB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304920" y="1533240"/>
            <a:ext cx="845820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toString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reated on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dateCreated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\ncolor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color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and filled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81000" y="3661560"/>
            <a:ext cx="9067680" cy="22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String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String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super.toString()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adiu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5029200" y="4583160"/>
            <a:ext cx="1752480" cy="442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685800" y="52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ing Superclass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2209680" y="4583160"/>
            <a:ext cx="6553440" cy="59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76AA-E941-4BBB-91AF-0C5469F1C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word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990720" y="1905120"/>
            <a:ext cx="716256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 the keywor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uper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l a superclass constructor,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is keyword c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a superclas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can also be used to reference other variables and methods defined in the par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lass ( public and protected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EF0-B85D-4058-AFD0-A94F0437E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80880" y="144792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method can be overridden only if it is accessible. Thus a private method cannot be overridden, because it is not accessible outside its own class. If a method defined in a subclass is private in its superclass, the two methods are completely unrelat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BA3-2279-4B66-AA95-26DA5D3F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0880" y="144792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an instance method, a static method can be inherited. However, a static method cannot be overridden. If a static method defined in the superclass is redefined in a subclass, the method defined in the superclass is hidd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E20-B8EB-4807-A0F1-DCEF3DC8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’s attributes and behavior accessi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E189-9700-49A0-B930-8CB9B056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040" y="19807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ifier can be applied on data and methods in a clas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protected data or a protected method in a public class can be accessed by any class 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ame package 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s subclasses, even if the subclasses are in a different package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6430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wu18847_1301"/>
          <p:cNvPicPr/>
          <p:nvPr/>
        </p:nvPicPr>
        <p:blipFill>
          <a:blip r:embed="rId1"/>
          <a:stretch/>
        </p:blipFill>
        <p:spPr>
          <a:xfrm>
            <a:off x="1295280" y="1536840"/>
            <a:ext cx="701064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142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visibility increa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52A-4D5C-4851-812B-7827045C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5335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457200" y="327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Straight Arrow Connector 8"/>
          <p:cNvCxnSpPr>
            <a:stCxn id="471" idx="3"/>
          </p:cNvCxnSpPr>
          <p:nvPr/>
        </p:nvCxnSpPr>
        <p:spPr>
          <a:xfrm>
            <a:off x="1676160" y="3580920"/>
            <a:ext cx="61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TextBox 14"/>
          <p:cNvSpPr/>
          <p:nvPr/>
        </p:nvSpPr>
        <p:spPr>
          <a:xfrm>
            <a:off x="2362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2286000" y="327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17"/>
          <p:cNvSpPr/>
          <p:nvPr/>
        </p:nvSpPr>
        <p:spPr>
          <a:xfrm>
            <a:off x="4214880" y="3340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4114800" y="3276720"/>
            <a:ext cx="1600200" cy="512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Straight Arrow Connector 22"/>
          <p:cNvCxnSpPr/>
          <p:nvPr/>
        </p:nvCxnSpPr>
        <p:spPr>
          <a:xfrm>
            <a:off x="3504960" y="3580920"/>
            <a:ext cx="61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TextBox 20"/>
          <p:cNvSpPr/>
          <p:nvPr/>
        </p:nvSpPr>
        <p:spPr>
          <a:xfrm>
            <a:off x="64008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6324480" y="327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Straight Arrow Connector 23"/>
          <p:cNvCxnSpPr/>
          <p:nvPr/>
        </p:nvCxnSpPr>
        <p:spPr>
          <a:xfrm>
            <a:off x="5714640" y="3580920"/>
            <a:ext cx="61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81" name="Object 5"/>
          <p:cNvGraphicFramePr/>
          <p:nvPr/>
        </p:nvGraphicFramePr>
        <p:xfrm>
          <a:off x="1023840" y="4138560"/>
          <a:ext cx="465768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3840" y="4138560"/>
                    <a:ext cx="46576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4F6-0C2B-459C-8AA7-056E743B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13000" y="648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bility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6430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22478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Object 7"/>
          <p:cNvGraphicFramePr/>
          <p:nvPr/>
        </p:nvGraphicFramePr>
        <p:xfrm>
          <a:off x="380880" y="1981080"/>
          <a:ext cx="8382240" cy="37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Rectangle 1"/>
          <p:cNvSpPr/>
          <p:nvPr/>
        </p:nvSpPr>
        <p:spPr>
          <a:xfrm>
            <a:off x="2362320" y="3062160"/>
            <a:ext cx="57150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2313000" y="3678120"/>
            <a:ext cx="54594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2286000" y="4400640"/>
            <a:ext cx="5562720" cy="55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362320" y="5086440"/>
            <a:ext cx="5715000" cy="55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Image result for think"/>
          <p:cNvPicPr/>
          <p:nvPr/>
        </p:nvPicPr>
        <p:blipFill>
          <a:blip r:embed="rId3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a software developer to derive a new class from an existing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isting class is called the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parent cla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ed class is called the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hild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name implies, the child inherits characteristics of the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class inherits the methods and data defined by the paren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6BB-F786-46DC-B7B0-9968EE8D5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38280" y="374400"/>
            <a:ext cx="77724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ity Modifi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16844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91448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Object 8"/>
          <p:cNvGraphicFramePr/>
          <p:nvPr/>
        </p:nvGraphicFramePr>
        <p:xfrm>
          <a:off x="0" y="1219320"/>
          <a:ext cx="88390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83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Picture 2" descr="Image result for think"/>
          <p:cNvPicPr/>
          <p:nvPr/>
        </p:nvPicPr>
        <p:blipFill>
          <a:blip r:embed="rId3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"/>
          <p:cNvSpPr/>
          <p:nvPr/>
        </p:nvSpPr>
        <p:spPr>
          <a:xfrm>
            <a:off x="3352680" y="2052720"/>
            <a:ext cx="1828800" cy="12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4572000"/>
            <a:ext cx="1828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581280" y="4643280"/>
            <a:ext cx="1828800" cy="114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6324480" y="4643280"/>
            <a:ext cx="1905120" cy="12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Three Visibility Modif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3" descr="N:\CS1Ed4\Ed 4 Support Material Samples\Slides\ch13-1.tif"/>
          <p:cNvPicPr/>
          <p:nvPr/>
        </p:nvPicPr>
        <p:blipFill>
          <a:blip r:embed="rId1"/>
          <a:stretch/>
        </p:blipFill>
        <p:spPr>
          <a:xfrm>
            <a:off x="838080" y="1219320"/>
            <a:ext cx="7925040" cy="4593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wu18847_1303"/>
          <p:cNvPicPr/>
          <p:nvPr/>
        </p:nvPicPr>
        <p:blipFill>
          <a:blip r:embed="rId2"/>
          <a:srcRect l="69069" t="0" r="7631" b="77114"/>
          <a:stretch/>
        </p:blipFill>
        <p:spPr>
          <a:xfrm>
            <a:off x="257040" y="879480"/>
            <a:ext cx="142092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bility of Super from S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7" descr="N:\CS1Ed4\Ed 4 Support Material Samples\Slides\ch13-2.tif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38480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wu18847_1303"/>
          <p:cNvPicPr/>
          <p:nvPr/>
        </p:nvPicPr>
        <p:blipFill>
          <a:blip r:embed="rId3"/>
          <a:srcRect l="69069" t="0" r="7631" b="77114"/>
          <a:stretch/>
        </p:blipFill>
        <p:spPr>
          <a:xfrm>
            <a:off x="560520" y="1303200"/>
            <a:ext cx="142056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e the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EC3-059B-4DA9-8445-606B1ED4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1001880" y="4059360"/>
            <a:ext cx="7456320" cy="252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 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 () {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Override the Print method defined in Shape class*/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1001880" y="1845720"/>
            <a:ext cx="396216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otected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print the conten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**************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838080" y="5083200"/>
            <a:ext cx="1067040" cy="45720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Straight Arrow Connector 8"/>
          <p:cNvCxnSpPr>
            <a:stCxn id="517" idx="7"/>
          </p:cNvCxnSpPr>
          <p:nvPr/>
        </p:nvCxnSpPr>
        <p:spPr>
          <a:xfrm flipV="1">
            <a:off x="1749240" y="3787200"/>
            <a:ext cx="3508920" cy="1362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9" name="Rectangle 2"/>
          <p:cNvSpPr/>
          <p:nvPr/>
        </p:nvSpPr>
        <p:spPr>
          <a:xfrm>
            <a:off x="4964040" y="2982960"/>
            <a:ext cx="3353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ubclass cannot weaken the accessibil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a method defined in the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2348640" y="13572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wrong with this code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33208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ride the Accessibil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F0D1-FDCA-4E2E-803D-72ED2489C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1001880" y="4180680"/>
            <a:ext cx="7456320" cy="22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 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 () {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Override the Print method defined in Shape class*/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1001880" y="1845720"/>
            <a:ext cx="396216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otected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print the conten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**************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"/>
          <p:cNvSpPr/>
          <p:nvPr/>
        </p:nvSpPr>
        <p:spPr>
          <a:xfrm>
            <a:off x="838080" y="5083200"/>
            <a:ext cx="1067040" cy="45720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Straight Arrow Connector 8"/>
          <p:cNvCxnSpPr>
            <a:stCxn id="525" idx="7"/>
          </p:cNvCxnSpPr>
          <p:nvPr/>
        </p:nvCxnSpPr>
        <p:spPr>
          <a:xfrm flipV="1">
            <a:off x="1749240" y="3787200"/>
            <a:ext cx="3508920" cy="1362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7" name="Rectangle 2"/>
          <p:cNvSpPr/>
          <p:nvPr/>
        </p:nvSpPr>
        <p:spPr>
          <a:xfrm>
            <a:off x="4964040" y="2982960"/>
            <a:ext cx="3353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ubclass may override a protected method in its superclass and change its visibility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2341800" y="13572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is code correct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5951520" y="406872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3F0B-6C84-43D9-827C-964127D6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a const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 static double PI = 3.1415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annot be exte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 class Math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annot be overridden by its sub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3581280" y="2743200"/>
            <a:ext cx="2895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962520" y="4648320"/>
            <a:ext cx="3886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1028880" y="5116680"/>
            <a:ext cx="3886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F8A-6F8A-4FB4-935F-B24A2E5F5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655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bject Cla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 The Grand parent of all class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FBCE-CEA0-44EB-8DE5-83B1FA6CF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 and Its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class in Java is descended from the java.lang.Object class. If no inheritance is specified when a class is defined, the superclass of the class is Objec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Object 5"/>
          <p:cNvGraphicFramePr/>
          <p:nvPr/>
        </p:nvGraphicFramePr>
        <p:xfrm>
          <a:off x="3240" y="4267080"/>
          <a:ext cx="913752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4267080"/>
                    <a:ext cx="9137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5"/>
          <p:cNvGraphicFramePr/>
          <p:nvPr/>
        </p:nvGraphicFramePr>
        <p:xfrm>
          <a:off x="3240" y="4267080"/>
          <a:ext cx="91375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4267080"/>
                    <a:ext cx="9137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6553080" y="605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AD0-91FA-40D5-978E-016612A8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oString() method i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9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String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returns a string representation of the obj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implementatio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it is in the Object class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string consisting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828800" y="297180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loan = new Loa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loan.toString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lo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3227400" y="449568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@15037e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10"/>
          <p:cNvGrpSpPr/>
          <p:nvPr/>
        </p:nvGrpSpPr>
        <p:grpSpPr>
          <a:xfrm>
            <a:off x="190440" y="4916160"/>
            <a:ext cx="3535560" cy="1136520"/>
            <a:chOff x="190440" y="4916160"/>
            <a:chExt cx="3535560" cy="1136520"/>
          </a:xfrm>
        </p:grpSpPr>
        <p:sp>
          <p:nvSpPr>
            <p:cNvPr id="553" name="Rectangle 1"/>
            <p:cNvSpPr/>
            <p:nvPr/>
          </p:nvSpPr>
          <p:spPr>
            <a:xfrm>
              <a:off x="190440" y="5300640"/>
              <a:ext cx="3277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class name of which the object is an 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Straight Arrow Connector 3"/>
            <p:cNvCxnSpPr/>
            <p:nvPr/>
          </p:nvCxnSpPr>
          <p:spPr>
            <a:xfrm flipH="1">
              <a:off x="2361960" y="4916160"/>
              <a:ext cx="1364400" cy="38484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</p:grpSp>
      <p:grpSp>
        <p:nvGrpSpPr>
          <p:cNvPr id="555" name="Group 13"/>
          <p:cNvGrpSpPr/>
          <p:nvPr/>
        </p:nvGrpSpPr>
        <p:grpSpPr>
          <a:xfrm>
            <a:off x="3581280" y="4981680"/>
            <a:ext cx="2049480" cy="924840"/>
            <a:chOff x="3581280" y="4981680"/>
            <a:chExt cx="2049480" cy="924840"/>
          </a:xfrm>
        </p:grpSpPr>
        <p:sp>
          <p:nvSpPr>
            <p:cNvPr id="556" name="Rectangle 7"/>
            <p:cNvSpPr/>
            <p:nvPr/>
          </p:nvSpPr>
          <p:spPr>
            <a:xfrm>
              <a:off x="3581280" y="5483520"/>
              <a:ext cx="2049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he at sign (@)</a:t>
              </a:r>
              <a:r>
                <a:rPr b="0" lang="en-US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Straight Arrow Connector 11"/>
            <p:cNvCxnSpPr/>
            <p:nvPr/>
          </p:nvCxnSpPr>
          <p:spPr>
            <a:xfrm flipH="1">
              <a:off x="4331880" y="4981680"/>
              <a:ext cx="1080" cy="50256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</p:grpSp>
      <p:grpSp>
        <p:nvGrpSpPr>
          <p:cNvPr id="558" name="Group 15"/>
          <p:cNvGrpSpPr/>
          <p:nvPr/>
        </p:nvGrpSpPr>
        <p:grpSpPr>
          <a:xfrm>
            <a:off x="5448240" y="4916520"/>
            <a:ext cx="3009960" cy="1228680"/>
            <a:chOff x="5448240" y="4916520"/>
            <a:chExt cx="3009960" cy="1228680"/>
          </a:xfrm>
        </p:grpSpPr>
        <p:sp>
          <p:nvSpPr>
            <p:cNvPr id="559" name="Rectangle 8"/>
            <p:cNvSpPr/>
            <p:nvPr/>
          </p:nvSpPr>
          <p:spPr>
            <a:xfrm>
              <a:off x="5888880" y="5064120"/>
              <a:ext cx="25693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number representing this object.</a:t>
              </a:r>
              <a:r>
                <a:rPr b="0" lang="en-US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Straight Arrow Connector 14"/>
            <p:cNvCxnSpPr/>
            <p:nvPr/>
          </p:nvCxnSpPr>
          <p:spPr>
            <a:xfrm>
              <a:off x="5448240" y="4916520"/>
              <a:ext cx="828000" cy="20808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B19-EDE6-4B07-BDC7-CE735292C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66800" y="340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oString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57200" y="17524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 this Object representation helpful informative?????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an@15037e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, what we do ???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Usually you should override the toString method so that it returns a digestible string representation of the ob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3D0-004F-4764-BA1D-75A46E21EDD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relationships are shown in a UML class diagram a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4191120" y="2835360"/>
            <a:ext cx="304560" cy="837720"/>
            <a:chOff x="4191120" y="2835360"/>
            <a:chExt cx="304560" cy="837720"/>
          </a:xfrm>
        </p:grpSpPr>
        <p:sp>
          <p:nvSpPr>
            <p:cNvPr id="184" name="Line 6"/>
            <p:cNvSpPr/>
            <p:nvPr/>
          </p:nvSpPr>
          <p:spPr>
            <a:xfrm flipV="1">
              <a:off x="4343400" y="3063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4191120" y="283536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Rectangle 8"/>
          <p:cNvSpPr/>
          <p:nvPr/>
        </p:nvSpPr>
        <p:spPr>
          <a:xfrm>
            <a:off x="3505320" y="2363400"/>
            <a:ext cx="1600200" cy="459720"/>
          </a:xfrm>
          <a:prstGeom prst="rect">
            <a:avLst/>
          </a:prstGeom>
          <a:solidFill>
            <a:srgbClr val="96fe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MS PGothic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505320" y="3658680"/>
            <a:ext cx="1600200" cy="459720"/>
          </a:xfrm>
          <a:prstGeom prst="rect">
            <a:avLst/>
          </a:prstGeom>
          <a:solidFill>
            <a:srgbClr val="96fe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MS PGothic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914400" y="4267080"/>
            <a:ext cx="7924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inheritance creates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hip, meaning the child is a more specific version of the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upports Only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sing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a derived class can have only one paren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Multip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heri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class to be derived from two or more classes, inheriting the members of all parents. ( for example pickup truck inherit from car and tru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s, such as the same variable name in two parents, have to be re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n-US" sz="2400" spc="-1" strike="noStrike">
                <a:solidFill>
                  <a:srgbClr val="de2c28"/>
                </a:solidFill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port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the us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s us aspects of multiple inheritance without the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5C46-3BB3-4EBE-B78C-FB7D714E1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classes and Sub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13"/>
          <p:cNvGraphicFramePr/>
          <p:nvPr/>
        </p:nvGraphicFramePr>
        <p:xfrm>
          <a:off x="3886200" y="1263600"/>
          <a:ext cx="498780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263600"/>
                    <a:ext cx="49878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304920" y="15238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er can tailor a Parent class as needed by adding n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hods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y modifying the inherit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2"/>
          <p:cNvGrpSpPr/>
          <p:nvPr/>
        </p:nvGrpSpPr>
        <p:grpSpPr>
          <a:xfrm>
            <a:off x="3886200" y="4191120"/>
            <a:ext cx="4191120" cy="380880"/>
            <a:chOff x="3886200" y="4191120"/>
            <a:chExt cx="4191120" cy="380880"/>
          </a:xfrm>
        </p:grpSpPr>
        <p:sp>
          <p:nvSpPr>
            <p:cNvPr id="197" name="Rectangle 1"/>
            <p:cNvSpPr/>
            <p:nvPr/>
          </p:nvSpPr>
          <p:spPr>
            <a:xfrm>
              <a:off x="3886200" y="4191120"/>
              <a:ext cx="1371600" cy="22860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6705720" y="4191120"/>
              <a:ext cx="1371600" cy="38088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3"/>
          <p:cNvGrpSpPr/>
          <p:nvPr/>
        </p:nvGrpSpPr>
        <p:grpSpPr>
          <a:xfrm>
            <a:off x="4073400" y="4937040"/>
            <a:ext cx="4384800" cy="1311480"/>
            <a:chOff x="4073400" y="4937040"/>
            <a:chExt cx="4384800" cy="1311480"/>
          </a:xfrm>
        </p:grpSpPr>
        <p:sp>
          <p:nvSpPr>
            <p:cNvPr id="200" name="Rectangle 11"/>
            <p:cNvSpPr/>
            <p:nvPr/>
          </p:nvSpPr>
          <p:spPr>
            <a:xfrm>
              <a:off x="4073400" y="4937040"/>
              <a:ext cx="1565640" cy="108288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6892560" y="5257080"/>
              <a:ext cx="1565640" cy="99144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397-E79E-4B1F-A34F-818565D9FDD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Times New Roman"/>
              </a:rPr>
              <a:t>Softw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undamental benefit of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existing software components to create new ones, we capitalize on all the effort that went into the design, implementation, and testing of the exist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D29-2818-4422-B993-742D2BD8D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classes and Sub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791320" y="22096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Geometric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6248520" y="4876920"/>
            <a:ext cx="2743200" cy="53316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1075" h="21600">
                <a:moveTo>
                  <a:pt x="0" y="0"/>
                </a:moveTo>
                <a:lnTo>
                  <a:pt x="111075" y="0"/>
                </a:lnTo>
                <a:lnTo>
                  <a:pt x="111075" y="21600"/>
                </a:lnTo>
                <a:lnTo>
                  <a:pt x="0" y="21600"/>
                </a:lnTo>
                <a:close/>
              </a:path>
              <a:path fill="lightenLess" w="111075" h="21600">
                <a:moveTo>
                  <a:pt x="0" y="0"/>
                </a:moveTo>
                <a:lnTo>
                  <a:pt x="111075" y="0"/>
                </a:lnTo>
                <a:lnTo>
                  <a:pt x="109675" y="1400"/>
                </a:lnTo>
                <a:lnTo>
                  <a:pt x="1400" y="1400"/>
                </a:lnTo>
                <a:close/>
              </a:path>
              <a:path fill="darken" w="111075" h="21600">
                <a:moveTo>
                  <a:pt x="111075" y="0"/>
                </a:moveTo>
                <a:lnTo>
                  <a:pt x="111075" y="21600"/>
                </a:lnTo>
                <a:lnTo>
                  <a:pt x="109675" y="20200"/>
                </a:lnTo>
                <a:lnTo>
                  <a:pt x="109675" y="1400"/>
                </a:lnTo>
                <a:close/>
              </a:path>
              <a:path fill="darkenLess" w="111075" h="21600">
                <a:moveTo>
                  <a:pt x="111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75" y="20200"/>
                </a:lnTo>
                <a:close/>
              </a:path>
              <a:path fill="lighten" w="111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ircle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2">
            <a:hlinkClick r:id="rId1"/>
          </p:cNvPr>
          <p:cNvSpPr/>
          <p:nvPr/>
        </p:nvSpPr>
        <p:spPr>
          <a:xfrm>
            <a:off x="6781680" y="56386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13"/>
          <p:cNvGraphicFramePr/>
          <p:nvPr/>
        </p:nvGraphicFramePr>
        <p:xfrm>
          <a:off x="233280" y="836640"/>
          <a:ext cx="5437440" cy="556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836640"/>
                    <a:ext cx="543744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AutoShape 9"/>
          <p:cNvSpPr/>
          <p:nvPr/>
        </p:nvSpPr>
        <p:spPr>
          <a:xfrm>
            <a:off x="4876920" y="2895480"/>
            <a:ext cx="4114800" cy="457200"/>
          </a:xfrm>
          <a:custGeom>
            <a:avLst/>
            <a:gdLst>
              <a:gd name="textAreaLeft" fmla="*/ 29520 w 4114800"/>
              <a:gd name="textAreaRight" fmla="*/ 4085280 w 4114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4264" h="21600">
                <a:moveTo>
                  <a:pt x="0" y="0"/>
                </a:moveTo>
                <a:lnTo>
                  <a:pt x="194264" y="0"/>
                </a:lnTo>
                <a:lnTo>
                  <a:pt x="194264" y="21600"/>
                </a:lnTo>
                <a:lnTo>
                  <a:pt x="0" y="21600"/>
                </a:lnTo>
                <a:close/>
              </a:path>
              <a:path fill="lightenLess" w="194264" h="21600">
                <a:moveTo>
                  <a:pt x="0" y="0"/>
                </a:moveTo>
                <a:lnTo>
                  <a:pt x="194264" y="0"/>
                </a:lnTo>
                <a:lnTo>
                  <a:pt x="192864" y="1400"/>
                </a:lnTo>
                <a:lnTo>
                  <a:pt x="1400" y="1400"/>
                </a:lnTo>
                <a:close/>
              </a:path>
              <a:path fill="darken" w="194264" h="21600">
                <a:moveTo>
                  <a:pt x="194264" y="0"/>
                </a:moveTo>
                <a:lnTo>
                  <a:pt x="194264" y="21600"/>
                </a:lnTo>
                <a:lnTo>
                  <a:pt x="192864" y="20200"/>
                </a:lnTo>
                <a:lnTo>
                  <a:pt x="192864" y="1400"/>
                </a:lnTo>
                <a:close/>
              </a:path>
              <a:path fill="darkenLess" w="194264" h="21600">
                <a:moveTo>
                  <a:pt x="19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864" y="20200"/>
                </a:lnTo>
                <a:close/>
              </a:path>
              <a:path fill="lighten" w="19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Book Antiqua"/>
              </a:rPr>
              <a:t>CircleFromSimpleGeometric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4876920" y="3505320"/>
            <a:ext cx="4114800" cy="457200"/>
          </a:xfrm>
          <a:custGeom>
            <a:avLst/>
            <a:gdLst>
              <a:gd name="textAreaLeft" fmla="*/ 29520 w 4114800"/>
              <a:gd name="textAreaRight" fmla="*/ 4085280 w 4114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4264" h="21600">
                <a:moveTo>
                  <a:pt x="0" y="0"/>
                </a:moveTo>
                <a:lnTo>
                  <a:pt x="194264" y="0"/>
                </a:lnTo>
                <a:lnTo>
                  <a:pt x="194264" y="21600"/>
                </a:lnTo>
                <a:lnTo>
                  <a:pt x="0" y="21600"/>
                </a:lnTo>
                <a:close/>
              </a:path>
              <a:path fill="lightenLess" w="194264" h="21600">
                <a:moveTo>
                  <a:pt x="0" y="0"/>
                </a:moveTo>
                <a:lnTo>
                  <a:pt x="194264" y="0"/>
                </a:lnTo>
                <a:lnTo>
                  <a:pt x="192864" y="1400"/>
                </a:lnTo>
                <a:lnTo>
                  <a:pt x="1400" y="1400"/>
                </a:lnTo>
                <a:close/>
              </a:path>
              <a:path fill="darken" w="194264" h="21600">
                <a:moveTo>
                  <a:pt x="194264" y="0"/>
                </a:moveTo>
                <a:lnTo>
                  <a:pt x="194264" y="21600"/>
                </a:lnTo>
                <a:lnTo>
                  <a:pt x="192864" y="20200"/>
                </a:lnTo>
                <a:lnTo>
                  <a:pt x="192864" y="1400"/>
                </a:lnTo>
                <a:close/>
              </a:path>
              <a:path fill="darkenLess" w="194264" h="21600">
                <a:moveTo>
                  <a:pt x="19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864" y="20200"/>
                </a:lnTo>
                <a:close/>
              </a:path>
              <a:path fill="lighten" w="19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RectangleFromSimpleGeometric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5">
            <a:hlinkClick r:id="rId4"/>
          </p:cNvPr>
          <p:cNvSpPr/>
          <p:nvPr/>
        </p:nvSpPr>
        <p:spPr>
          <a:xfrm>
            <a:off x="4495680" y="33526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6">
            <a:hlinkClick r:id="rId5"/>
          </p:cNvPr>
          <p:cNvSpPr/>
          <p:nvPr/>
        </p:nvSpPr>
        <p:spPr>
          <a:xfrm>
            <a:off x="4572000" y="25146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7">
            <a:hlinkClick r:id="rId6"/>
          </p:cNvPr>
          <p:cNvSpPr/>
          <p:nvPr/>
        </p:nvSpPr>
        <p:spPr>
          <a:xfrm>
            <a:off x="5638680" y="19810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8">
            <a:hlinkClick r:id="rId7"/>
          </p:cNvPr>
          <p:cNvSpPr/>
          <p:nvPr/>
        </p:nvSpPr>
        <p:spPr>
          <a:xfrm>
            <a:off x="5638680" y="48769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05:24:37Z</dcterms:modified>
  <cp:revision>321</cp:revision>
  <dc:subject/>
  <dc:title>Chapter 9: Objects and Classes</dc:title>
</cp:coreProperties>
</file>