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AE1B-FB9E-4E84-B753-D5830F640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C78D-157E-4B25-B4BA-033ABCF5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7D58-C1DF-4C8B-8E62-5F14BB4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B3EE-3F18-48D0-AE8A-7ACBC5F808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9DF7F-7061-4DE6-973A-DB0E1080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E821-1C22-41B9-B4C9-A7410C1E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A8EE-7D9C-4541-9081-2473B04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8D35-9AC9-4AAB-9819-6149AEE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F332-4276-4073-846B-DEF4260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881C-9816-4FC5-A447-1CBA4B9C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DE1CF-452C-4F3D-979B-7578318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B78C-F9B4-46A7-914F-F492BD1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92B0-F82F-4922-8E75-2ED7250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D8C21-6DEE-4FF1-9C72-84A8A45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71965-A261-47A7-A93E-826E308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88BF6-B4FC-410C-A21E-7D27AA43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2EC5A-32DF-4C55-8ED8-BA953A6D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7F18-5B90-4D5E-A7B4-70AA0DE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6F2C-CC90-42BC-A1AB-8B4446E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8AA8-EBA1-4956-9135-A2097F90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E16C-2564-49E5-8A3D-8889DE53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B26B-B090-4E08-A920-96795B7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D6E3-877D-41B0-B199-15166B2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8D90-1C3D-4272-B041-9A649E5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4DC-BF91-4359-999D-62BB8BEA8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CB27-44B8-4138-8A38-02B75DDDD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4215-128B-474E-803D-E67630070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1 Gene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3189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20760" y="459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CB87-FC6F-42E4-A748-A6C880FA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or Situation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2455920" y="1447920"/>
          <a:ext cx="403524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5920" y="1447920"/>
                    <a:ext cx="40352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7"/>
          <p:cNvSpPr/>
          <p:nvPr/>
        </p:nvSpPr>
        <p:spPr>
          <a:xfrm>
            <a:off x="3505320" y="5253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untim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10"/>
          <p:cNvGraphicFramePr/>
          <p:nvPr/>
        </p:nvGraphicFramePr>
        <p:xfrm>
          <a:off x="2209680" y="3554280"/>
          <a:ext cx="4575240" cy="11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54280"/>
                    <a:ext cx="457524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11"/>
          <p:cNvSpPr/>
          <p:nvPr/>
        </p:nvSpPr>
        <p:spPr>
          <a:xfrm>
            <a:off x="4367160" y="4703760"/>
            <a:ext cx="0" cy="54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4648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BE9-ACEE-4E68-B664-EDC6C2FC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440" y="33948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eneric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-190512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-190512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691080" y="551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19051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4495680" y="4799160"/>
            <a:ext cx="0" cy="573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986200" y="33336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320920" y="1376280"/>
          <a:ext cx="472284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376280"/>
                    <a:ext cx="472284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2158920" y="3938760"/>
          <a:ext cx="46735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8920" y="3938760"/>
                    <a:ext cx="4673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D53-DE47-4FB0-A40B-310D5B892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know th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§21.2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/ declar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 classe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§21.3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nderstand why generic types can improve reliability and readability (§21.3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clare and us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 method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§21.4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524-FC02-40F9-B6B1-A4B197C8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You Get a War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ShowUncheckedWarn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.ArrayList li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java.util.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.add("Java Programming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066680" y="4718160"/>
            <a:ext cx="5905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compile warning on this lin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143000" y="3352680"/>
            <a:ext cx="5257800" cy="304920"/>
          </a:xfrm>
          <a:prstGeom prst="rect">
            <a:avLst/>
          </a:prstGeom>
          <a:solidFill>
            <a:srgbClr val="cbcbcb">
              <a:alpha val="4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Straight Arrow Connector 2"/>
          <p:cNvCxnSpPr/>
          <p:nvPr/>
        </p:nvCxnSpPr>
        <p:spPr>
          <a:xfrm>
            <a:off x="4190760" y="3809520"/>
            <a:ext cx="1080" cy="83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E22-04DF-49F6-AEAA-C32C05D16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the 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ShowUncheckedWarn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.ArrayList&lt;String&gt; li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java.util.ArrayList&lt;String&gt;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.add("Java Programming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143000" y="3200400"/>
            <a:ext cx="5334120" cy="380880"/>
          </a:xfrm>
          <a:prstGeom prst="rect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47920" y="4495680"/>
            <a:ext cx="7391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752480" y="493704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 compile warning on this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648320" y="2362320"/>
            <a:ext cx="1447560" cy="304560"/>
          </a:xfrm>
          <a:prstGeom prst="rect">
            <a:avLst/>
          </a:prstGeom>
          <a:solidFill>
            <a:srgbClr val="cbcbcb">
              <a:alpha val="3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715000" y="2743200"/>
            <a:ext cx="1447920" cy="304920"/>
          </a:xfrm>
          <a:prstGeom prst="rect">
            <a:avLst/>
          </a:prstGeom>
          <a:solidFill>
            <a:srgbClr val="cbcbcb">
              <a:alpha val="3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Straight Arrow Connector 10"/>
          <p:cNvCxnSpPr/>
          <p:nvPr/>
        </p:nvCxnSpPr>
        <p:spPr>
          <a:xfrm>
            <a:off x="4190760" y="3809520"/>
            <a:ext cx="1080" cy="83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9385-58AC-4EF2-8CF8-DDAA40736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eneric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capability to parameterize typ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fine a class, an interface or a method with generic types that can be substituted using concrete types by the compil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Compar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EB7-F2BC-400C-9232-49FFD6B69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Generic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benefit of generics is to enable errors to be detected at compile time rather than at run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ic class/interface or method permits you to specify allowable types of objects that the class/ interface or method may work wi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ttempt to use the class or method with an incompatible object, a compile error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3E4-E145-493F-8726-378F5C4F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rrayList in JDK 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8288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0" y="21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8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CC99-8C71-4CB1-920F-F96A32EB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Casting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List&lt;Double&gt; list = new ArrayList&lt;&gt;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add(5.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5.5 is automatically converted to new Double(5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add(3.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3.0 is automatically converted to new Double(3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oubleObject = list.ge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No casting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 = list.get(1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Automatically converted to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447920" y="4495680"/>
            <a:ext cx="7391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java.la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 compareTo(T 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r E represent a formal generic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can replace it with an actual concrete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B73-D5A4-4242-8B1D-DC5E6CA3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11:53:37Z</dcterms:modified>
  <cp:revision>175</cp:revision>
  <dc:subject/>
  <dc:title>Chapter 4 Methods</dc:title>
</cp:coreProperties>
</file>