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42B1-8D15-47AF-8D70-9A9F7DBD6D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6B56-71DC-41CE-A0E8-9C16AE1836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69AD-DFE6-439E-93DD-C51A200011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811A-87A1-4A41-96CC-2A114BD737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94DA4-3978-41B8-A019-1B7F108829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BA053-52BE-45CE-8201-085518A3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D30EC-8020-4DDA-A372-F58C1124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C813D-8AB2-46E0-90E2-4FB0805928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E5A8C-FC84-4499-9644-AB107473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55083-373B-499E-A1DA-EF21085D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FE575-DC60-4A93-80C9-1DFCAA0C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C445F-980E-479C-8CC1-657BBAEA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B44A6-61F6-4122-A535-5BD2DF01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DBCF1-C41C-4F3E-8CAB-CCB8B594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FF343-B507-4FDE-817D-E65A9DFE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832E3-BFFD-4605-83F1-A29C81B1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51966-3C26-4FC6-9B40-A48952FA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F2C72-F4EF-4EAF-A0DD-E0FDCBE5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12DD1-ABCB-4546-8AD3-141FD2A2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4445A-9CA8-4FBD-9A95-0D88E155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77392-480A-4639-803A-60B76B5E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0E2EF-10A6-4323-BAD5-4AC6B2C6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0F589-DE5C-4A2C-B7B2-F500A9D7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5EF6D-5210-4B8C-8F66-73D2BEFB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7C508-08A6-48F4-B6CB-544BA6D4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B16C1-8D1B-4129-AB15-46C3FD1A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56A98-7C1B-4E2D-BB5D-70083440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F2882-603F-4692-B4A0-89419782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2815-C0D0-44A4-B660-E80EE84871A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1D76-702C-4C27-8AA0-D546B24E5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5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Tenth Edition, (c) 2015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f5f5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C298-7F1D-4CF6-8E06-7F183EB9B56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ang, Introduction to Java Programming, Tenth Edition, (c) 2013 Pearson Education, Inc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DF3B-B12C-4B92-BE4C-2AD9BEBEC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ml/TestGeometricObject.bat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ml/LargestNumbers.bat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F74F-A07A-4395-A764-1AA11A901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64D4-AFF5-43FC-A71B-A32192EED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8153640" cy="123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5 Abstract Classes and Interface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t 1 (Abstract Classes and method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DACD-5E2D-489A-9737-9569BC855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1798-4F90-485D-95C7-26606C633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class as typ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228600" y="1133640"/>
            <a:ext cx="86868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n I define an array of abstract class ( such as animal or shape??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bstract class can be used as a data typ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statement creates an array whose elements are of Shape typ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e[] geo = new    Shape[10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[0]= new Circl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[1]= new Shap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Box 1"/>
          <p:cNvSpPr/>
          <p:nvPr/>
        </p:nvSpPr>
        <p:spPr>
          <a:xfrm>
            <a:off x="510552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Box 6"/>
          <p:cNvSpPr/>
          <p:nvPr/>
        </p:nvSpPr>
        <p:spPr>
          <a:xfrm>
            <a:off x="4762440" y="5038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4800600" y="57182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© S. Uchitel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3520" y="2329920"/>
            <a:ext cx="8153280" cy="403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We cannot create Shape objects, because we cannot provide a reasonable implementation of getArea(); How do we calculate the area of an arbitrary sha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 we declare the Shape to be an </a:t>
            </a:r>
            <a:r>
              <a:rPr b="0" lang="en-GB" sz="2000" spc="-1" strike="noStrike">
                <a:solidFill>
                  <a:srgbClr val="ff6600"/>
                </a:solidFill>
                <a:latin typeface="Times New Roman"/>
              </a:rPr>
              <a:t>abstract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rthermore, we declare getArea() as an </a:t>
            </a:r>
            <a:r>
              <a:rPr b="0" lang="en-GB" sz="2000" spc="-1" strike="noStrike">
                <a:solidFill>
                  <a:srgbClr val="ff6600"/>
                </a:solidFill>
                <a:latin typeface="Times New Roman"/>
              </a:rPr>
              <a:t>abstract method becaus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t has no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Why have the Shape class in the first place? And why we have to address the getArea in the Shape class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e want to force all shapes to provide an implementation for getAre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4094280" y="1676520"/>
            <a:ext cx="1628640" cy="387360"/>
          </a:xfrm>
          <a:prstGeom prst="rect">
            <a:avLst/>
          </a:prstGeom>
          <a:solidFill>
            <a:srgbClr val="ffff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urier New"/>
              </a:rPr>
              <a:t>Tri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5605560" y="1181160"/>
            <a:ext cx="228600" cy="228600"/>
          </a:xfrm>
          <a:prstGeom prst="triangle">
            <a:avLst>
              <a:gd name="adj" fmla="val 444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5778360" y="1676520"/>
            <a:ext cx="1629000" cy="387360"/>
          </a:xfrm>
          <a:prstGeom prst="rect">
            <a:avLst/>
          </a:prstGeom>
          <a:solidFill>
            <a:srgbClr val="ffff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urier New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397240" y="1676520"/>
            <a:ext cx="1628640" cy="387360"/>
          </a:xfrm>
          <a:prstGeom prst="rect">
            <a:avLst/>
          </a:prstGeom>
          <a:solidFill>
            <a:srgbClr val="ffff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urier New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8"/>
          <p:cNvCxnSpPr>
            <a:stCxn id="215" idx="0"/>
            <a:endCxn id="213" idx="3"/>
          </p:cNvCxnSpPr>
          <p:nvPr/>
        </p:nvCxnSpPr>
        <p:spPr>
          <a:xfrm flipH="1" flipV="1" rot="5400000">
            <a:off x="4331880" y="288360"/>
            <a:ext cx="267120" cy="25088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" name="AutoShape 9"/>
          <p:cNvCxnSpPr>
            <a:stCxn id="212" idx="0"/>
            <a:endCxn id="213" idx="3"/>
          </p:cNvCxnSpPr>
          <p:nvPr/>
        </p:nvCxnSpPr>
        <p:spPr>
          <a:xfrm flipH="1" flipV="1" rot="5400000">
            <a:off x="5180400" y="1136880"/>
            <a:ext cx="267120" cy="81180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8" name="AutoShape 10"/>
          <p:cNvCxnSpPr>
            <a:stCxn id="214" idx="0"/>
            <a:endCxn id="213" idx="3"/>
          </p:cNvCxnSpPr>
          <p:nvPr/>
        </p:nvCxnSpPr>
        <p:spPr>
          <a:xfrm flipV="1" rot="16200000">
            <a:off x="6022800" y="1105560"/>
            <a:ext cx="267120" cy="8740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9" name="Rectangle 11"/>
          <p:cNvSpPr/>
          <p:nvPr/>
        </p:nvSpPr>
        <p:spPr>
          <a:xfrm>
            <a:off x="7515360" y="1676520"/>
            <a:ext cx="1628640" cy="387360"/>
          </a:xfrm>
          <a:prstGeom prst="rect">
            <a:avLst/>
          </a:prstGeom>
          <a:solidFill>
            <a:srgbClr val="ffff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urier New"/>
              </a:rPr>
              <a:t>Hexa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AutoShape 12"/>
          <p:cNvCxnSpPr>
            <a:stCxn id="219" idx="0"/>
            <a:endCxn id="213" idx="3"/>
          </p:cNvCxnSpPr>
          <p:nvPr/>
        </p:nvCxnSpPr>
        <p:spPr>
          <a:xfrm flipV="1" rot="16200000">
            <a:off x="6891120" y="237240"/>
            <a:ext cx="267120" cy="261072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21" name="Group 13"/>
          <p:cNvGrpSpPr/>
          <p:nvPr/>
        </p:nvGrpSpPr>
        <p:grpSpPr>
          <a:xfrm>
            <a:off x="4886280" y="158760"/>
            <a:ext cx="2566800" cy="1049400"/>
            <a:chOff x="4886280" y="158760"/>
            <a:chExt cx="2566800" cy="1049400"/>
          </a:xfrm>
        </p:grpSpPr>
        <p:sp>
          <p:nvSpPr>
            <p:cNvPr id="222" name="Rectangle 14"/>
            <p:cNvSpPr/>
            <p:nvPr/>
          </p:nvSpPr>
          <p:spPr>
            <a:xfrm>
              <a:off x="4886280" y="530280"/>
              <a:ext cx="2566800" cy="677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804000"/>
                  </a:solidFill>
                  <a:latin typeface="Courier New"/>
                </a:rPr>
                <a:t>getArea(): dou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4000"/>
                  </a:solidFill>
                  <a:latin typeface="Courier New"/>
                </a:rPr>
                <a:t>setColour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15"/>
            <p:cNvSpPr/>
            <p:nvPr/>
          </p:nvSpPr>
          <p:spPr>
            <a:xfrm>
              <a:off x="4886280" y="158760"/>
              <a:ext cx="2566800" cy="372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804000"/>
                  </a:solidFill>
                  <a:latin typeface="Courier New"/>
                </a:rPr>
                <a:t>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Picture 2" descr="Image result for think"/>
          <p:cNvPicPr/>
          <p:nvPr/>
        </p:nvPicPr>
        <p:blipFill>
          <a:blip r:embed="rId1"/>
          <a:stretch/>
        </p:blipFill>
        <p:spPr>
          <a:xfrm>
            <a:off x="0" y="6480"/>
            <a:ext cx="337176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B87F-5871-4672-A85B-308C393D7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520" y="16394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cl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object withou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fi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rebuchet MS"/>
              </a:rPr>
              <a:t>Person 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ly, you can declare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out defining 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rebuchet MS"/>
              </a:rPr>
              <a:t>public</a:t>
            </a:r>
            <a:r>
              <a:rPr b="0" lang="en-US" sz="2800" spc="-1" strike="noStrike">
                <a:solidFill>
                  <a:srgbClr val="ffff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bstract</a:t>
            </a:r>
            <a:r>
              <a:rPr b="0" lang="en-US" sz="2800" spc="-1" strike="noStrike">
                <a:solidFill>
                  <a:srgbClr val="ffff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Trebuchet MS"/>
              </a:rPr>
              <a:t>void draw(int siz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ce that the body of the method is mi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hod that has been declared but not defined is a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bstract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© S. Uchitel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bstract Methods in Ja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320" y="1447560"/>
            <a:ext cx="441936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600" spc="-1" strike="noStrike">
                <a:solidFill>
                  <a:srgbClr val="ff6600"/>
                </a:solidFill>
                <a:latin typeface="Courier New"/>
              </a:rPr>
              <a:t>abstra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lass Shape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nal static int BLACK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 int colou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hape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lour = BLAC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etColour(int c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his.colour = 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1600" spc="-1" strike="noStrike">
                <a:solidFill>
                  <a:srgbClr val="ff6600"/>
                </a:solidFill>
                <a:latin typeface="Courier New"/>
              </a:rPr>
              <a:t>abstrac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double getArea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33840" y="3352680"/>
            <a:ext cx="461016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class Circle extends Shap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tatic double PI = 3.1419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ivate int radiu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Circle(int r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dius = 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double getArea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(radius^2)*P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Group 7"/>
          <p:cNvGrpSpPr/>
          <p:nvPr/>
        </p:nvGrpSpPr>
        <p:grpSpPr>
          <a:xfrm>
            <a:off x="5257800" y="1295280"/>
            <a:ext cx="2566800" cy="1049400"/>
            <a:chOff x="5257800" y="1295280"/>
            <a:chExt cx="2566800" cy="1049400"/>
          </a:xfrm>
        </p:grpSpPr>
        <p:sp>
          <p:nvSpPr>
            <p:cNvPr id="233" name="Rectangle 8"/>
            <p:cNvSpPr/>
            <p:nvPr/>
          </p:nvSpPr>
          <p:spPr>
            <a:xfrm>
              <a:off x="5257800" y="1666800"/>
              <a:ext cx="2566800" cy="677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804000"/>
                  </a:solidFill>
                  <a:latin typeface="Courier New"/>
                </a:rPr>
                <a:t>getArea(): dou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4000"/>
                  </a:solidFill>
                  <a:latin typeface="Courier New"/>
                </a:rPr>
                <a:t>setColour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9"/>
            <p:cNvSpPr/>
            <p:nvPr/>
          </p:nvSpPr>
          <p:spPr>
            <a:xfrm>
              <a:off x="5257800" y="1295280"/>
              <a:ext cx="2566800" cy="372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804000"/>
                  </a:solidFill>
                  <a:latin typeface="Courier New"/>
                </a:rPr>
                <a:t>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AutoShape 11"/>
          <p:cNvSpPr/>
          <p:nvPr/>
        </p:nvSpPr>
        <p:spPr>
          <a:xfrm>
            <a:off x="6453360" y="2362320"/>
            <a:ext cx="228600" cy="228600"/>
          </a:xfrm>
          <a:prstGeom prst="triangle">
            <a:avLst>
              <a:gd name="adj" fmla="val 444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5738760" y="2813040"/>
            <a:ext cx="1629000" cy="387360"/>
          </a:xfrm>
          <a:prstGeom prst="rect">
            <a:avLst/>
          </a:prstGeom>
          <a:solidFill>
            <a:srgbClr val="ffff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urier New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AutoShape 13"/>
          <p:cNvCxnSpPr>
            <a:stCxn id="236" idx="0"/>
            <a:endCxn id="235" idx="3"/>
          </p:cNvCxnSpPr>
          <p:nvPr/>
        </p:nvCxnSpPr>
        <p:spPr>
          <a:xfrm flipH="1" flipV="1" rot="5400000">
            <a:off x="6449040" y="2694240"/>
            <a:ext cx="222840" cy="1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38" name="AutoShape 16"/>
          <p:cNvSpPr/>
          <p:nvPr/>
        </p:nvSpPr>
        <p:spPr>
          <a:xfrm>
            <a:off x="3733920" y="6019920"/>
            <a:ext cx="4724280" cy="685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mic Sans MS"/>
              </a:rPr>
              <a:t>If Circle did not implement getArea()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mic Sans MS"/>
              </a:rPr>
              <a:t>it would have to be declared abstract to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609480" y="4876920"/>
            <a:ext cx="2743200" cy="9903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mic Sans MS"/>
              </a:rPr>
              <a:t>Abstract metho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mic Sans MS"/>
              </a:rPr>
              <a:t>have no bod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DC7C-9EB6-4072-87BF-8937A1AE3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964F-5EE9-4FA0-ADD5-E5E70A42D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0" y="146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0" y="146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stract Classes and Abstract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5"/>
          <p:cNvSpPr/>
          <p:nvPr/>
        </p:nvSpPr>
        <p:spPr>
          <a:xfrm>
            <a:off x="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19" descr=""/>
          <p:cNvPicPr/>
          <p:nvPr/>
        </p:nvPicPr>
        <p:blipFill>
          <a:blip r:embed="rId1"/>
          <a:stretch/>
        </p:blipFill>
        <p:spPr>
          <a:xfrm>
            <a:off x="995400" y="660240"/>
            <a:ext cx="7462800" cy="573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2F6A-A136-422C-B6AE-AAEB0B024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2345-6570-434F-9E0A-47A442D40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0" y="146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0" y="146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stract Classes and Abstract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23">
            <a:hlinkClick r:id="rId1"/>
          </p:cNvPr>
          <p:cNvSpPr/>
          <p:nvPr/>
        </p:nvSpPr>
        <p:spPr>
          <a:xfrm>
            <a:off x="7315200" y="548640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5"/>
          <p:cNvSpPr/>
          <p:nvPr/>
        </p:nvSpPr>
        <p:spPr>
          <a:xfrm>
            <a:off x="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9" descr=""/>
          <p:cNvPicPr/>
          <p:nvPr/>
        </p:nvPicPr>
        <p:blipFill>
          <a:blip r:embed="rId2"/>
          <a:stretch/>
        </p:blipFill>
        <p:spPr>
          <a:xfrm>
            <a:off x="42840" y="660240"/>
            <a:ext cx="7462800" cy="573912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20"/>
          <p:cNvSpPr/>
          <p:nvPr/>
        </p:nvSpPr>
        <p:spPr>
          <a:xfrm>
            <a:off x="7162920" y="1905120"/>
            <a:ext cx="1066680" cy="457200"/>
          </a:xfrm>
          <a:custGeom>
            <a:avLst/>
            <a:gdLst>
              <a:gd name="textAreaLeft" fmla="*/ 29520 w 1066680"/>
              <a:gd name="textAreaRight" fmla="*/ 1037160 w 1066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372" h="21600">
                <a:moveTo>
                  <a:pt x="0" y="0"/>
                </a:moveTo>
                <a:lnTo>
                  <a:pt x="50372" y="0"/>
                </a:lnTo>
                <a:lnTo>
                  <a:pt x="50372" y="21600"/>
                </a:lnTo>
                <a:lnTo>
                  <a:pt x="0" y="21600"/>
                </a:lnTo>
                <a:close/>
              </a:path>
              <a:path fill="lightenLess" w="50372" h="21600">
                <a:moveTo>
                  <a:pt x="0" y="0"/>
                </a:moveTo>
                <a:lnTo>
                  <a:pt x="50372" y="0"/>
                </a:lnTo>
                <a:lnTo>
                  <a:pt x="48972" y="1400"/>
                </a:lnTo>
                <a:lnTo>
                  <a:pt x="1400" y="1400"/>
                </a:lnTo>
                <a:close/>
              </a:path>
              <a:path fill="darken" w="50372" h="21600">
                <a:moveTo>
                  <a:pt x="50372" y="0"/>
                </a:moveTo>
                <a:lnTo>
                  <a:pt x="50372" y="21600"/>
                </a:lnTo>
                <a:lnTo>
                  <a:pt x="48972" y="20200"/>
                </a:lnTo>
                <a:lnTo>
                  <a:pt x="48972" y="1400"/>
                </a:lnTo>
                <a:close/>
              </a:path>
              <a:path fill="darkenLess" w="50372" h="21600">
                <a:moveTo>
                  <a:pt x="50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2" y="20200"/>
                </a:lnTo>
                <a:close/>
              </a:path>
              <a:path fill="lighten" w="50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Book Antiqua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21"/>
          <p:cNvSpPr/>
          <p:nvPr/>
        </p:nvSpPr>
        <p:spPr>
          <a:xfrm>
            <a:off x="7162920" y="26668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Book Antiqua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22"/>
          <p:cNvSpPr/>
          <p:nvPr/>
        </p:nvSpPr>
        <p:spPr>
          <a:xfrm>
            <a:off x="6705720" y="4495680"/>
            <a:ext cx="2438280" cy="457200"/>
          </a:xfrm>
          <a:custGeom>
            <a:avLst/>
            <a:gdLst>
              <a:gd name="textAreaLeft" fmla="*/ 29520 w 2438280"/>
              <a:gd name="textAreaRight" fmla="*/ 2408760 w 2438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15121" h="21600">
                <a:moveTo>
                  <a:pt x="0" y="0"/>
                </a:moveTo>
                <a:lnTo>
                  <a:pt x="115121" y="0"/>
                </a:lnTo>
                <a:lnTo>
                  <a:pt x="115121" y="21600"/>
                </a:lnTo>
                <a:lnTo>
                  <a:pt x="0" y="21600"/>
                </a:lnTo>
                <a:close/>
              </a:path>
              <a:path fill="lightenLess" w="115121" h="21600">
                <a:moveTo>
                  <a:pt x="0" y="0"/>
                </a:moveTo>
                <a:lnTo>
                  <a:pt x="115121" y="0"/>
                </a:lnTo>
                <a:lnTo>
                  <a:pt x="113721" y="1400"/>
                </a:lnTo>
                <a:lnTo>
                  <a:pt x="1400" y="1400"/>
                </a:lnTo>
                <a:close/>
              </a:path>
              <a:path fill="darken" w="115121" h="21600">
                <a:moveTo>
                  <a:pt x="115121" y="0"/>
                </a:moveTo>
                <a:lnTo>
                  <a:pt x="115121" y="21600"/>
                </a:lnTo>
                <a:lnTo>
                  <a:pt x="113721" y="20200"/>
                </a:lnTo>
                <a:lnTo>
                  <a:pt x="113721" y="1400"/>
                </a:lnTo>
                <a:close/>
              </a:path>
              <a:path fill="darkenLess" w="115121" h="21600">
                <a:moveTo>
                  <a:pt x="115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21" y="20200"/>
                </a:lnTo>
                <a:close/>
              </a:path>
              <a:path fill="lighten" w="115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Book Antiqua"/>
              </a:rPr>
              <a:t>TestGeometric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14"/>
          <p:cNvSpPr/>
          <p:nvPr/>
        </p:nvSpPr>
        <p:spPr>
          <a:xfrm>
            <a:off x="6553080" y="114300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5"/>
          <p:cNvSpPr/>
          <p:nvPr/>
        </p:nvSpPr>
        <p:spPr>
          <a:xfrm>
            <a:off x="6553080" y="1905120"/>
            <a:ext cx="468360" cy="57600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000"/>
              <a:gd name="textAreaBottom" fmla="*/ 545760 h 576000"/>
            </a:gdLst>
            <a:ahLst/>
            <a:rect l="textAreaLeft" t="textAreaTop" r="textAreaRight" b="textAreaBottom"/>
            <a:pathLst>
              <a:path w="21600" h="26560">
                <a:moveTo>
                  <a:pt x="0" y="0"/>
                </a:moveTo>
                <a:lnTo>
                  <a:pt x="21600" y="0"/>
                </a:lnTo>
                <a:lnTo>
                  <a:pt x="21600" y="26560"/>
                </a:lnTo>
                <a:lnTo>
                  <a:pt x="0" y="26560"/>
                </a:lnTo>
                <a:close/>
              </a:path>
              <a:path fill="lightenLess" w="21600" h="265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60">
                <a:moveTo>
                  <a:pt x="21600" y="0"/>
                </a:moveTo>
                <a:lnTo>
                  <a:pt x="21600" y="26560"/>
                </a:lnTo>
                <a:lnTo>
                  <a:pt x="20200" y="25160"/>
                </a:lnTo>
                <a:lnTo>
                  <a:pt x="20200" y="1400"/>
                </a:lnTo>
                <a:close/>
              </a:path>
              <a:path fill="darkenLess" w="21600" h="26560">
                <a:moveTo>
                  <a:pt x="21600" y="26560"/>
                </a:moveTo>
                <a:lnTo>
                  <a:pt x="0" y="26560"/>
                </a:lnTo>
                <a:lnTo>
                  <a:pt x="1400" y="25160"/>
                </a:lnTo>
                <a:lnTo>
                  <a:pt x="20200" y="25160"/>
                </a:lnTo>
                <a:close/>
              </a:path>
              <a:path fill="lighten" w="21600" h="26560">
                <a:moveTo>
                  <a:pt x="0" y="265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60"/>
                </a:lnTo>
                <a:close/>
              </a:path>
              <a:path fill="darkenLess" w="21600" h="26560">
                <a:moveTo>
                  <a:pt x="5273" y="6465"/>
                </a:moveTo>
                <a:lnTo>
                  <a:pt x="12271" y="6465"/>
                </a:lnTo>
                <a:lnTo>
                  <a:pt x="16327" y="9964"/>
                </a:lnTo>
                <a:lnTo>
                  <a:pt x="16327" y="20095"/>
                </a:lnTo>
                <a:lnTo>
                  <a:pt x="5273" y="20095"/>
                </a:lnTo>
                <a:close/>
              </a:path>
              <a:path fill="darken" w="21600" h="26560">
                <a:moveTo>
                  <a:pt x="12271" y="6465"/>
                </a:moveTo>
                <a:lnTo>
                  <a:pt x="16327" y="9964"/>
                </a:lnTo>
                <a:lnTo>
                  <a:pt x="12271" y="9964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16"/>
          <p:cNvSpPr/>
          <p:nvPr/>
        </p:nvSpPr>
        <p:spPr>
          <a:xfrm>
            <a:off x="6553080" y="266688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17"/>
          <p:cNvSpPr/>
          <p:nvPr/>
        </p:nvSpPr>
        <p:spPr>
          <a:xfrm>
            <a:off x="6324480" y="4191120"/>
            <a:ext cx="468360" cy="57600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000"/>
              <a:gd name="textAreaBottom" fmla="*/ 545760 h 576000"/>
            </a:gdLst>
            <a:ahLst/>
            <a:rect l="textAreaLeft" t="textAreaTop" r="textAreaRight" b="textAreaBottom"/>
            <a:pathLst>
              <a:path w="21600" h="26560">
                <a:moveTo>
                  <a:pt x="0" y="0"/>
                </a:moveTo>
                <a:lnTo>
                  <a:pt x="21600" y="0"/>
                </a:lnTo>
                <a:lnTo>
                  <a:pt x="21600" y="26560"/>
                </a:lnTo>
                <a:lnTo>
                  <a:pt x="0" y="26560"/>
                </a:lnTo>
                <a:close/>
              </a:path>
              <a:path fill="lightenLess" w="21600" h="265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60">
                <a:moveTo>
                  <a:pt x="21600" y="0"/>
                </a:moveTo>
                <a:lnTo>
                  <a:pt x="21600" y="26560"/>
                </a:lnTo>
                <a:lnTo>
                  <a:pt x="20200" y="25160"/>
                </a:lnTo>
                <a:lnTo>
                  <a:pt x="20200" y="1400"/>
                </a:lnTo>
                <a:close/>
              </a:path>
              <a:path fill="darkenLess" w="21600" h="26560">
                <a:moveTo>
                  <a:pt x="21600" y="26560"/>
                </a:moveTo>
                <a:lnTo>
                  <a:pt x="0" y="26560"/>
                </a:lnTo>
                <a:lnTo>
                  <a:pt x="1400" y="25160"/>
                </a:lnTo>
                <a:lnTo>
                  <a:pt x="20200" y="25160"/>
                </a:lnTo>
                <a:close/>
              </a:path>
              <a:path fill="lighten" w="21600" h="26560">
                <a:moveTo>
                  <a:pt x="0" y="265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60"/>
                </a:lnTo>
                <a:close/>
              </a:path>
              <a:path fill="darkenLess" w="21600" h="26560">
                <a:moveTo>
                  <a:pt x="5273" y="6465"/>
                </a:moveTo>
                <a:lnTo>
                  <a:pt x="12271" y="6465"/>
                </a:lnTo>
                <a:lnTo>
                  <a:pt x="16327" y="9964"/>
                </a:lnTo>
                <a:lnTo>
                  <a:pt x="16327" y="20095"/>
                </a:lnTo>
                <a:lnTo>
                  <a:pt x="5273" y="20095"/>
                </a:lnTo>
                <a:close/>
              </a:path>
              <a:path fill="darken" w="21600" h="26560">
                <a:moveTo>
                  <a:pt x="12271" y="6465"/>
                </a:moveTo>
                <a:lnTo>
                  <a:pt x="16327" y="9964"/>
                </a:lnTo>
                <a:lnTo>
                  <a:pt x="12271" y="9964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7162920" y="121932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Book Antiqua"/>
              </a:rPr>
              <a:t>Geometric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6989-2892-4C1A-815F-4731CFCD8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01C0-BBAA-4688-BC2A-B869C145B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207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method in abstract clas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04920" y="1219320"/>
            <a:ext cx="830556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subclas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fi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l the inherite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bstract meth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t is 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and can be instant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subclass does not defin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inherited abstract methods, it to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ust be abs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ass that contain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bstract metho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bstra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nabstrac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 extended from an abstract class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abstract method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ust be implemen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ven if they are not used in the sub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0D36-346F-4ED6-8A83-5BCBA4FB9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4063-3147-40AD-B3C5-0E7E3C6C6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304920" y="1828800"/>
            <a:ext cx="853416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possible to define an abstract class that contain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bstract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events the class from being instanti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bclass can b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bstr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ven if its superclass i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ncr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 class is concrete, but its subclasses, such as Shape may be abstr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7207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method in abstract clas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4D14-0CE7-49E5-9371-0CEFC771F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33520" y="3276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Are the following codes correct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hape someShape = new Sta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omeShape.dra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Solutions?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038480" y="304920"/>
            <a:ext cx="3902040" cy="30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ass Shape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ass Star extends Shape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void draw() { ...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ass Circle extends Shape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void draw() { ...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2" descr="Image result for think"/>
          <p:cNvPicPr/>
          <p:nvPr/>
        </p:nvPicPr>
        <p:blipFill>
          <a:blip r:embed="rId1"/>
          <a:stretch/>
        </p:blipFill>
        <p:spPr>
          <a:xfrm>
            <a:off x="0" y="648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4017960" y="4200480"/>
            <a:ext cx="440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s legal, because a Star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2598840" y="4664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s a syntax error, becaus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969696"/>
                </a:solidFill>
                <a:latin typeface="Trebuchet MS"/>
              </a:rPr>
              <a:t>Sha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ight not have a </a:t>
            </a:r>
            <a:r>
              <a:rPr b="0" lang="en-US" sz="1800" spc="-1" strike="noStrike">
                <a:solidFill>
                  <a:srgbClr val="969696"/>
                </a:solidFill>
                <a:latin typeface="Trebuchet MS"/>
              </a:rPr>
              <a:t>draw(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ember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 class knows its superclass, but not its sub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3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BABC-3FEA-42C0-B14A-DFFC100B6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533520" y="3276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Are the following codes correct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hape someShape = new Sta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hape someShape = new Shap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omeShape.dra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4038480" y="304920"/>
            <a:ext cx="3902040" cy="30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class Shape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public 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void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 draw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ass Star extends Shape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void draw() { ...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ass Crescent extends Shape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void draw()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2" descr="Image result for think"/>
          <p:cNvPicPr/>
          <p:nvPr/>
        </p:nvPicPr>
        <p:blipFill>
          <a:blip r:embed="rId1"/>
          <a:stretch/>
        </p:blipFill>
        <p:spPr>
          <a:xfrm>
            <a:off x="0" y="648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3"/>
          <p:cNvSpPr/>
          <p:nvPr/>
        </p:nvSpPr>
        <p:spPr>
          <a:xfrm>
            <a:off x="4017960" y="4200480"/>
            <a:ext cx="440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s legal, because a Star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 long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2743200" y="5289480"/>
            <a:ext cx="45720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s legal, because every actual instanc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ave a </a:t>
            </a:r>
            <a:r>
              <a:rPr b="0" lang="en-US" sz="1800" spc="-1" strike="noStrike">
                <a:solidFill>
                  <a:srgbClr val="969696"/>
                </a:solidFill>
                <a:latin typeface="Trebuchet MS"/>
              </a:rPr>
              <a:t>draw(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2889-2BBF-4382-83B6-9BCFCF765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D2FB-CBAD-4936-BE65-AB7A1CEBB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8480" y="1371600"/>
            <a:ext cx="8915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358920" indent="-355680">
              <a:spcBef>
                <a:spcPts val="601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sign and use abstract classes (§15.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355680">
              <a:spcBef>
                <a:spcPts val="601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sign and u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tract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§15.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355680">
              <a:spcBef>
                <a:spcPts val="601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eneralize numeric wrapper classes using the abstrac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(§15.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© S. Uchitel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304920" y="2205000"/>
            <a:ext cx="39081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19240" indent="-2192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Object s = new GeometricObject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Object s = new Circle(4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uble area = s.getArea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ircle c = new Circle(3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.setColour(GREEN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 = c.getArea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2" descr="Image result for think"/>
          <p:cNvPicPr/>
          <p:nvPr/>
        </p:nvPicPr>
        <p:blipFill>
          <a:blip r:embed="rId1"/>
          <a:stretch/>
        </p:blipFill>
        <p:spPr>
          <a:xfrm>
            <a:off x="0" y="648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288" name="TextBox 6"/>
          <p:cNvSpPr/>
          <p:nvPr/>
        </p:nvSpPr>
        <p:spPr>
          <a:xfrm>
            <a:off x="4343400" y="217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Box 7"/>
          <p:cNvSpPr/>
          <p:nvPr/>
        </p:nvSpPr>
        <p:spPr>
          <a:xfrm>
            <a:off x="4343400" y="30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8"/>
          <p:cNvSpPr/>
          <p:nvPr/>
        </p:nvSpPr>
        <p:spPr>
          <a:xfrm>
            <a:off x="4324320" y="3681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9"/>
          <p:cNvSpPr/>
          <p:nvPr/>
        </p:nvSpPr>
        <p:spPr>
          <a:xfrm>
            <a:off x="4267080" y="4262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10"/>
          <p:cNvSpPr/>
          <p:nvPr/>
        </p:nvSpPr>
        <p:spPr>
          <a:xfrm>
            <a:off x="4267080" y="47912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11"/>
          <p:cNvSpPr/>
          <p:nvPr/>
        </p:nvSpPr>
        <p:spPr>
          <a:xfrm>
            <a:off x="4343400" y="5176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1" descr=""/>
          <p:cNvPicPr/>
          <p:nvPr/>
        </p:nvPicPr>
        <p:blipFill>
          <a:blip r:embed="rId2"/>
          <a:stretch/>
        </p:blipFill>
        <p:spPr>
          <a:xfrm>
            <a:off x="6095880" y="163440"/>
            <a:ext cx="2800440" cy="35704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"/>
          <p:cNvPicPr/>
          <p:nvPr/>
        </p:nvPicPr>
        <p:blipFill>
          <a:blip r:embed="rId3"/>
          <a:stretch/>
        </p:blipFill>
        <p:spPr>
          <a:xfrm>
            <a:off x="4854600" y="3714840"/>
            <a:ext cx="3054240" cy="28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AF1A-536E-435A-BA21-4DAB7774F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1248-A934-4056-8752-7DCC66E3D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rete method overridden to be abstr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609480" y="3117960"/>
            <a:ext cx="8001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happened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bclass can override a method from its superclass to define it abstra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y ? For what reason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rare, but useful when the implementation of the method in the superclass becomes invalid in the subclass. In this case, the subclass must be defined abstra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"/>
          <p:cNvSpPr/>
          <p:nvPr/>
        </p:nvSpPr>
        <p:spPr>
          <a:xfrm>
            <a:off x="380880" y="1447920"/>
            <a:ext cx="5562720" cy="18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Object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ring toString(){…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Animal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abstract String toString()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232A-9DD2-44E7-BBCD-053D15808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5C50-00AA-4CE2-A0C4-6F19C4645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se Study: the Abstract Number Clas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0" y="446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22"/>
          <p:cNvSpPr/>
          <p:nvPr/>
        </p:nvSpPr>
        <p:spPr>
          <a:xfrm>
            <a:off x="4648320" y="5486400"/>
            <a:ext cx="2438280" cy="457200"/>
          </a:xfrm>
          <a:custGeom>
            <a:avLst/>
            <a:gdLst>
              <a:gd name="textAreaLeft" fmla="*/ 29520 w 2438280"/>
              <a:gd name="textAreaRight" fmla="*/ 2408760 w 2438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15121" h="21600">
                <a:moveTo>
                  <a:pt x="0" y="0"/>
                </a:moveTo>
                <a:lnTo>
                  <a:pt x="115121" y="0"/>
                </a:lnTo>
                <a:lnTo>
                  <a:pt x="115121" y="21600"/>
                </a:lnTo>
                <a:lnTo>
                  <a:pt x="0" y="21600"/>
                </a:lnTo>
                <a:close/>
              </a:path>
              <a:path fill="lightenLess" w="115121" h="21600">
                <a:moveTo>
                  <a:pt x="0" y="0"/>
                </a:moveTo>
                <a:lnTo>
                  <a:pt x="115121" y="0"/>
                </a:lnTo>
                <a:lnTo>
                  <a:pt x="113721" y="1400"/>
                </a:lnTo>
                <a:lnTo>
                  <a:pt x="1400" y="1400"/>
                </a:lnTo>
                <a:close/>
              </a:path>
              <a:path fill="darken" w="115121" h="21600">
                <a:moveTo>
                  <a:pt x="115121" y="0"/>
                </a:moveTo>
                <a:lnTo>
                  <a:pt x="115121" y="21600"/>
                </a:lnTo>
                <a:lnTo>
                  <a:pt x="113721" y="20200"/>
                </a:lnTo>
                <a:lnTo>
                  <a:pt x="113721" y="1400"/>
                </a:lnTo>
                <a:close/>
              </a:path>
              <a:path fill="darkenLess" w="115121" h="21600">
                <a:moveTo>
                  <a:pt x="115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21" y="20200"/>
                </a:lnTo>
                <a:close/>
              </a:path>
              <a:path fill="lighten" w="115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Book Antiqua"/>
              </a:rPr>
              <a:t>Largest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23">
            <a:hlinkClick r:id="rId1"/>
          </p:cNvPr>
          <p:cNvSpPr/>
          <p:nvPr/>
        </p:nvSpPr>
        <p:spPr>
          <a:xfrm>
            <a:off x="7315200" y="548640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11"/>
          <p:cNvSpPr/>
          <p:nvPr/>
        </p:nvSpPr>
        <p:spPr>
          <a:xfrm>
            <a:off x="4038480" y="541008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12" descr=""/>
          <p:cNvPicPr/>
          <p:nvPr/>
        </p:nvPicPr>
        <p:blipFill>
          <a:blip r:embed="rId2"/>
          <a:stretch/>
        </p:blipFill>
        <p:spPr>
          <a:xfrm>
            <a:off x="-15840" y="1795320"/>
            <a:ext cx="9159840" cy="30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1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DBC2-893A-4202-A0B1-1A91128C2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"/>
          <p:cNvSpPr/>
          <p:nvPr/>
        </p:nvSpPr>
        <p:spPr>
          <a:xfrm>
            <a:off x="-122400" y="56520"/>
            <a:ext cx="8855640" cy="61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LargestNumber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     </a:t>
            </a: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main(String[] args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rrayList&lt;Number&gt; list = </a:t>
            </a: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ArrayList&lt;&gt;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list.add(</a:t>
            </a:r>
            <a:r>
              <a:rPr b="1" lang="en-US" sz="1800" spc="-1" strike="noStrike">
                <a:solidFill>
                  <a:srgbClr val="3366ff"/>
                </a:solidFill>
                <a:latin typeface="Arial Unicode MS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list.add(</a:t>
            </a:r>
            <a:r>
              <a:rPr b="1" lang="en-US" sz="1800" spc="-1" strike="noStrike">
                <a:solidFill>
                  <a:srgbClr val="3366ff"/>
                </a:solidFill>
                <a:latin typeface="Arial Unicode MS"/>
              </a:rPr>
              <a:t>3445.53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list.add(</a:t>
            </a:r>
            <a:r>
              <a:rPr b="1" lang="en-US" sz="1800" spc="-1" strike="noStrike">
                <a:solidFill>
                  <a:srgbClr val="3366ff"/>
                </a:solidFill>
                <a:latin typeface="Arial Unicode MS"/>
              </a:rPr>
              <a:t>33.9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list.add(</a:t>
            </a:r>
            <a:r>
              <a:rPr b="1" lang="en-US" sz="1800" spc="-1" strike="noStrike">
                <a:solidFill>
                  <a:srgbClr val="3366ff"/>
                </a:solidFill>
                <a:latin typeface="Arial Unicode MS"/>
              </a:rPr>
              <a:t>46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ystem.out.println(</a:t>
            </a:r>
            <a:r>
              <a:rPr b="1" lang="en-US" sz="1800" spc="-1" strike="noStrike">
                <a:solidFill>
                  <a:srgbClr val="3366ff"/>
                </a:solidFill>
                <a:latin typeface="Arial Unicode MS"/>
              </a:rPr>
              <a:t>"The largest number is "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+ getLargestNumber(list)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     </a:t>
            </a: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umber getLargestNumber(ArrayList&lt;Number&gt; list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(list == </a:t>
            </a: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|| list.size() == </a:t>
            </a:r>
            <a:r>
              <a:rPr b="1" lang="en-US" sz="1800" spc="-1" strike="noStrike">
                <a:solidFill>
                  <a:srgbClr val="3366ff"/>
                </a:solidFill>
                <a:latin typeface="Arial Unicode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umber number = list.get(</a:t>
            </a:r>
            <a:r>
              <a:rPr b="1" lang="en-US" sz="1800" spc="-1" strike="noStrike">
                <a:solidFill>
                  <a:srgbClr val="3366ff"/>
                </a:solidFill>
                <a:latin typeface="Arial Unicode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(</a:t>
            </a: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i = </a:t>
            </a:r>
            <a:r>
              <a:rPr b="1" lang="en-US" sz="1800" spc="-1" strike="noStrike">
                <a:solidFill>
                  <a:srgbClr val="3366ff"/>
                </a:solidFill>
                <a:latin typeface="Arial Unicode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; i &lt; list.size()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(number.doubleValue() &lt; list.get(i).doubleValue()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umber = list.get(i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umber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73280" y="29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Do you think it is logical to create an object of a class animal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6A2C-2A0E-4AB1-BB46-FBED185C5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http://2.bp.blogspot.com/-ZGFW_4_GYjo/UhN-U9MSvBI/AAAAAAAAAFw/QnuD2EiFeVY/s1600/14320804-ilustracion-de-dibujos-animados-de-animales.jpg"/>
          <p:cNvPicPr/>
          <p:nvPr/>
        </p:nvPicPr>
        <p:blipFill>
          <a:blip r:embed="rId1"/>
          <a:stretch/>
        </p:blipFill>
        <p:spPr>
          <a:xfrm>
            <a:off x="2705040" y="93600"/>
            <a:ext cx="3733920" cy="2790720"/>
          </a:xfrm>
          <a:prstGeom prst="rect">
            <a:avLst/>
          </a:prstGeom>
          <a:ln w="0">
            <a:noFill/>
          </a:ln>
        </p:spPr>
      </p:pic>
      <p:sp>
        <p:nvSpPr>
          <p:cNvPr id="153" name="Title 1"/>
          <p:cNvSpPr/>
          <p:nvPr/>
        </p:nvSpPr>
        <p:spPr>
          <a:xfrm>
            <a:off x="685800" y="4197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Do you think it is logical to create an object of a class Cat or Dog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773280" y="5224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So why we need The Animal Class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© S. Uchitel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920" y="2590560"/>
            <a:ext cx="815328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udents are either undergraduate, PhD or Ms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e want to guarantee that nobody creates a Student object. The application always creates a specific kind of Stud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How we can apply the abov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clare Student as abst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029"/>
          <p:cNvSpPr/>
          <p:nvPr/>
        </p:nvSpPr>
        <p:spPr>
          <a:xfrm>
            <a:off x="4973760" y="2127240"/>
            <a:ext cx="1628640" cy="387360"/>
          </a:xfrm>
          <a:prstGeom prst="rect">
            <a:avLst/>
          </a:prstGeom>
          <a:solidFill>
            <a:srgbClr val="ffff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urier New"/>
              </a:rPr>
              <a:t>PhdStu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31"/>
          <p:cNvSpPr/>
          <p:nvPr/>
        </p:nvSpPr>
        <p:spPr>
          <a:xfrm>
            <a:off x="6657840" y="2127240"/>
            <a:ext cx="1629000" cy="387360"/>
          </a:xfrm>
          <a:prstGeom prst="rect">
            <a:avLst/>
          </a:prstGeom>
          <a:solidFill>
            <a:srgbClr val="ffff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urier New"/>
              </a:rPr>
              <a:t>MscStu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032"/>
          <p:cNvSpPr/>
          <p:nvPr/>
        </p:nvSpPr>
        <p:spPr>
          <a:xfrm>
            <a:off x="3276720" y="2127240"/>
            <a:ext cx="1628640" cy="387360"/>
          </a:xfrm>
          <a:prstGeom prst="rect">
            <a:avLst/>
          </a:prstGeom>
          <a:solidFill>
            <a:srgbClr val="ffff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urier New"/>
              </a:rPr>
              <a:t>Undergr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AutoShape 1033"/>
          <p:cNvCxnSpPr>
            <a:stCxn id="159" idx="0"/>
            <a:endCxn id="161" idx="3"/>
          </p:cNvCxnSpPr>
          <p:nvPr/>
        </p:nvCxnSpPr>
        <p:spPr>
          <a:xfrm flipH="1" flipV="1" rot="5400000">
            <a:off x="4780080" y="1121040"/>
            <a:ext cx="316800" cy="1695960"/>
          </a:xfrm>
          <a:prstGeom prst="bentConnector3">
            <a:avLst>
              <a:gd name="adj1" fmla="val 497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AutoShape 1034"/>
          <p:cNvCxnSpPr>
            <a:stCxn id="157" idx="0"/>
            <a:endCxn id="161" idx="3"/>
          </p:cNvCxnSpPr>
          <p:nvPr/>
        </p:nvCxnSpPr>
        <p:spPr>
          <a:xfrm flipV="1" rot="16200000">
            <a:off x="5628600" y="1967760"/>
            <a:ext cx="316800" cy="2520"/>
          </a:xfrm>
          <a:prstGeom prst="bentConnector3">
            <a:avLst>
              <a:gd name="adj1" fmla="val 497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3" name="AutoShape 1035"/>
          <p:cNvCxnSpPr>
            <a:stCxn id="158" idx="0"/>
            <a:endCxn id="161" idx="3"/>
          </p:cNvCxnSpPr>
          <p:nvPr/>
        </p:nvCxnSpPr>
        <p:spPr>
          <a:xfrm flipV="1" rot="16200000">
            <a:off x="6471000" y="1125360"/>
            <a:ext cx="316800" cy="1686960"/>
          </a:xfrm>
          <a:prstGeom prst="bentConnector3">
            <a:avLst>
              <a:gd name="adj1" fmla="val 49715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64" name="Group 1040"/>
          <p:cNvGrpSpPr/>
          <p:nvPr/>
        </p:nvGrpSpPr>
        <p:grpSpPr>
          <a:xfrm>
            <a:off x="4629240" y="641520"/>
            <a:ext cx="2369880" cy="1169280"/>
            <a:chOff x="4629240" y="641520"/>
            <a:chExt cx="2369880" cy="1169280"/>
          </a:xfrm>
        </p:grpSpPr>
        <p:sp>
          <p:nvSpPr>
            <p:cNvPr id="165" name="Rectangle 1028"/>
            <p:cNvSpPr/>
            <p:nvPr/>
          </p:nvSpPr>
          <p:spPr>
            <a:xfrm>
              <a:off x="4629240" y="641520"/>
              <a:ext cx="2369880" cy="372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804000"/>
                  </a:solidFill>
                  <a:latin typeface="Courier New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1030"/>
            <p:cNvSpPr/>
            <p:nvPr/>
          </p:nvSpPr>
          <p:spPr>
            <a:xfrm>
              <a:off x="5672160" y="1582560"/>
              <a:ext cx="228240" cy="228240"/>
            </a:xfrm>
            <a:prstGeom prst="triangle">
              <a:avLst>
                <a:gd name="adj" fmla="val 4444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1037"/>
            <p:cNvSpPr/>
            <p:nvPr/>
          </p:nvSpPr>
          <p:spPr>
            <a:xfrm>
              <a:off x="4629240" y="1012680"/>
              <a:ext cx="2369880" cy="544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4000"/>
                  </a:solidFill>
                  <a:latin typeface="Courier New"/>
                </a:rPr>
                <a:t>getLogin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4000"/>
                  </a:solidFill>
                  <a:latin typeface="Courier New"/>
                </a:rPr>
                <a:t>setLogin(Strin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Picture 2" descr="Image result for think"/>
          <p:cNvPicPr/>
          <p:nvPr/>
        </p:nvPicPr>
        <p:blipFill>
          <a:blip r:embed="rId1"/>
          <a:stretch/>
        </p:blipFill>
        <p:spPr>
          <a:xfrm>
            <a:off x="0" y="6480"/>
            <a:ext cx="337176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04920" y="2590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udents are either undergraduate, PhD or Ms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e want to guarantee that nobody creates a Student object. The application always creates a specific kind of Stud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Why we have the Student class in the first pl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common implementation of common aspects of all students. (e.g. setLogin() and getLogin(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place holder in my hierarchy that corresponds to a significant concept in my problem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handle all students independently of their subclass using type Student and polymorphis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29"/>
          <p:cNvSpPr/>
          <p:nvPr/>
        </p:nvSpPr>
        <p:spPr>
          <a:xfrm>
            <a:off x="4973760" y="2127240"/>
            <a:ext cx="1628640" cy="387360"/>
          </a:xfrm>
          <a:prstGeom prst="rect">
            <a:avLst/>
          </a:prstGeom>
          <a:solidFill>
            <a:srgbClr val="ffff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urier New"/>
              </a:rPr>
              <a:t>PhdStu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031"/>
          <p:cNvSpPr/>
          <p:nvPr/>
        </p:nvSpPr>
        <p:spPr>
          <a:xfrm>
            <a:off x="6657840" y="2127240"/>
            <a:ext cx="1629000" cy="387360"/>
          </a:xfrm>
          <a:prstGeom prst="rect">
            <a:avLst/>
          </a:prstGeom>
          <a:solidFill>
            <a:srgbClr val="ffff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urier New"/>
              </a:rPr>
              <a:t>MscStu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32"/>
          <p:cNvSpPr/>
          <p:nvPr/>
        </p:nvSpPr>
        <p:spPr>
          <a:xfrm>
            <a:off x="3276720" y="2127240"/>
            <a:ext cx="1628640" cy="387360"/>
          </a:xfrm>
          <a:prstGeom prst="rect">
            <a:avLst/>
          </a:prstGeom>
          <a:solidFill>
            <a:srgbClr val="ffff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urier New"/>
              </a:rPr>
              <a:t>Undergr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AutoShape 1033"/>
          <p:cNvCxnSpPr>
            <a:stCxn id="171" idx="0"/>
            <a:endCxn id="173" idx="3"/>
          </p:cNvCxnSpPr>
          <p:nvPr/>
        </p:nvCxnSpPr>
        <p:spPr>
          <a:xfrm flipH="1" flipV="1" rot="5400000">
            <a:off x="4780080" y="1121040"/>
            <a:ext cx="316800" cy="1695960"/>
          </a:xfrm>
          <a:prstGeom prst="bentConnector3">
            <a:avLst>
              <a:gd name="adj1" fmla="val 497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AutoShape 1034"/>
          <p:cNvCxnSpPr>
            <a:stCxn id="169" idx="0"/>
            <a:endCxn id="173" idx="3"/>
          </p:cNvCxnSpPr>
          <p:nvPr/>
        </p:nvCxnSpPr>
        <p:spPr>
          <a:xfrm flipV="1" rot="16200000">
            <a:off x="5628600" y="1967760"/>
            <a:ext cx="316800" cy="2520"/>
          </a:xfrm>
          <a:prstGeom prst="bentConnector3">
            <a:avLst>
              <a:gd name="adj1" fmla="val 497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5" name="AutoShape 1035"/>
          <p:cNvCxnSpPr>
            <a:stCxn id="170" idx="0"/>
            <a:endCxn id="173" idx="3"/>
          </p:cNvCxnSpPr>
          <p:nvPr/>
        </p:nvCxnSpPr>
        <p:spPr>
          <a:xfrm flipV="1" rot="16200000">
            <a:off x="6471000" y="1125360"/>
            <a:ext cx="316800" cy="1686960"/>
          </a:xfrm>
          <a:prstGeom prst="bentConnector3">
            <a:avLst>
              <a:gd name="adj1" fmla="val 49715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76" name="Group 1040"/>
          <p:cNvGrpSpPr/>
          <p:nvPr/>
        </p:nvGrpSpPr>
        <p:grpSpPr>
          <a:xfrm>
            <a:off x="4629240" y="641520"/>
            <a:ext cx="2369880" cy="1169280"/>
            <a:chOff x="4629240" y="641520"/>
            <a:chExt cx="2369880" cy="1169280"/>
          </a:xfrm>
        </p:grpSpPr>
        <p:sp>
          <p:nvSpPr>
            <p:cNvPr id="177" name="Rectangle 1028"/>
            <p:cNvSpPr/>
            <p:nvPr/>
          </p:nvSpPr>
          <p:spPr>
            <a:xfrm>
              <a:off x="4629240" y="641520"/>
              <a:ext cx="2369880" cy="372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804000"/>
                  </a:solidFill>
                  <a:latin typeface="Courier New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AutoShape 1030"/>
            <p:cNvSpPr/>
            <p:nvPr/>
          </p:nvSpPr>
          <p:spPr>
            <a:xfrm>
              <a:off x="5672160" y="1582560"/>
              <a:ext cx="228240" cy="228240"/>
            </a:xfrm>
            <a:prstGeom prst="triangle">
              <a:avLst>
                <a:gd name="adj" fmla="val 4444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037"/>
            <p:cNvSpPr/>
            <p:nvPr/>
          </p:nvSpPr>
          <p:spPr>
            <a:xfrm>
              <a:off x="4629240" y="1012680"/>
              <a:ext cx="2369880" cy="544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4000"/>
                  </a:solidFill>
                  <a:latin typeface="Courier New"/>
                </a:rPr>
                <a:t>getLogin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4000"/>
                  </a:solidFill>
                  <a:latin typeface="Courier New"/>
                </a:rPr>
                <a:t>setLogin(Strin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9" name="Picture 2" descr="Image result for think"/>
          <p:cNvPicPr/>
          <p:nvPr/>
        </p:nvPicPr>
        <p:blipFill>
          <a:blip r:embed="rId1"/>
          <a:stretch/>
        </p:blipFill>
        <p:spPr>
          <a:xfrm>
            <a:off x="0" y="6480"/>
            <a:ext cx="337176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E083-1C80-4D0B-B205-6C427D74D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61680" y="1452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inheritance hierarchy, super classes become more general and subclasses become more specif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declare the class with the keyword </a:t>
            </a:r>
            <a:r>
              <a:rPr b="0" lang="en-US" sz="3200" spc="-1" strike="noStrike">
                <a:solidFill>
                  <a:srgbClr val="969696"/>
                </a:solidFill>
                <a:latin typeface="Trebuchet MS"/>
              </a:rPr>
              <a:t>abstr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bstract</a:t>
            </a:r>
            <a:r>
              <a:rPr b="0" lang="en-US" sz="2800" spc="-1" strike="noStrike">
                <a:solidFill>
                  <a:srgbClr val="ffff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Trebuchet MS"/>
              </a:rPr>
              <a:t>class MyClass {...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bstract class cannot be instantiated using the new oper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© S. Uchitel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bstract Classes in Ja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586728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600" spc="-1" strike="noStrike">
                <a:solidFill>
                  <a:srgbClr val="ff6600"/>
                </a:solidFill>
                <a:latin typeface="Courier New"/>
              </a:rPr>
              <a:t>abstra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lass Studen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String login, department,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udent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in = “”; department = “”; name = “”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etLogin(String login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his.login = new String(logi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ring getLogin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new String(logi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031"/>
          <p:cNvSpPr/>
          <p:nvPr/>
        </p:nvSpPr>
        <p:spPr>
          <a:xfrm>
            <a:off x="7118280" y="3467160"/>
            <a:ext cx="1629000" cy="387360"/>
          </a:xfrm>
          <a:prstGeom prst="rect">
            <a:avLst/>
          </a:prstGeom>
          <a:solidFill>
            <a:srgbClr val="ffff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urier New"/>
              </a:rPr>
              <a:t>PhdStu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AutoShape 1032"/>
          <p:cNvCxnSpPr>
            <a:stCxn id="186" idx="0"/>
            <a:endCxn id="188" idx="3"/>
          </p:cNvCxnSpPr>
          <p:nvPr/>
        </p:nvCxnSpPr>
        <p:spPr>
          <a:xfrm flipV="1" rot="16200000">
            <a:off x="7773480" y="3307680"/>
            <a:ext cx="316800" cy="2160"/>
          </a:xfrm>
          <a:prstGeom prst="bentConnector3">
            <a:avLst>
              <a:gd name="adj1" fmla="val 49715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89" name="Group 1033"/>
          <p:cNvGrpSpPr/>
          <p:nvPr/>
        </p:nvGrpSpPr>
        <p:grpSpPr>
          <a:xfrm>
            <a:off x="6773760" y="1981080"/>
            <a:ext cx="2370240" cy="1170000"/>
            <a:chOff x="6773760" y="1981080"/>
            <a:chExt cx="2370240" cy="1170000"/>
          </a:xfrm>
        </p:grpSpPr>
        <p:sp>
          <p:nvSpPr>
            <p:cNvPr id="190" name="Rectangle 1034"/>
            <p:cNvSpPr/>
            <p:nvPr/>
          </p:nvSpPr>
          <p:spPr>
            <a:xfrm>
              <a:off x="6773760" y="1981080"/>
              <a:ext cx="2370240" cy="373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804000"/>
                  </a:solidFill>
                  <a:latin typeface="Courier New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AutoShape 1035"/>
            <p:cNvSpPr/>
            <p:nvPr/>
          </p:nvSpPr>
          <p:spPr>
            <a:xfrm>
              <a:off x="7817040" y="2922480"/>
              <a:ext cx="228600" cy="228600"/>
            </a:xfrm>
            <a:prstGeom prst="triangle">
              <a:avLst>
                <a:gd name="adj" fmla="val 4444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036"/>
            <p:cNvSpPr/>
            <p:nvPr/>
          </p:nvSpPr>
          <p:spPr>
            <a:xfrm>
              <a:off x="6773760" y="2352600"/>
              <a:ext cx="237024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4000"/>
                  </a:solidFill>
                  <a:latin typeface="Courier New"/>
                </a:rPr>
                <a:t>getLogin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4000"/>
                  </a:solidFill>
                  <a:latin typeface="Courier New"/>
                </a:rPr>
                <a:t>setLogin(Strin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Rectangle 1037"/>
          <p:cNvSpPr/>
          <p:nvPr/>
        </p:nvSpPr>
        <p:spPr>
          <a:xfrm>
            <a:off x="3429000" y="5181480"/>
            <a:ext cx="571500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class PhdStudent extends Student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 String superviso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setSupervisor(String login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038"/>
          <p:cNvSpPr/>
          <p:nvPr/>
        </p:nvSpPr>
        <p:spPr>
          <a:xfrm>
            <a:off x="304920" y="5410080"/>
            <a:ext cx="2625480" cy="11527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mic Sans MS"/>
              </a:rPr>
              <a:t>PhdStudent is sa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mic Sans MS"/>
              </a:rPr>
              <a:t>to be a </a:t>
            </a:r>
            <a:r>
              <a:rPr b="1" lang="en-GB" sz="1800" spc="-1" strike="noStrike">
                <a:solidFill>
                  <a:srgbClr val="804000"/>
                </a:solidFill>
                <a:latin typeface="Comic Sans MS"/>
              </a:rPr>
              <a:t>concret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© S. Uchitel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bstract Classes in Ja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586728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600" spc="-1" strike="noStrike">
                <a:solidFill>
                  <a:srgbClr val="ff6600"/>
                </a:solidFill>
                <a:latin typeface="Courier New"/>
              </a:rPr>
              <a:t>abstra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lass Studen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String login, department,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udent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in = “”; department = “”; name = “”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etLogin(String login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his.login = new String(logi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ring getLogin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new String(logi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"/>
          <p:cNvSpPr/>
          <p:nvPr/>
        </p:nvSpPr>
        <p:spPr>
          <a:xfrm>
            <a:off x="3882960" y="4724280"/>
            <a:ext cx="4572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you can still define its constructors, which are invoked in the constructors of its subclas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Straight Arrow Connector 3"/>
          <p:cNvCxnSpPr/>
          <p:nvPr/>
        </p:nvCxnSpPr>
        <p:spPr>
          <a:xfrm>
            <a:off x="5790960" y="2437920"/>
            <a:ext cx="1080" cy="22107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D516-F58E-4DC3-B0F4-56EFC4EE5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D057-1957-4F2B-8074-7279C818A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04920" y="1600200"/>
            <a:ext cx="853416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instance, the constructors of Shape are invoked in the Circle class and the Rectangle clas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n you initiate a concrete object from Shape? 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Y. Daniel Liang</dc:creator>
  <dc:description/>
  <dc:language>en-US</dc:language>
  <cp:lastModifiedBy>AREEJ MAATOG SALEEM ALHOTHALI</cp:lastModifiedBy>
  <cp:lastPrinted>1998-02-24T16:19:51Z</cp:lastPrinted>
  <dcterms:modified xsi:type="dcterms:W3CDTF">2019-08-31T12:13:17Z</dcterms:modified>
  <cp:revision>252</cp:revision>
  <dc:subject/>
  <dc:title>Chapter 1 Introduction to Java</dc:title>
</cp:coreProperties>
</file>