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17.wmf" ContentType="image/x-wmf"/>
  <Override PartName="/ppt/media/image9.png" ContentType="image/png"/>
  <Override PartName="/ppt/media/image42.wmf" ContentType="image/x-wmf"/>
  <Override PartName="/ppt/media/image5.png" ContentType="image/png"/>
  <Override PartName="/ppt/media/image13.wmf" ContentType="image/x-wmf"/>
  <Override PartName="/ppt/media/image28.png" ContentType="image/png"/>
  <Override PartName="/ppt/media/image32.png" ContentType="image/png"/>
  <Override PartName="/ppt/media/image33.png" ContentType="image/png"/>
  <Override PartName="/ppt/media/image35.wmf" ContentType="image/x-wmf"/>
  <Override PartName="/ppt/media/image30.png" ContentType="image/png"/>
  <Override PartName="/ppt/media/image3.jpeg" ContentType="image/jpeg"/>
  <Override PartName="/ppt/media/image36.wmf" ContentType="image/x-wmf"/>
  <Override PartName="/ppt/media/image37.wmf" ContentType="image/x-wmf"/>
  <Override PartName="/ppt/media/image38.wmf" ContentType="image/x-wmf"/>
  <Override PartName="/ppt/media/image7.png" ContentType="image/png"/>
  <Override PartName="/ppt/media/image40.wmf" ContentType="image/x-wmf"/>
  <Override PartName="/ppt/media/image34.jpeg" ContentType="image/jpeg"/>
  <Override PartName="/ppt/media/image39.wmf" ContentType="image/x-wmf"/>
  <Override PartName="/ppt/media/image8.png" ContentType="image/png"/>
  <Override PartName="/ppt/media/image41.wmf" ContentType="image/x-wmf"/>
  <Override PartName="/ppt/media/image12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31DD4-6514-4EE4-9614-0797A26E33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76370-7756-4203-9E6A-0695C631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28096-1828-4D99-9D42-57399D8C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99BAB-AE39-489C-A7B5-6AD01B6082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2641F-3A77-4D57-8EDF-EE510AD31B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DF72D-50A8-433D-8EE1-03D50AFC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47291-456E-4E39-ACDC-FB65E179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6B8FB-5B39-4F9C-A9F2-6638F4E3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B529A-62E7-4950-ADEA-21D002A0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89E89-2ABD-4623-AE24-085A906C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6E341-DC91-4812-9F15-C3DAEE3C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E1833-FAF1-4D02-91E0-4EA2ED89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21749-5761-4DFE-87A9-020AE24A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7ABB7-5CFF-48B8-8473-812EAE75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E2115-4F97-4C6E-AFCD-234FAB7E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3769C-87B8-44CD-8E64-9728B999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5396A-8412-4B46-98BD-85EAEC6A4F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D83EB-F90C-478C-9BB9-8E4DE98D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577C3-DA34-4B5F-8E96-331420B3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77FF2-42B4-4289-A5B3-4ACE0A08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FB206-F457-4CEE-BD1A-DAD634AB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B30A1-7118-4830-AFFB-30D3D5E0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8A7BB-12ED-4BAA-8326-4583D38D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CB762-BD05-4D78-AD72-5C26F5E5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7882-F46C-407C-BB5B-5D4370EF1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6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5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Rectangle 37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5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654F-FAF4-4CAA-BA58-0F97FCD05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ml/UseBMIClass.bat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ml/TestCourse.bat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ml/TestStackOfIntegers.bat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ml/TestLoanClass.bat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2B55-8913-4C2D-9B43-EF0925799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1315800"/>
            <a:ext cx="7880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pter 10 Thinking in Ob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20908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20908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20908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71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402120" indent="-40212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e th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e the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getter and sette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service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4021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culate the monthly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4021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culate the Total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application class : Input the data ( yearly interest, number of years for the loan, loan amoun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application clas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4021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Lo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4021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loan Date , Monthly payment, Total Pay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2A0A-C8DB-4BEC-9A18-4A3836F86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2" descr="Image result for task"/>
          <p:cNvPicPr/>
          <p:nvPr/>
        </p:nvPicPr>
        <p:blipFill>
          <a:blip r:embed="rId1"/>
          <a:stretch/>
        </p:blipFill>
        <p:spPr>
          <a:xfrm>
            <a:off x="155520" y="4680"/>
            <a:ext cx="2562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6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 to calculate the monthly pa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 to calculate the Total pa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5F49-C163-4AA5-BDD9-7E03616E1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1116000" y="2354400"/>
            <a:ext cx="6418440" cy="17269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"/>
          <p:cNvSpPr/>
          <p:nvPr/>
        </p:nvSpPr>
        <p:spPr>
          <a:xfrm>
            <a:off x="2189160" y="4799160"/>
            <a:ext cx="407196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etMonthlyPayment * numberOfYears * </a:t>
            </a:r>
            <a:r>
              <a:rPr b="0" lang="en-US" sz="1600" spc="-1" strike="noStrike">
                <a:solidFill>
                  <a:srgbClr val="008080"/>
                </a:solidFill>
                <a:latin typeface="Arial Unicode MS"/>
                <a:ea typeface="Times New Roman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ttribut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85800" y="165744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6B23-D15E-4E2B-AEBC-EA6E81828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2"/>
          <a:stretch/>
        </p:blipFill>
        <p:spPr>
          <a:xfrm>
            <a:off x="1077840" y="1662120"/>
            <a:ext cx="713124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str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Content Placeholder 4" descr=""/>
          <p:cNvPicPr/>
          <p:nvPr/>
        </p:nvPicPr>
        <p:blipFill>
          <a:blip r:embed="rId1"/>
          <a:stretch/>
        </p:blipFill>
        <p:spPr>
          <a:xfrm>
            <a:off x="351000" y="1739880"/>
            <a:ext cx="8275320" cy="403236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2595-A4B2-49EB-A64A-FC4756E1A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etters and the set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Content Placeholder 4" descr=""/>
          <p:cNvPicPr/>
          <p:nvPr/>
        </p:nvPicPr>
        <p:blipFill>
          <a:blip r:embed="rId1"/>
          <a:stretch/>
        </p:blipFill>
        <p:spPr>
          <a:xfrm>
            <a:off x="685800" y="1198440"/>
            <a:ext cx="6259680" cy="5724720"/>
          </a:xfrm>
          <a:prstGeom prst="rect">
            <a:avLst/>
          </a:prstGeom>
          <a:ln w="0">
            <a:noFill/>
          </a:ln>
        </p:spPr>
      </p:pic>
      <p:sp>
        <p:nvSpPr>
          <p:cNvPr id="210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0013-24BE-4067-BD8F-715921137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2"/>
          <a:stretch/>
        </p:blipFill>
        <p:spPr>
          <a:xfrm>
            <a:off x="5305320" y="3044880"/>
            <a:ext cx="384192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6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 to calculate the monthly pa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 to calculate the Total pa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6250-D95B-4A5F-8F01-A20279DC0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808200" y="2873520"/>
            <a:ext cx="73436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pplicatio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the data ( yearly interest, number of years for the loan, loan amount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35C6-3ABF-4F7F-8F38-44D05F9B3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647640" y="2930400"/>
            <a:ext cx="68500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pplicatio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Loan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y loan Date , Monthly payment, Total Pay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F388-865A-47EB-AD34-39B9B52E9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165240" y="3476520"/>
            <a:ext cx="881352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EB0D-8116-4B06-ADF3-798354C02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93720" y="2030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MI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3371760" y="237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4648320" y="5943600"/>
            <a:ext cx="2133360" cy="533520"/>
          </a:xfrm>
          <a:custGeom>
            <a:avLst/>
            <a:gdLst>
              <a:gd name="textAreaLeft" fmla="*/ 34560 w 2133360"/>
              <a:gd name="textAreaRight" fmla="*/ 2098800 w 21333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6327" h="21600">
                <a:moveTo>
                  <a:pt x="0" y="0"/>
                </a:moveTo>
                <a:lnTo>
                  <a:pt x="86327" y="0"/>
                </a:lnTo>
                <a:lnTo>
                  <a:pt x="86327" y="21600"/>
                </a:lnTo>
                <a:lnTo>
                  <a:pt x="0" y="21600"/>
                </a:lnTo>
                <a:close/>
              </a:path>
              <a:path fill="lightenLess" w="86327" h="21600">
                <a:moveTo>
                  <a:pt x="0" y="0"/>
                </a:moveTo>
                <a:lnTo>
                  <a:pt x="86327" y="0"/>
                </a:lnTo>
                <a:lnTo>
                  <a:pt x="84927" y="1400"/>
                </a:lnTo>
                <a:lnTo>
                  <a:pt x="1400" y="1400"/>
                </a:lnTo>
                <a:close/>
              </a:path>
              <a:path fill="darken" w="86327" h="21600">
                <a:moveTo>
                  <a:pt x="86327" y="0"/>
                </a:moveTo>
                <a:lnTo>
                  <a:pt x="86327" y="21600"/>
                </a:lnTo>
                <a:lnTo>
                  <a:pt x="84927" y="20200"/>
                </a:lnTo>
                <a:lnTo>
                  <a:pt x="84927" y="1400"/>
                </a:lnTo>
                <a:close/>
              </a:path>
              <a:path fill="darkenLess" w="86327" h="21600">
                <a:moveTo>
                  <a:pt x="863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27" y="20200"/>
                </a:lnTo>
                <a:close/>
              </a:path>
              <a:path fill="lighten" w="863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UseBMI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8">
            <a:hlinkClick r:id="rId1"/>
          </p:cNvPr>
          <p:cNvSpPr/>
          <p:nvPr/>
        </p:nvSpPr>
        <p:spPr>
          <a:xfrm>
            <a:off x="7010280" y="5943600"/>
            <a:ext cx="1524240" cy="533520"/>
          </a:xfrm>
          <a:custGeom>
            <a:avLst/>
            <a:gdLst>
              <a:gd name="textAreaLeft" fmla="*/ 34560 w 1524240"/>
              <a:gd name="textAreaRight" fmla="*/ 1489680 w 15242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83" h="21600">
                <a:moveTo>
                  <a:pt x="0" y="0"/>
                </a:moveTo>
                <a:lnTo>
                  <a:pt x="61683" y="0"/>
                </a:lnTo>
                <a:lnTo>
                  <a:pt x="61683" y="21600"/>
                </a:lnTo>
                <a:lnTo>
                  <a:pt x="0" y="21600"/>
                </a:lnTo>
                <a:close/>
              </a:path>
              <a:path fill="lightenLess" w="61683" h="21600">
                <a:moveTo>
                  <a:pt x="0" y="0"/>
                </a:moveTo>
                <a:lnTo>
                  <a:pt x="61683" y="0"/>
                </a:lnTo>
                <a:lnTo>
                  <a:pt x="60283" y="1400"/>
                </a:lnTo>
                <a:lnTo>
                  <a:pt x="1400" y="1400"/>
                </a:lnTo>
                <a:close/>
              </a:path>
              <a:path fill="darken" w="61683" h="21600">
                <a:moveTo>
                  <a:pt x="61683" y="0"/>
                </a:moveTo>
                <a:lnTo>
                  <a:pt x="61683" y="21600"/>
                </a:lnTo>
                <a:lnTo>
                  <a:pt x="60283" y="20200"/>
                </a:lnTo>
                <a:lnTo>
                  <a:pt x="60283" y="1400"/>
                </a:lnTo>
                <a:close/>
              </a:path>
              <a:path fill="darkenLess" w="61683" h="21600">
                <a:moveTo>
                  <a:pt x="61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83" y="20200"/>
                </a:lnTo>
                <a:close/>
              </a:path>
              <a:path fill="lighten" w="61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2344680" y="5925960"/>
            <a:ext cx="1536840" cy="533520"/>
          </a:xfrm>
          <a:custGeom>
            <a:avLst/>
            <a:gdLst>
              <a:gd name="textAreaLeft" fmla="*/ 34560 w 1536840"/>
              <a:gd name="textAreaRight" fmla="*/ 1502280 w 1536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2193" h="21600">
                <a:moveTo>
                  <a:pt x="0" y="0"/>
                </a:moveTo>
                <a:lnTo>
                  <a:pt x="62193" y="0"/>
                </a:lnTo>
                <a:lnTo>
                  <a:pt x="62193" y="21600"/>
                </a:lnTo>
                <a:lnTo>
                  <a:pt x="0" y="21600"/>
                </a:lnTo>
                <a:close/>
              </a:path>
              <a:path fill="lightenLess" w="62193" h="21600">
                <a:moveTo>
                  <a:pt x="0" y="0"/>
                </a:moveTo>
                <a:lnTo>
                  <a:pt x="62193" y="0"/>
                </a:lnTo>
                <a:lnTo>
                  <a:pt x="60793" y="1400"/>
                </a:lnTo>
                <a:lnTo>
                  <a:pt x="1400" y="1400"/>
                </a:lnTo>
                <a:close/>
              </a:path>
              <a:path fill="darken" w="62193" h="21600">
                <a:moveTo>
                  <a:pt x="62193" y="0"/>
                </a:moveTo>
                <a:lnTo>
                  <a:pt x="62193" y="21600"/>
                </a:lnTo>
                <a:lnTo>
                  <a:pt x="60793" y="20200"/>
                </a:lnTo>
                <a:lnTo>
                  <a:pt x="60793" y="1400"/>
                </a:lnTo>
                <a:close/>
              </a:path>
              <a:path fill="darkenLess" w="62193" h="21600">
                <a:moveTo>
                  <a:pt x="62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793" y="20200"/>
                </a:lnTo>
                <a:close/>
              </a:path>
              <a:path fill="lighten" w="62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B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3056040" y="237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0" y="180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0" y="1806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6"/>
          <p:cNvSpPr/>
          <p:nvPr/>
        </p:nvSpPr>
        <p:spPr>
          <a:xfrm>
            <a:off x="25574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0"/>
          <p:cNvSpPr/>
          <p:nvPr/>
        </p:nvSpPr>
        <p:spPr>
          <a:xfrm>
            <a:off x="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1"/>
          <p:cNvSpPr/>
          <p:nvPr/>
        </p:nvSpPr>
        <p:spPr>
          <a:xfrm>
            <a:off x="1800" y="4998240"/>
            <a:ext cx="24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25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Object 24"/>
          <p:cNvGraphicFramePr/>
          <p:nvPr/>
        </p:nvGraphicFramePr>
        <p:xfrm>
          <a:off x="955800" y="1319040"/>
          <a:ext cx="6323040" cy="436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5800" y="1319040"/>
                    <a:ext cx="6323040" cy="43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AutoShape 26"/>
          <p:cNvSpPr/>
          <p:nvPr/>
        </p:nvSpPr>
        <p:spPr>
          <a:xfrm>
            <a:off x="1797120" y="590868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27"/>
          <p:cNvSpPr/>
          <p:nvPr/>
        </p:nvSpPr>
        <p:spPr>
          <a:xfrm>
            <a:off x="4111560" y="592596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1"/>
          <p:cNvSpPr/>
          <p:nvPr/>
        </p:nvSpPr>
        <p:spPr>
          <a:xfrm rot="20708400">
            <a:off x="2035800" y="2371680"/>
            <a:ext cx="522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5050"/>
                </a:solidFill>
                <a:latin typeface="Times New Roman"/>
              </a:rPr>
              <a:t>Practice it @ hom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2" descr="Image result for task"/>
          <p:cNvPicPr/>
          <p:nvPr/>
        </p:nvPicPr>
        <p:blipFill>
          <a:blip r:embed="rId4"/>
          <a:stretch/>
        </p:blipFill>
        <p:spPr>
          <a:xfrm>
            <a:off x="155520" y="4680"/>
            <a:ext cx="2562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577A-8BD3-48A6-88CE-0DE697DB5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enefit of Object-Oriented Thin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19144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523880" y="1778040"/>
          <a:ext cx="6096240" cy="34797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organized into small functions that uses and changes the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organized into o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relations on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data can be related to its own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ding big applications is more complicated and unmaintaina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es provide more flexibility and modularity for building reusable softwar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 on one data could affect the 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F64C-FC8F-4D40-A704-68D1D6533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5000" y="1316160"/>
            <a:ext cx="8874000" cy="57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create immutable objects from immutable classes to protect the contents of objects (§10.2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apply clas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bstra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develop software (§10.5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explore the differences between 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cedur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aradigm and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bject-orien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aradigm (§10.6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design classes that follow the class-design guidelines (§10.11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create objects for primitive values using 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rapper classe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y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o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o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harac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(§10.12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simplify programming using automatic conversion between primitive types and wrapper class types (§10.13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use 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gInteg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gDecim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es for computing very large numbers with arbitrary precisions (§10.14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EA910C74-5DE1-44C5-A806-A71598B8285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28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es in a software system can have various types of relationships to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28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of the most common relationshi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Dependency: A </a:t>
            </a:r>
            <a:r>
              <a:rPr b="0" i="1" lang="en-US" sz="2800" spc="-1" strike="noStrike">
                <a:solidFill>
                  <a:srgbClr val="c00000"/>
                </a:solidFill>
                <a:latin typeface="Times New Roman"/>
              </a:rPr>
              <a:t>uses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Aggregation: A </a:t>
            </a:r>
            <a:r>
              <a:rPr b="0" i="1" lang="en-US" sz="2800" spc="-1" strike="noStrike">
                <a:solidFill>
                  <a:srgbClr val="c00000"/>
                </a:solidFill>
                <a:latin typeface="Times New Roman"/>
              </a:rPr>
              <a:t>has-a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Inheritance: A </a:t>
            </a:r>
            <a:r>
              <a:rPr b="0" i="1" lang="en-US" sz="2800" spc="-1" strike="noStrike">
                <a:solidFill>
                  <a:srgbClr val="c00000"/>
                </a:solidFill>
                <a:latin typeface="Times New Roman"/>
              </a:rPr>
              <a:t>is-a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28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's discuss dependency and aggregation fur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04 Pearson Addison-Wesley.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0073BDB5-D751-4408-A082-A364710B670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end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depend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ists when one class relies on another in some way, usually by invoking the methods of the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've seen dependencies in many previous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718204FE-C786-445A-BA9E-35402EC407C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end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154080" y="1787400"/>
            <a:ext cx="8813880" cy="27180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"/>
          <p:cNvSpPr/>
          <p:nvPr/>
        </p:nvSpPr>
        <p:spPr>
          <a:xfrm>
            <a:off x="3719520" y="1287360"/>
            <a:ext cx="17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Find 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2"/>
          <p:cNvSpPr/>
          <p:nvPr/>
        </p:nvSpPr>
        <p:spPr>
          <a:xfrm>
            <a:off x="4073400" y="3416400"/>
            <a:ext cx="3840120" cy="730080"/>
          </a:xfrm>
          <a:prstGeom prst="ellipse">
            <a:avLst/>
          </a:prstGeom>
          <a:noFill/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85800" y="165744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04 Pearson Addison-Wesley.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5F63193E-F0A5-42B2-A1EC-C5987A9C6D6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9600" y="1280880"/>
            <a:ext cx="869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wner object is called  an aggregating object. OR is an object that is made up of other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ggregating object contains references to other objects a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nstanc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bject object is called the aggregated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 aggregation is a 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has-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A car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has a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w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3C4F8F0C-C967-4FCF-948A-1E344CC1476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438120" y="2286000"/>
            <a:ext cx="46483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public class Student {</a:t>
            </a: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private int id;</a:t>
            </a: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private BirthDate birthDate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public Student(int ssn, </a:t>
            </a: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 int year, int month, int day) {</a:t>
            </a: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id = ssn;</a:t>
            </a: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birthDate = new BirthDate(year, month, day);</a:t>
            </a: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}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public int getId() {</a:t>
            </a: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return id;</a:t>
            </a: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}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public BirthDate getBirthDate() {</a:t>
            </a: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return birthDate;</a:t>
            </a: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}</a:t>
            </a: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3719520" y="1287360"/>
            <a:ext cx="17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Find 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423720" y="1722600"/>
            <a:ext cx="4800600" cy="358560"/>
          </a:xfrm>
          <a:prstGeom prst="ellipse">
            <a:avLst/>
          </a:prstGeom>
          <a:noFill/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04 Pearson Addison-Wesley.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5BD6F03C-03AA-4FE3-AB0E-85F7F56B327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9640" y="1434960"/>
            <a:ext cx="87217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 object is exclusively owned by an aggregating object , this relation called com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udents has a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o what about Students Address ?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9030-D4DF-4FC2-A490-21CBC57DB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98720" y="463680"/>
            <a:ext cx="7772400" cy="5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Object Com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Object 5"/>
          <p:cNvGraphicFramePr/>
          <p:nvPr/>
        </p:nvGraphicFramePr>
        <p:xfrm>
          <a:off x="203040" y="1136520"/>
          <a:ext cx="8401320" cy="17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1136520"/>
                    <a:ext cx="8401320" cy="17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1"/>
          <p:cNvSpPr/>
          <p:nvPr/>
        </p:nvSpPr>
        <p:spPr>
          <a:xfrm>
            <a:off x="1998720" y="1281240"/>
            <a:ext cx="4838760" cy="52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210960" y="2738520"/>
            <a:ext cx="87220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udent has a Name”, If an object is exclusively owned by an aggregating object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does it called?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“ a student has an Address”, an address could be shared by more than one student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does it called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2" descr="Image result for think"/>
          <p:cNvPicPr/>
          <p:nvPr/>
        </p:nvPicPr>
        <p:blipFill>
          <a:blip r:embed="rId3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9"/>
          <p:cNvSpPr/>
          <p:nvPr/>
        </p:nvSpPr>
        <p:spPr>
          <a:xfrm>
            <a:off x="4495680" y="1433520"/>
            <a:ext cx="2494080" cy="5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999C-16FF-43F7-A482-B22B23F0A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Object Com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7" descr=""/>
          <p:cNvPicPr/>
          <p:nvPr/>
        </p:nvPicPr>
        <p:blipFill>
          <a:blip r:embed="rId1"/>
          <a:stretch/>
        </p:blipFill>
        <p:spPr>
          <a:xfrm>
            <a:off x="150840" y="1487520"/>
            <a:ext cx="8840880" cy="11826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3"/>
          <p:cNvSpPr/>
          <p:nvPr/>
        </p:nvSpPr>
        <p:spPr>
          <a:xfrm>
            <a:off x="328680" y="3179880"/>
            <a:ext cx="8486640" cy="32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ition is actually a special case of the aggregation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lass involved in a relationship may specify a multipli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ultiplicity: how many of the class’s object are involved in the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/ m..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306B-C69F-426F-93F3-E839DA0E0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31840" y="1512360"/>
            <a:ext cx="8680320" cy="141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ggregation relationship is usually represented as a data field in the aggregating cla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68400" y="2122560"/>
            <a:ext cx="9075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8400" y="2243160"/>
            <a:ext cx="9075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Object 6"/>
          <p:cNvGraphicFramePr/>
          <p:nvPr/>
        </p:nvGraphicFramePr>
        <p:xfrm>
          <a:off x="220680" y="2585880"/>
          <a:ext cx="8767800" cy="23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2585880"/>
                    <a:ext cx="8767800" cy="23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Rectangle 3"/>
          <p:cNvSpPr/>
          <p:nvPr/>
        </p:nvSpPr>
        <p:spPr>
          <a:xfrm>
            <a:off x="3029040" y="4989600"/>
            <a:ext cx="30798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wner object is called  an aggregating object. OR is an object that is made up of other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258840" y="4989600"/>
            <a:ext cx="277020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ubject object is called the aggregated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EC02-652B-4B6B-917A-9E831DE62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 Between Sam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5520" y="10472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ion may exist between objects of the same class. For example, a person may have a supervis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190512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190512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190512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190512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190512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Object 10"/>
          <p:cNvGraphicFramePr/>
          <p:nvPr/>
        </p:nvGraphicFramePr>
        <p:xfrm>
          <a:off x="270000" y="2238480"/>
          <a:ext cx="5262480" cy="18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238480"/>
                    <a:ext cx="5262480" cy="18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Rectangle 11"/>
          <p:cNvSpPr/>
          <p:nvPr/>
        </p:nvSpPr>
        <p:spPr>
          <a:xfrm>
            <a:off x="3151080" y="3967200"/>
            <a:ext cx="56088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 {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The type for the data is the class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supervisor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6EEB-32A2-46A7-A99F-B84E725B6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utable Objects an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95200" y="1397160"/>
            <a:ext cx="85345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 of an object cannot be changed once the object is creat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object is called an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table objec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ts class is called an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table cla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324000" y="2921040"/>
            <a:ext cx="85341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EN??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 class with all private data fiel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t meth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95200" y="4896000"/>
            <a:ext cx="8534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 class with all private data fields and without mutators (Set) is not necessarily immutabl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IS it right??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901C-5138-4086-993D-64A7261FA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 Between Sam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5520" y="10472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f a person has several supervisor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190512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190512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190512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190512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190512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13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Object 12"/>
          <p:cNvGraphicFramePr/>
          <p:nvPr/>
        </p:nvGraphicFramePr>
        <p:xfrm>
          <a:off x="423720" y="2122560"/>
          <a:ext cx="4686480" cy="15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2122560"/>
                    <a:ext cx="4686480" cy="15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Rectangle 15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Object 14"/>
          <p:cNvGraphicFramePr/>
          <p:nvPr/>
        </p:nvGraphicFramePr>
        <p:xfrm>
          <a:off x="4111560" y="4159080"/>
          <a:ext cx="4648320" cy="144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1560" y="4159080"/>
                    <a:ext cx="464832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9E8C-0A4A-4C2F-B934-A19946149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The Cours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3371760" y="237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4533840" y="5580000"/>
            <a:ext cx="2343240" cy="533520"/>
          </a:xfrm>
          <a:custGeom>
            <a:avLst/>
            <a:gdLst>
              <a:gd name="textAreaLeft" fmla="*/ 34560 w 2343240"/>
              <a:gd name="textAreaRight" fmla="*/ 2308680 w 23432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94819" h="21600">
                <a:moveTo>
                  <a:pt x="0" y="0"/>
                </a:moveTo>
                <a:lnTo>
                  <a:pt x="94819" y="0"/>
                </a:lnTo>
                <a:lnTo>
                  <a:pt x="94819" y="21600"/>
                </a:lnTo>
                <a:lnTo>
                  <a:pt x="0" y="21600"/>
                </a:lnTo>
                <a:close/>
              </a:path>
              <a:path fill="lightenLess" w="94819" h="21600">
                <a:moveTo>
                  <a:pt x="0" y="0"/>
                </a:moveTo>
                <a:lnTo>
                  <a:pt x="94819" y="0"/>
                </a:lnTo>
                <a:lnTo>
                  <a:pt x="93419" y="1400"/>
                </a:lnTo>
                <a:lnTo>
                  <a:pt x="1400" y="1400"/>
                </a:lnTo>
                <a:close/>
              </a:path>
              <a:path fill="darken" w="94819" h="21600">
                <a:moveTo>
                  <a:pt x="94819" y="0"/>
                </a:moveTo>
                <a:lnTo>
                  <a:pt x="94819" y="21600"/>
                </a:lnTo>
                <a:lnTo>
                  <a:pt x="93419" y="20200"/>
                </a:lnTo>
                <a:lnTo>
                  <a:pt x="93419" y="1400"/>
                </a:lnTo>
                <a:close/>
              </a:path>
              <a:path fill="darkenLess" w="94819" h="21600">
                <a:moveTo>
                  <a:pt x="94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419" y="20200"/>
                </a:lnTo>
                <a:close/>
              </a:path>
              <a:path fill="lighten" w="94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Test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5">
            <a:hlinkClick r:id="rId1"/>
          </p:cNvPr>
          <p:cNvSpPr/>
          <p:nvPr/>
        </p:nvSpPr>
        <p:spPr>
          <a:xfrm>
            <a:off x="6991200" y="5580000"/>
            <a:ext cx="1524240" cy="533520"/>
          </a:xfrm>
          <a:custGeom>
            <a:avLst/>
            <a:gdLst>
              <a:gd name="textAreaLeft" fmla="*/ 34560 w 1524240"/>
              <a:gd name="textAreaRight" fmla="*/ 1489680 w 15242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83" h="21600">
                <a:moveTo>
                  <a:pt x="0" y="0"/>
                </a:moveTo>
                <a:lnTo>
                  <a:pt x="61683" y="0"/>
                </a:lnTo>
                <a:lnTo>
                  <a:pt x="61683" y="21600"/>
                </a:lnTo>
                <a:lnTo>
                  <a:pt x="0" y="21600"/>
                </a:lnTo>
                <a:close/>
              </a:path>
              <a:path fill="lightenLess" w="61683" h="21600">
                <a:moveTo>
                  <a:pt x="0" y="0"/>
                </a:moveTo>
                <a:lnTo>
                  <a:pt x="61683" y="0"/>
                </a:lnTo>
                <a:lnTo>
                  <a:pt x="60283" y="1400"/>
                </a:lnTo>
                <a:lnTo>
                  <a:pt x="1400" y="1400"/>
                </a:lnTo>
                <a:close/>
              </a:path>
              <a:path fill="darken" w="61683" h="21600">
                <a:moveTo>
                  <a:pt x="61683" y="0"/>
                </a:moveTo>
                <a:lnTo>
                  <a:pt x="61683" y="21600"/>
                </a:lnTo>
                <a:lnTo>
                  <a:pt x="60283" y="20200"/>
                </a:lnTo>
                <a:lnTo>
                  <a:pt x="60283" y="1400"/>
                </a:lnTo>
                <a:close/>
              </a:path>
              <a:path fill="darkenLess" w="61683" h="21600">
                <a:moveTo>
                  <a:pt x="61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83" y="20200"/>
                </a:lnTo>
                <a:close/>
              </a:path>
              <a:path fill="lighten" w="61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2344680" y="5541840"/>
            <a:ext cx="1287360" cy="533520"/>
          </a:xfrm>
          <a:custGeom>
            <a:avLst/>
            <a:gdLst>
              <a:gd name="textAreaLeft" fmla="*/ 34560 w 1287360"/>
              <a:gd name="textAreaRight" fmla="*/ 1252800 w 12873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099" h="21600">
                <a:moveTo>
                  <a:pt x="0" y="0"/>
                </a:moveTo>
                <a:lnTo>
                  <a:pt x="52099" y="0"/>
                </a:lnTo>
                <a:lnTo>
                  <a:pt x="52099" y="21600"/>
                </a:lnTo>
                <a:lnTo>
                  <a:pt x="0" y="21600"/>
                </a:lnTo>
                <a:close/>
              </a:path>
              <a:path fill="lightenLess" w="52099" h="21600">
                <a:moveTo>
                  <a:pt x="0" y="0"/>
                </a:moveTo>
                <a:lnTo>
                  <a:pt x="52099" y="0"/>
                </a:lnTo>
                <a:lnTo>
                  <a:pt x="50699" y="1400"/>
                </a:lnTo>
                <a:lnTo>
                  <a:pt x="1400" y="1400"/>
                </a:lnTo>
                <a:close/>
              </a:path>
              <a:path fill="darken" w="52099" h="21600">
                <a:moveTo>
                  <a:pt x="52099" y="0"/>
                </a:moveTo>
                <a:lnTo>
                  <a:pt x="52099" y="21600"/>
                </a:lnTo>
                <a:lnTo>
                  <a:pt x="50699" y="20200"/>
                </a:lnTo>
                <a:lnTo>
                  <a:pt x="50699" y="1400"/>
                </a:lnTo>
                <a:close/>
              </a:path>
              <a:path fill="darkenLess" w="52099" h="21600">
                <a:moveTo>
                  <a:pt x="52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99" y="20200"/>
                </a:lnTo>
                <a:close/>
              </a:path>
              <a:path fill="lighten" w="52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056040" y="237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0" y="180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0" y="1806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25574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15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Object 14"/>
          <p:cNvGraphicFramePr/>
          <p:nvPr/>
        </p:nvGraphicFramePr>
        <p:xfrm>
          <a:off x="2201760" y="1547640"/>
          <a:ext cx="4738680" cy="355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8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1760" y="1547640"/>
                    <a:ext cx="4738680" cy="35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AutoShape 16"/>
          <p:cNvSpPr/>
          <p:nvPr/>
        </p:nvSpPr>
        <p:spPr>
          <a:xfrm>
            <a:off x="3957480" y="558000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17"/>
          <p:cNvSpPr/>
          <p:nvPr/>
        </p:nvSpPr>
        <p:spPr>
          <a:xfrm>
            <a:off x="1768320" y="550224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6791-FB8F-4F18-8D93-AEF22D0D3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0" y="1382760"/>
            <a:ext cx="4954680" cy="4427640"/>
          </a:xfrm>
          <a:prstGeom prst="rect">
            <a:avLst/>
          </a:prstGeom>
          <a:ln w="0">
            <a:noFill/>
          </a:ln>
        </p:spPr>
      </p:pic>
      <p:pic>
        <p:nvPicPr>
          <p:cNvPr id="344" name="Content Placeholder 5" descr=""/>
          <p:cNvPicPr/>
          <p:nvPr/>
        </p:nvPicPr>
        <p:blipFill>
          <a:blip r:embed="rId2"/>
          <a:stretch/>
        </p:blipFill>
        <p:spPr>
          <a:xfrm>
            <a:off x="4294080" y="673200"/>
            <a:ext cx="480240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7788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e a Student should be represented as a String type only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you modify the code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E4BB-7AC9-4DB8-B065-E06654C3C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0166-018D-4D5F-92D7-1A95F3735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the StackOfIntegers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38862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27702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0" y="23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1800" y="4250880"/>
            <a:ext cx="1130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8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11" descr=""/>
          <p:cNvPicPr/>
          <p:nvPr/>
        </p:nvPicPr>
        <p:blipFill>
          <a:blip r:embed="rId1"/>
          <a:stretch/>
        </p:blipFill>
        <p:spPr>
          <a:xfrm>
            <a:off x="158760" y="1650960"/>
            <a:ext cx="882648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D156-5A8D-4EED-9BED-774D73A38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StackOfInteg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3"/>
          <p:cNvSpPr/>
          <p:nvPr/>
        </p:nvSpPr>
        <p:spPr>
          <a:xfrm>
            <a:off x="1420920" y="5770440"/>
            <a:ext cx="4114800" cy="533520"/>
          </a:xfrm>
          <a:custGeom>
            <a:avLst/>
            <a:gdLst>
              <a:gd name="textAreaLeft" fmla="*/ 34560 w 4114800"/>
              <a:gd name="textAreaRight" fmla="*/ 4080240 w 4114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66493" h="21600">
                <a:moveTo>
                  <a:pt x="0" y="0"/>
                </a:moveTo>
                <a:lnTo>
                  <a:pt x="166493" y="0"/>
                </a:lnTo>
                <a:lnTo>
                  <a:pt x="166493" y="21600"/>
                </a:lnTo>
                <a:lnTo>
                  <a:pt x="0" y="21600"/>
                </a:lnTo>
                <a:close/>
              </a:path>
              <a:path fill="lightenLess" w="166493" h="21600">
                <a:moveTo>
                  <a:pt x="0" y="0"/>
                </a:moveTo>
                <a:lnTo>
                  <a:pt x="166493" y="0"/>
                </a:lnTo>
                <a:lnTo>
                  <a:pt x="165093" y="1400"/>
                </a:lnTo>
                <a:lnTo>
                  <a:pt x="1400" y="1400"/>
                </a:lnTo>
                <a:close/>
              </a:path>
              <a:path fill="darken" w="166493" h="21600">
                <a:moveTo>
                  <a:pt x="166493" y="0"/>
                </a:moveTo>
                <a:lnTo>
                  <a:pt x="166493" y="21600"/>
                </a:lnTo>
                <a:lnTo>
                  <a:pt x="165093" y="20200"/>
                </a:lnTo>
                <a:lnTo>
                  <a:pt x="165093" y="1400"/>
                </a:lnTo>
                <a:close/>
              </a:path>
              <a:path fill="darkenLess" w="166493" h="21600">
                <a:moveTo>
                  <a:pt x="166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093" y="20200"/>
                </a:lnTo>
                <a:close/>
              </a:path>
              <a:path fill="lighten" w="166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  <a:ea typeface="Times New Roman"/>
              </a:rPr>
              <a:t>StackOfInte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38862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27702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0" y="23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1800" y="4250880"/>
            <a:ext cx="1130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10"/>
          <p:cNvSpPr/>
          <p:nvPr/>
        </p:nvSpPr>
        <p:spPr>
          <a:xfrm>
            <a:off x="846000" y="573408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12" descr=""/>
          <p:cNvPicPr/>
          <p:nvPr/>
        </p:nvPicPr>
        <p:blipFill>
          <a:blip r:embed="rId1"/>
          <a:stretch/>
        </p:blipFill>
        <p:spPr>
          <a:xfrm>
            <a:off x="195120" y="1590840"/>
            <a:ext cx="86392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0977-DEE5-456A-B52E-841072657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The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StackOfInteg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3">
            <a:hlinkClick r:id="rId1"/>
          </p:cNvPr>
          <p:cNvSpPr/>
          <p:nvPr/>
        </p:nvSpPr>
        <p:spPr>
          <a:xfrm>
            <a:off x="5916600" y="55483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4"/>
          <p:cNvSpPr/>
          <p:nvPr/>
        </p:nvSpPr>
        <p:spPr>
          <a:xfrm>
            <a:off x="1420920" y="5624640"/>
            <a:ext cx="4114800" cy="533160"/>
          </a:xfrm>
          <a:custGeom>
            <a:avLst/>
            <a:gdLst>
              <a:gd name="textAreaLeft" fmla="*/ 34560 w 4114800"/>
              <a:gd name="textAreaRight" fmla="*/ 4080240 w 4114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66606" h="21600">
                <a:moveTo>
                  <a:pt x="0" y="0"/>
                </a:moveTo>
                <a:lnTo>
                  <a:pt x="166606" y="0"/>
                </a:lnTo>
                <a:lnTo>
                  <a:pt x="166606" y="21600"/>
                </a:lnTo>
                <a:lnTo>
                  <a:pt x="0" y="21600"/>
                </a:lnTo>
                <a:close/>
              </a:path>
              <a:path fill="lightenLess" w="166606" h="21600">
                <a:moveTo>
                  <a:pt x="0" y="0"/>
                </a:moveTo>
                <a:lnTo>
                  <a:pt x="166606" y="0"/>
                </a:lnTo>
                <a:lnTo>
                  <a:pt x="165206" y="1400"/>
                </a:lnTo>
                <a:lnTo>
                  <a:pt x="1400" y="1400"/>
                </a:lnTo>
                <a:close/>
              </a:path>
              <a:path fill="darken" w="166606" h="21600">
                <a:moveTo>
                  <a:pt x="166606" y="0"/>
                </a:moveTo>
                <a:lnTo>
                  <a:pt x="166606" y="21600"/>
                </a:lnTo>
                <a:lnTo>
                  <a:pt x="165206" y="20200"/>
                </a:lnTo>
                <a:lnTo>
                  <a:pt x="165206" y="1400"/>
                </a:lnTo>
                <a:close/>
              </a:path>
              <a:path fill="darkenLess" w="166606" h="21600">
                <a:moveTo>
                  <a:pt x="166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206" y="20200"/>
                </a:lnTo>
                <a:close/>
              </a:path>
              <a:path fill="lighten" w="166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  <a:ea typeface="Times New Roman"/>
              </a:rPr>
              <a:t>TestStackOfInte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38862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27702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0" y="23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8"/>
          <p:cNvGraphicFramePr/>
          <p:nvPr/>
        </p:nvGraphicFramePr>
        <p:xfrm>
          <a:off x="108000" y="1536840"/>
          <a:ext cx="370368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536840"/>
                    <a:ext cx="370368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Rectangle 9"/>
          <p:cNvSpPr/>
          <p:nvPr/>
        </p:nvSpPr>
        <p:spPr>
          <a:xfrm>
            <a:off x="1800" y="3530160"/>
            <a:ext cx="1130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10"/>
          <p:cNvSpPr/>
          <p:nvPr/>
        </p:nvSpPr>
        <p:spPr>
          <a:xfrm>
            <a:off x="846000" y="558792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1" descr=""/>
          <p:cNvPicPr/>
          <p:nvPr/>
        </p:nvPicPr>
        <p:blipFill>
          <a:blip r:embed="rId4"/>
          <a:stretch/>
        </p:blipFill>
        <p:spPr>
          <a:xfrm>
            <a:off x="3938760" y="1577880"/>
            <a:ext cx="3956040" cy="777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5"/>
          <a:stretch/>
        </p:blipFill>
        <p:spPr>
          <a:xfrm>
            <a:off x="3919680" y="2336760"/>
            <a:ext cx="4010040" cy="142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6"/>
          <a:stretch/>
        </p:blipFill>
        <p:spPr>
          <a:xfrm>
            <a:off x="3511440" y="3160800"/>
            <a:ext cx="5634000" cy="18208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"/>
          <p:cNvPicPr/>
          <p:nvPr/>
        </p:nvPicPr>
        <p:blipFill>
          <a:blip r:embed="rId7"/>
          <a:stretch/>
        </p:blipFill>
        <p:spPr>
          <a:xfrm>
            <a:off x="3805200" y="3681360"/>
            <a:ext cx="5060880" cy="8859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"/>
          <p:cNvPicPr/>
          <p:nvPr/>
        </p:nvPicPr>
        <p:blipFill>
          <a:blip r:embed="rId8"/>
          <a:stretch/>
        </p:blipFill>
        <p:spPr>
          <a:xfrm>
            <a:off x="3689280" y="3424320"/>
            <a:ext cx="5924520" cy="1201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9"/>
          <a:stretch/>
        </p:blipFill>
        <p:spPr>
          <a:xfrm>
            <a:off x="3505320" y="3673440"/>
            <a:ext cx="6021360" cy="1262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"/>
          <p:cNvPicPr/>
          <p:nvPr/>
        </p:nvPicPr>
        <p:blipFill>
          <a:blip r:embed="rId10"/>
          <a:stretch/>
        </p:blipFill>
        <p:spPr>
          <a:xfrm>
            <a:off x="3594240" y="3711600"/>
            <a:ext cx="526572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87240" y="193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e do if we want to calculate an equation depending on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xim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umber on a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tge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e do if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tge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will be entered as a string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2B4A-261B-494A-94F5-76A629789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2"/>
          <p:cNvSpPr/>
          <p:nvPr/>
        </p:nvSpPr>
        <p:spPr>
          <a:xfrm>
            <a:off x="-28440" y="52848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6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rapp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8566-8D76-434C-B1F7-62FDC8751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5625-D17A-489E-8BD9-2C0E29F22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app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2114640" y="254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1154160" y="4443480"/>
            <a:ext cx="660564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Let’s work on the common Cla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Inte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Picture 12" descr="http://jeetutorial.com/wp-content/uploads/2015/07/wrapper-class.jpg"/>
          <p:cNvPicPr/>
          <p:nvPr/>
        </p:nvPicPr>
        <p:blipFill>
          <a:blip r:embed="rId1"/>
          <a:stretch/>
        </p:blipFill>
        <p:spPr>
          <a:xfrm>
            <a:off x="1998720" y="1487520"/>
            <a:ext cx="514656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C4A5-6C32-437B-B89D-73809C764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4B51-1F45-45E1-BD33-BD1217730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46000" y="1944360"/>
            <a:ext cx="777240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 x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 x= new Integer (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 x= new Integer (“5”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Box 1"/>
          <p:cNvSpPr/>
          <p:nvPr/>
        </p:nvSpPr>
        <p:spPr>
          <a:xfrm>
            <a:off x="633240" y="3274920"/>
            <a:ext cx="551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Wrapper class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ave no-arg constructors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he creation is similar to the String Class, so what is common between them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5762520" y="3489480"/>
            <a:ext cx="7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900000" y="5302080"/>
            <a:ext cx="543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The instances of all wrapper classes are immutable, i.e., their internal values cannot be changed once the objects are crea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Object 8"/>
          <p:cNvGraphicFramePr/>
          <p:nvPr/>
        </p:nvGraphicFramePr>
        <p:xfrm>
          <a:off x="6014880" y="3890880"/>
          <a:ext cx="2981520" cy="48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4880" y="3890880"/>
                    <a:ext cx="2981520" cy="48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D0CC-3823-4BDA-9559-D539DBCB1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5160" y="1699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09600" y="995400"/>
            <a:ext cx="4802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public class Student {</a:t>
            </a: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  private int id;</a:t>
            </a: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  private BirthDate birthDate;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  public Student(int ssn, </a:t>
            </a: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 int year, int month, int day) {</a:t>
            </a: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id = ssn;</a:t>
            </a: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birthDate = new BirthDate(year, month, day);</a:t>
            </a: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  }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  public int getId() {</a:t>
            </a: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return id;</a:t>
            </a: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  }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  public BirthDate getBirthDate() {</a:t>
            </a: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return birthDate;</a:t>
            </a: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  }</a:t>
            </a: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799160" y="590400"/>
            <a:ext cx="4495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public class BirthDate {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private int year;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private int month;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private int day;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public BirthDate(int newYear, 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 int newMonth, int newDay) {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year = newYear;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month = newMonth;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day = newDay;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}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public void setYear(int newYear) {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year = newYear;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}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95360" y="4722840"/>
            <a:ext cx="8305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ourier New"/>
                <a:ea typeface="Courier New"/>
              </a:rPr>
              <a:t>public class Test {</a:t>
            </a:r>
            <a:br>
              <a:rPr sz="1600"/>
            </a:br>
            <a:r>
              <a:rPr b="1" lang="en-US" sz="1600" spc="-1" strike="noStrike">
                <a:solidFill>
                  <a:srgbClr val="5f5f5f"/>
                </a:solidFill>
                <a:latin typeface="Courier New"/>
                <a:ea typeface="Courier New"/>
              </a:rPr>
              <a:t>  public static void main(String[] args) {</a:t>
            </a:r>
            <a:br>
              <a:rPr sz="1600"/>
            </a:br>
            <a:r>
              <a:rPr b="1" lang="en-US" sz="16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Student student = new Student(111223333, 1970, 5, 3);</a:t>
            </a:r>
            <a:br>
              <a:rPr sz="1600"/>
            </a:br>
            <a:r>
              <a:rPr b="1" lang="en-US" sz="16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BirthDate date = student.getBirthDate();</a:t>
            </a:r>
            <a:br>
              <a:rPr sz="1600"/>
            </a:br>
            <a:r>
              <a:rPr b="1" lang="en-US" sz="16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date.setYear(2010); // Now the student birth year is changed!</a:t>
            </a:r>
            <a:br>
              <a:rPr sz="1600"/>
            </a:br>
            <a:r>
              <a:rPr b="1" lang="en-US" sz="1600" spc="-1" strike="noStrike">
                <a:solidFill>
                  <a:srgbClr val="5f5f5f"/>
                </a:solidFill>
                <a:latin typeface="Courier New"/>
                <a:ea typeface="Courier New"/>
              </a:rPr>
              <a:t>  }</a:t>
            </a:r>
            <a:br>
              <a:rPr sz="1600"/>
            </a:br>
            <a:r>
              <a:rPr b="1" lang="en-US" sz="1600" spc="-1" strike="noStrike">
                <a:solidFill>
                  <a:srgbClr val="5f5f5f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7556-01DB-421E-9C4C-ED2CE7C86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5DCB-1F7F-4872-A970-27E56A79B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ric Wrapper Class Constructo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construct a wrapper object either from a primitive data type value or from a string representing the numeric valu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structors for Integer and Double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Integer(int val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Integer(String 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Double(double val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Double(String 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B85A-1962-48C8-A274-D4F7C0796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C413-CE7A-41E1-9F06-9CC9D23A9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ric Wrapper Class Consta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44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numerical wrapper class has the const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X_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sents the maximum value of the corresponding primitive data type. 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y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e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N_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sents the minimu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y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N_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sents the minimu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statements displ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ximum integer (2,147,483,647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nimum positive float (1.4E-45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ximum double floating-point number (1.79769313486231570e+308d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Object 8"/>
          <p:cNvGraphicFramePr/>
          <p:nvPr/>
        </p:nvGraphicFramePr>
        <p:xfrm>
          <a:off x="6016680" y="3938760"/>
          <a:ext cx="2441520" cy="19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6680" y="3938760"/>
                    <a:ext cx="244152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9670-7313-476C-B504-3612C906A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00EA-A357-4B7D-A7AA-67B321BC1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6560" y="1412640"/>
            <a:ext cx="868680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an we have a primitive type from an object 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1"/>
          <p:cNvSpPr/>
          <p:nvPr/>
        </p:nvSpPr>
        <p:spPr>
          <a:xfrm>
            <a:off x="1482480" y="2046240"/>
            <a:ext cx="62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meric Wrapper Class Conversion Method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" name="Object 8"/>
          <p:cNvGraphicFramePr/>
          <p:nvPr/>
        </p:nvGraphicFramePr>
        <p:xfrm>
          <a:off x="2378160" y="2698920"/>
          <a:ext cx="442908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78160" y="2698920"/>
                    <a:ext cx="442908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68C223FC-6D7F-4F2E-9FC8-550FF719BA5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70000" y="2854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utomatic Conversion Between Primitive Types and Wrapper Class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Times New Roman"/>
              </a:rPr>
              <a:t>Autobox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automatic conversion of a primitive value to a corresponding wrapper obje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Integer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int num = 4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obj = n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ssignment creates the appropriate </a:t>
            </a:r>
            <a:r>
              <a:rPr b="0" lang="en-US" sz="2000" spc="-1" strike="noStrike">
                <a:solidFill>
                  <a:srgbClr val="969696"/>
                </a:solidFill>
                <a:latin typeface="Courier New"/>
              </a:rPr>
              <a:t>Inte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verse conversion (called </a:t>
            </a:r>
            <a:r>
              <a:rPr b="0" i="1" lang="en-US" sz="2000" spc="-1" strike="noStrike">
                <a:solidFill>
                  <a:srgbClr val="969696"/>
                </a:solidFill>
                <a:latin typeface="Times New Roman"/>
              </a:rPr>
              <a:t>unbox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lso occurs automatically a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Integer obj=4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int n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num =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A2AB-D98D-43C5-9AA1-8EC9A998A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8887-756D-4ED4-B4F1-6C6DDCEFC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2400" y="5155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utomatic Conversion Between Primitive Types and Wrapper Class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782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rimitive type and wrapper classes to be converted automaticall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030"/>
          <p:cNvSpPr/>
          <p:nvPr/>
        </p:nvSpPr>
        <p:spPr>
          <a:xfrm>
            <a:off x="214308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Object 1029"/>
          <p:cNvGraphicFramePr/>
          <p:nvPr/>
        </p:nvGraphicFramePr>
        <p:xfrm>
          <a:off x="271440" y="2425680"/>
          <a:ext cx="5284800" cy="6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2425680"/>
                    <a:ext cx="52848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Object 1029"/>
          <p:cNvGraphicFramePr/>
          <p:nvPr/>
        </p:nvGraphicFramePr>
        <p:xfrm>
          <a:off x="5397480" y="2496960"/>
          <a:ext cx="3506760" cy="99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5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7480" y="2496960"/>
                    <a:ext cx="3506760" cy="9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1029"/>
          <p:cNvGraphicFramePr/>
          <p:nvPr/>
        </p:nvGraphicFramePr>
        <p:xfrm>
          <a:off x="270000" y="3676680"/>
          <a:ext cx="5286240" cy="12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7" name="Object 10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00" y="3676680"/>
                    <a:ext cx="528624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1029"/>
          <p:cNvGraphicFramePr/>
          <p:nvPr/>
        </p:nvGraphicFramePr>
        <p:xfrm>
          <a:off x="5299200" y="3719520"/>
          <a:ext cx="3705120" cy="99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9" name="Object 10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9200" y="3719520"/>
                    <a:ext cx="370512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CD6F-7DA0-4373-8C40-CDB368DF8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78F2-4357-4D5D-A919-6E677285C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6560" y="1412640"/>
            <a:ext cx="868680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an we deal if a number is entered a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"/>
          <p:cNvSpPr/>
          <p:nvPr/>
        </p:nvSpPr>
        <p:spPr>
          <a:xfrm>
            <a:off x="1304280" y="2046240"/>
            <a:ext cx="65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meric Wrapper Class Static valueOf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8"/>
          <p:cNvGraphicFramePr/>
          <p:nvPr/>
        </p:nvGraphicFramePr>
        <p:xfrm>
          <a:off x="466560" y="2816280"/>
          <a:ext cx="3254400" cy="307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6560" y="2816280"/>
                    <a:ext cx="3254400" cy="30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Rectangle 3"/>
          <p:cNvSpPr/>
          <p:nvPr/>
        </p:nvSpPr>
        <p:spPr>
          <a:xfrm>
            <a:off x="3683160" y="3268800"/>
            <a:ext cx="5457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thod creates a new object initialized to the value represented by the specified strin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integerObject = Integer.valueOf("12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Straight Arrow Connector 3"/>
          <p:cNvCxnSpPr/>
          <p:nvPr/>
        </p:nvCxnSpPr>
        <p:spPr>
          <a:xfrm flipV="1">
            <a:off x="3352320" y="4272840"/>
            <a:ext cx="567720" cy="972360"/>
          </a:xfrm>
          <a:prstGeom prst="straightConnector1">
            <a:avLst/>
          </a:prstGeom>
          <a:ln w="12600">
            <a:solidFill>
              <a:srgbClr val="ff5050"/>
            </a:solidFill>
            <a:miter/>
            <a:tailEnd len="med" type="triangle" w="med"/>
          </a:ln>
        </p:spPr>
      </p:cxnSp>
      <p:sp>
        <p:nvSpPr>
          <p:cNvPr id="450" name="Rectangle 3"/>
          <p:cNvSpPr/>
          <p:nvPr/>
        </p:nvSpPr>
        <p:spPr>
          <a:xfrm>
            <a:off x="3919680" y="4867200"/>
            <a:ext cx="464976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s a numeric string into an int value and the parseDouble method in the Double class parses a numeric string into a double valu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Straight Arrow Connector 13"/>
          <p:cNvCxnSpPr/>
          <p:nvPr/>
        </p:nvCxnSpPr>
        <p:spPr>
          <a:xfrm flipV="1">
            <a:off x="3162240" y="5560200"/>
            <a:ext cx="559080" cy="18360"/>
          </a:xfrm>
          <a:prstGeom prst="straightConnector1">
            <a:avLst/>
          </a:prstGeom>
          <a:ln w="12600">
            <a:solidFill>
              <a:srgbClr val="ff505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888AFF2B-65C9-44F5-BA61-BA6ED09DFA2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577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er classes contain methods that help manage the associated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8"/>
          <p:cNvGrpSpPr/>
          <p:nvPr/>
        </p:nvGrpSpPr>
        <p:grpSpPr>
          <a:xfrm>
            <a:off x="685800" y="4167360"/>
            <a:ext cx="9144000" cy="1942560"/>
            <a:chOff x="685800" y="4167360"/>
            <a:chExt cx="9144000" cy="1942560"/>
          </a:xfrm>
        </p:grpSpPr>
        <p:sp>
          <p:nvSpPr>
            <p:cNvPr id="455" name="Text Box 4"/>
            <p:cNvSpPr/>
            <p:nvPr/>
          </p:nvSpPr>
          <p:spPr>
            <a:xfrm>
              <a:off x="685800" y="4167360"/>
              <a:ext cx="9144000" cy="19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</a:rPr>
                <a:t>static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String toBinaryString ( </a:t>
              </a: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</a:rPr>
                <a:t>i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num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tring tohexString ( </a:t>
              </a: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</a:rPr>
                <a:t>i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num);                      </a:t>
              </a:r>
              <a:r>
                <a:rPr b="1" lang="en-US" sz="1600" spc="-1" strike="noStrike">
                  <a:solidFill>
                    <a:srgbClr val="ff4c00"/>
                  </a:solidFill>
                  <a:latin typeface="Times New Roman"/>
                </a:rPr>
                <a:t>Return a string representa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tring toOctalString ( </a:t>
              </a: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</a:rPr>
                <a:t>i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num)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</a:rPr>
                <a:t>EX : System.out.print (Integer.toBinaryString(6));    110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AutoShape 5"/>
            <p:cNvSpPr/>
            <p:nvPr/>
          </p:nvSpPr>
          <p:spPr>
            <a:xfrm>
              <a:off x="4602240" y="4340160"/>
              <a:ext cx="304560" cy="129564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7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458" name="TextBox 2"/>
          <p:cNvSpPr/>
          <p:nvPr/>
        </p:nvSpPr>
        <p:spPr>
          <a:xfrm>
            <a:off x="685800" y="1798560"/>
            <a:ext cx="829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s there a way to covert a number to binary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2FF2-A5E7-4121-B694-D12015EAD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B206-BED2-44DB-B45E-78BD476FA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Integer and Big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98160" y="2046240"/>
            <a:ext cx="8458200" cy="10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need to compute with very large integers or high precision floating-point value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"/>
          <p:cNvSpPr/>
          <p:nvPr/>
        </p:nvSpPr>
        <p:spPr>
          <a:xfrm>
            <a:off x="1422360" y="3619440"/>
            <a:ext cx="618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BigIntege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BigDecimal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classes in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java.mat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pack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019520" y="5316480"/>
            <a:ext cx="27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mu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Straight Arrow Connector 4"/>
          <p:cNvCxnSpPr/>
          <p:nvPr/>
        </p:nvCxnSpPr>
        <p:spPr>
          <a:xfrm>
            <a:off x="4379400" y="3121200"/>
            <a:ext cx="1080" cy="576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0A08-BFD2-46AF-875F-D397AE4E4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lass is Immuta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04920" y="1739880"/>
            <a:ext cx="85341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For a class to be immutable, i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u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ark all data fields privat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rovide no mutator method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 accessor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ethod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hat would return a reference to a mutable data fiel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object.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93B2-8688-41C2-8DB2-FEB9AE211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58920" y="663480"/>
            <a:ext cx="878508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5B93-19F8-40AF-916E-70EF10C8F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bstraction and Encaps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10680" y="193176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abstraction means to separate class implementation from the use of the cla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r of the class does not need to know how the class is implemen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tail of implementation is encapsulated and hidden from the user.  Class implementation is like a black box hidden from the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9144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FA16-B255-414B-A307-7C3DF4DBB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bstraction and Encaps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17160" y="196956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etter and Setter or other methods are the class contract. Signatures of public metho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s use the class through the contract of th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9144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CB65-F7D1-4015-806C-A2CC879A8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28800" y="2570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the Loa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371760" y="237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4648320" y="5943600"/>
            <a:ext cx="2133360" cy="533520"/>
          </a:xfrm>
          <a:custGeom>
            <a:avLst/>
            <a:gdLst>
              <a:gd name="textAreaLeft" fmla="*/ 34560 w 2133360"/>
              <a:gd name="textAreaRight" fmla="*/ 2098800 w 21333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6327" h="21600">
                <a:moveTo>
                  <a:pt x="0" y="0"/>
                </a:moveTo>
                <a:lnTo>
                  <a:pt x="86327" y="0"/>
                </a:lnTo>
                <a:lnTo>
                  <a:pt x="86327" y="21600"/>
                </a:lnTo>
                <a:lnTo>
                  <a:pt x="0" y="21600"/>
                </a:lnTo>
                <a:close/>
              </a:path>
              <a:path fill="lightenLess" w="86327" h="21600">
                <a:moveTo>
                  <a:pt x="0" y="0"/>
                </a:moveTo>
                <a:lnTo>
                  <a:pt x="86327" y="0"/>
                </a:lnTo>
                <a:lnTo>
                  <a:pt x="84927" y="1400"/>
                </a:lnTo>
                <a:lnTo>
                  <a:pt x="1400" y="1400"/>
                </a:lnTo>
                <a:close/>
              </a:path>
              <a:path fill="darken" w="86327" h="21600">
                <a:moveTo>
                  <a:pt x="86327" y="0"/>
                </a:moveTo>
                <a:lnTo>
                  <a:pt x="86327" y="21600"/>
                </a:lnTo>
                <a:lnTo>
                  <a:pt x="84927" y="20200"/>
                </a:lnTo>
                <a:lnTo>
                  <a:pt x="84927" y="1400"/>
                </a:lnTo>
                <a:close/>
              </a:path>
              <a:path fill="darkenLess" w="86327" h="21600">
                <a:moveTo>
                  <a:pt x="863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27" y="20200"/>
                </a:lnTo>
                <a:close/>
              </a:path>
              <a:path fill="lighten" w="863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TestLoan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5">
            <a:hlinkClick r:id="rId1"/>
          </p:cNvPr>
          <p:cNvSpPr/>
          <p:nvPr/>
        </p:nvSpPr>
        <p:spPr>
          <a:xfrm>
            <a:off x="7010280" y="5943600"/>
            <a:ext cx="1524240" cy="533520"/>
          </a:xfrm>
          <a:custGeom>
            <a:avLst/>
            <a:gdLst>
              <a:gd name="textAreaLeft" fmla="*/ 34560 w 1524240"/>
              <a:gd name="textAreaRight" fmla="*/ 1489680 w 15242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83" h="21600">
                <a:moveTo>
                  <a:pt x="0" y="0"/>
                </a:moveTo>
                <a:lnTo>
                  <a:pt x="61683" y="0"/>
                </a:lnTo>
                <a:lnTo>
                  <a:pt x="61683" y="21600"/>
                </a:lnTo>
                <a:lnTo>
                  <a:pt x="0" y="21600"/>
                </a:lnTo>
                <a:close/>
              </a:path>
              <a:path fill="lightenLess" w="61683" h="21600">
                <a:moveTo>
                  <a:pt x="0" y="0"/>
                </a:moveTo>
                <a:lnTo>
                  <a:pt x="61683" y="0"/>
                </a:lnTo>
                <a:lnTo>
                  <a:pt x="60283" y="1400"/>
                </a:lnTo>
                <a:lnTo>
                  <a:pt x="1400" y="1400"/>
                </a:lnTo>
                <a:close/>
              </a:path>
              <a:path fill="darken" w="61683" h="21600">
                <a:moveTo>
                  <a:pt x="61683" y="0"/>
                </a:moveTo>
                <a:lnTo>
                  <a:pt x="61683" y="21600"/>
                </a:lnTo>
                <a:lnTo>
                  <a:pt x="60283" y="20200"/>
                </a:lnTo>
                <a:lnTo>
                  <a:pt x="60283" y="1400"/>
                </a:lnTo>
                <a:close/>
              </a:path>
              <a:path fill="darkenLess" w="61683" h="21600">
                <a:moveTo>
                  <a:pt x="61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83" y="20200"/>
                </a:lnTo>
                <a:close/>
              </a:path>
              <a:path fill="lighten" w="61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2651040" y="592596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056040" y="237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0" y="180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0" y="1806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5574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13"/>
          <p:cNvGraphicFramePr/>
          <p:nvPr/>
        </p:nvGraphicFramePr>
        <p:xfrm>
          <a:off x="2206800" y="1631880"/>
          <a:ext cx="5348160" cy="485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6800" y="1631880"/>
                    <a:ext cx="534816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14"/>
          <p:cNvSpPr/>
          <p:nvPr/>
        </p:nvSpPr>
        <p:spPr>
          <a:xfrm>
            <a:off x="1800" y="4998240"/>
            <a:ext cx="24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5"/>
          <p:cNvSpPr/>
          <p:nvPr/>
        </p:nvSpPr>
        <p:spPr>
          <a:xfrm>
            <a:off x="4071960" y="588636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2027160" y="590868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1"/>
          <p:cNvSpPr/>
          <p:nvPr/>
        </p:nvSpPr>
        <p:spPr>
          <a:xfrm>
            <a:off x="2725560" y="1100160"/>
            <a:ext cx="74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6 Groups, Each group will perform a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5532480" y="1990800"/>
            <a:ext cx="29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Image result for task"/>
          <p:cNvPicPr/>
          <p:nvPr/>
        </p:nvPicPr>
        <p:blipFill>
          <a:blip r:embed="rId4"/>
          <a:stretch/>
        </p:blipFill>
        <p:spPr>
          <a:xfrm>
            <a:off x="155520" y="4680"/>
            <a:ext cx="2562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AREEJ MAATOG SALEEM ALHOTHALI</cp:lastModifiedBy>
  <dcterms:modified xsi:type="dcterms:W3CDTF">2019-08-31T05:08:51Z</dcterms:modified>
  <cp:revision>327</cp:revision>
  <dc:subject/>
  <dc:title>Chapter 6 Objects and Classes</dc:title>
</cp:coreProperties>
</file>