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2633-33B2-4B8C-A6E5-AAD407701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5D3B-F6D6-4711-937A-EDDA22B8A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0082-765C-4B81-A027-D58BFA9B3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C259-8DD9-43A7-B305-A81B05EE6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9F83-2173-47A4-ADFE-FEB2A16CA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F8E7-0926-46AF-B864-561BC72E7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C630-29E2-47EC-B1DE-91411D520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5107-69FB-4E89-8B6B-D553713DF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E4E7-B4FC-4FFB-B951-7D2656B1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F4E3-14BF-42F3-8AAB-170DB380F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8EBA-928E-44C4-9907-F4D1FEE41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AA6D-D092-43BD-8A26-6650998FC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90A6-6278-4BBC-9A28-078032456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96E2-0487-4001-BEBB-1EA9BCC65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559A-9348-4E0B-B711-E9E1CF5EC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1754-98C9-42F7-B0FB-AC005B7D8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3929-4A8D-4C1C-8E78-06EFA956C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2A19-1723-4B0F-B003-D0DB87CC3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5B95-0BE4-42E1-BEEF-AB222CF69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9201-7027-41E5-9988-303D7D44A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BCD9-6E50-4E2F-99F6-C9CAF82C7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44B8-8C0B-47CB-9122-2AE33850D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2113-B2CF-48F9-8A28-91DF2C30E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F108-1637-42D3-A331-9DCDA9654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A44-EBB9-45A5-AFE3-AE4586A40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4055-14BF-490F-B285-2A833531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4A24-1879-45B0-8324-7667A1B71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A5F1-8D68-4D93-97E3-79D913994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D5DC-9227-4FEF-A1AC-B757EFFB0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885C-12F6-4D8D-8488-02D21AAF0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8F8A-E5AA-4E7B-B772-E1FAB29D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4552-363D-4570-81D6-0E0AB6737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B9B4-72F1-4A82-AA3D-B629F0214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2CC8-DEAF-491D-A7DD-B2E8F4273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4426-0112-4A3A-B57B-594019BEF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71BB-EE7C-40B2-90A5-07DE3F699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9E86-71A5-4DB4-936E-9197C334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7F34-2509-4DF8-A649-BC219EA7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CF0-55C2-493F-AAD7-0F68CFA0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FCE-B212-4D71-9D6B-4385AFAF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A86-7BED-41F9-9448-01BC5A91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DE7-E771-47BB-83B4-B34E7AF7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BDB-B26F-42ED-BEBC-7519C2F3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6D1-51DC-4B8A-83C4-C834D9E7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623-AAD0-43FC-91FF-F0F9FE6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25A-81E0-4FE4-8615-1C64E3C2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DA1-A757-4CD1-8C6E-012A68AB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24B-EFBC-4A30-9C09-79C9012C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83F-B606-4C90-90E5-95D38EF4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DB3-EE1E-4623-8DCB-C425FD5F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2A3A-55E5-49CD-9B42-35C91AC6F399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lliam Stalling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uter Organiz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nd Architectu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029040"/>
            <a:ext cx="6400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ystem B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tch Cyc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Counter (PC) holds address of next instruction to fe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 fetches instruction from memory location pointed to by 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ment 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less told otherw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 loaded into Instruction Register (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 interprets instruction and performs required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Action Categori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-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transfer between CPU and main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transfer between CPU and I/O mo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rithmetic or logical operation on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ation of sequence of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ju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ion of above can be held by single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s and Data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simple example, consider hypothetical machine that holds data and instructions in a words of 16 bit length (2 byt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bits are used to hold the operation code (Opcode), allows up to 16 different operation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s are represented sign-magnitud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008000" y="2600280"/>
            <a:ext cx="7345440" cy="1295280"/>
            <a:chOff x="1008000" y="2600280"/>
            <a:chExt cx="7345440" cy="1295280"/>
          </a:xfrm>
        </p:grpSpPr>
        <p:sp>
          <p:nvSpPr>
            <p:cNvPr id="114" name="Rectangle 16"/>
            <p:cNvSpPr/>
            <p:nvPr/>
          </p:nvSpPr>
          <p:spPr>
            <a:xfrm>
              <a:off x="1260360" y="3176280"/>
              <a:ext cx="702000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2737080" y="3176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1440000" y="3321000"/>
              <a:ext cx="11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3492720" y="328428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/Ope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1008000" y="2600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7848720" y="2635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2665440" y="2635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2376720" y="2600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 of Program Execu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1029" descr=""/>
          <p:cNvPicPr/>
          <p:nvPr/>
        </p:nvPicPr>
        <p:blipFill>
          <a:blip r:embed="rId1"/>
          <a:srcRect l="0" t="0" r="0" b="22236"/>
          <a:stretch/>
        </p:blipFill>
        <p:spPr>
          <a:xfrm>
            <a:off x="1523880" y="1066680"/>
            <a:ext cx="6064200" cy="579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62567" t="14316" r="14783" b="73873"/>
          <a:stretch/>
        </p:blipFill>
        <p:spPr>
          <a:xfrm>
            <a:off x="6189840" y="76320"/>
            <a:ext cx="29462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Cycle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0" t="0" r="0" b="28000"/>
          <a:stretch/>
        </p:blipFill>
        <p:spPr>
          <a:xfrm>
            <a:off x="179280" y="1665360"/>
            <a:ext cx="808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chanism by which other modules (e.g. I/O) may interrupt normal sequence of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overflow, division by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nerated by internal processor ti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in pre-emptive multi-tas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om I/O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are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memory parity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rcRect l="10154" t="33268" r="41976" b="23425"/>
          <a:stretch/>
        </p:blipFill>
        <p:spPr>
          <a:xfrm>
            <a:off x="0" y="998640"/>
            <a:ext cx="91645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unt…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rcRect l="11521" t="34744" r="43459" b="23425"/>
          <a:stretch/>
        </p:blipFill>
        <p:spPr>
          <a:xfrm>
            <a:off x="108000" y="1066680"/>
            <a:ext cx="90345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3195" t="34744" r="43636" b="26870"/>
          <a:stretch/>
        </p:blipFill>
        <p:spPr>
          <a:xfrm>
            <a:off x="0" y="1071720"/>
            <a:ext cx="914724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gram Flow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rcRect l="0" t="0" r="0" b="15071"/>
          <a:stretch/>
        </p:blipFill>
        <p:spPr>
          <a:xfrm>
            <a:off x="228600" y="1219320"/>
            <a:ext cx="8763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ardwired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puter has sm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t of arithmetic and logical components that can be combined (configured) in different ways (hardware programming) to store the data or to perform arithmetic and logical opera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erform task (sequence of operations), we need to rewire these component to achieve the task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ired systems are inflex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ransfer of Control via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14394" t="12748" r="28028" b="35558"/>
          <a:stretch/>
        </p:blipFill>
        <p:spPr>
          <a:xfrm>
            <a:off x="457200" y="1125360"/>
            <a:ext cx="81532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Cycle (with Interrupts) - 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1029" descr=""/>
          <p:cNvPicPr/>
          <p:nvPr/>
        </p:nvPicPr>
        <p:blipFill>
          <a:blip r:embed="rId1"/>
          <a:srcRect l="0" t="0" r="0" b="23878"/>
          <a:stretch/>
        </p:blipFill>
        <p:spPr>
          <a:xfrm>
            <a:off x="52560" y="1852560"/>
            <a:ext cx="9091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ble interru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or will ignore further interrupts whilst processing one 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rupts remain pending and are checked after first interrupt has been proc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rupts handled in sequence as they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prior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priority interrupts can be interrupted by higher priority interru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higher priority interrupt has been processed, processor returns to previous 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 Interrupts - Sequenti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Picture 1028" descr=""/>
          <p:cNvPicPr/>
          <p:nvPr/>
        </p:nvPicPr>
        <p:blipFill>
          <a:blip r:embed="rId1"/>
          <a:srcRect l="0" t="0" r="0" b="57566"/>
          <a:stretch/>
        </p:blipFill>
        <p:spPr>
          <a:xfrm>
            <a:off x="838080" y="1627200"/>
            <a:ext cx="70866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 Interrupts – Nest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rcRect l="0" t="47773" r="0" b="9608"/>
          <a:stretch/>
        </p:blipFill>
        <p:spPr>
          <a:xfrm>
            <a:off x="762120" y="16765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ime Sequence of Multiple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rcRect l="14394" t="14708" r="19699" b="33335"/>
          <a:stretch/>
        </p:blipFill>
        <p:spPr>
          <a:xfrm>
            <a:off x="152280" y="1303200"/>
            <a:ext cx="87631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nnec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the units must be conn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fferent type of connection for different type of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emory Conne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s and sends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s addresses (of loca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s control signa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put/Output Connection(1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ilar to memory from computer’s view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eive data from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d data to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eive data from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d data to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put/Output Connection(2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 control signals from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nd control signals to peripher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spin d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 addresses from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port number to identify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nd interrupt signals (contro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General purpose hardwa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eneral purpose configur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rithmetic and logical functions will perform the different operations according to the control signals we applied to this hardwa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this Architecture, the system will accept data and control signals to produce resul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 purpose hardware can do different tasks, according to given correct control sig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u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re are a number of possible interconnection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ngle and multiple BUS structures are most com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Control/Address/Data bus (P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Unibus (DEC-PD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at is a Bus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communication pathway connecting two or more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ually broadca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ten grou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number of channels in one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32 bit data bus is 32 separate single bit chan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wer lines may not be sh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Data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rries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ember that there is no difference between “data” and “instruction” at this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dth is a key determinant of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, 16, 32, 64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ddress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entify the source or destination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CPU needs to read an instruction (data) from a given location in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s width determines maximum memory capacity of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8080 has 16 bit address bus giving 64k address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ntrol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ol and timing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ory read/writ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rupt req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ock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 Interconnection Sche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0" t="0" r="0" b="30485"/>
          <a:stretch/>
        </p:blipFill>
        <p:spPr>
          <a:xfrm>
            <a:off x="457200" y="2620800"/>
            <a:ext cx="815328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ig and Yellow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do buses look lik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allel lines on circuit bo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bbon c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p connectors on mother bo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PC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s of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hysical Realization of Bus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0" b="16868"/>
          <a:stretch/>
        </p:blipFill>
        <p:spPr>
          <a:xfrm>
            <a:off x="808200" y="1150920"/>
            <a:ext cx="75261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ingle Bus Probl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ts of devices on one bus leads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agation de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 data paths mean that co-ordination of bus use can adversely affect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ggregate data transfer approaches bus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systems use multiple buses to overcome thes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raditional (ISA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(with cach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8" name="Picture 43" descr=""/>
          <p:cNvPicPr/>
          <p:nvPr/>
        </p:nvPicPr>
        <p:blipFill>
          <a:blip r:embed="rId1"/>
          <a:srcRect l="0" t="0" r="5610" b="62474"/>
          <a:stretch/>
        </p:blipFill>
        <p:spPr>
          <a:xfrm>
            <a:off x="457200" y="1676520"/>
            <a:ext cx="85345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rogram Concep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 computer is constructed based on John Von Neumann princi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d instructions are stored in a single read/Write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tent of this memory is addressable by location without regards to the cont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cution occurs in sequential fash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igh Performance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0" name="Picture 41" descr=""/>
          <p:cNvPicPr/>
          <p:nvPr/>
        </p:nvPicPr>
        <p:blipFill>
          <a:blip r:embed="rId1"/>
          <a:srcRect l="0" t="43146" r="0" b="10004"/>
          <a:stretch/>
        </p:blipFill>
        <p:spPr>
          <a:xfrm>
            <a:off x="685800" y="1650960"/>
            <a:ext cx="76201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us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dic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parate data &amp; address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ared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ress valid or data valid control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vantage - fewer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re complex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timate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entralised or Distributed Arbit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entral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ngle hardware device controlling bus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s Control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b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be part of CPU or sepa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trib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module may claim the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ol logic on all mod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-ordination of events on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nchron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ents determined by clock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ol Bus includes clock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ingle 1-0 is a bus cy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devices can read clock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ually sync on leading ed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ually a single cycle for an ev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ynchronous Timing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8" name="Picture 61" descr=""/>
          <p:cNvPicPr/>
          <p:nvPr/>
        </p:nvPicPr>
        <p:blipFill>
          <a:blip r:embed="rId1"/>
          <a:srcRect l="12701" t="22727" r="26444" b="32578"/>
          <a:stretch/>
        </p:blipFill>
        <p:spPr>
          <a:xfrm>
            <a:off x="1143000" y="1066680"/>
            <a:ext cx="60199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synchronous Timing – Read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60" descr=""/>
          <p:cNvPicPr/>
          <p:nvPr/>
        </p:nvPicPr>
        <p:blipFill>
          <a:blip r:embed="rId1"/>
          <a:srcRect l="8773" t="10116" r="23500" b="61365"/>
          <a:stretch/>
        </p:blipFill>
        <p:spPr>
          <a:xfrm>
            <a:off x="380880" y="1446120"/>
            <a:ext cx="8382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synchronous Timing – Wri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8773" t="46972" r="23500" b="25000"/>
          <a:stretch/>
        </p:blipFill>
        <p:spPr>
          <a:xfrm>
            <a:off x="0" y="1574640"/>
            <a:ext cx="91440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CI Read Timing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rcRect l="0" t="0" r="0" b="10761"/>
          <a:stretch/>
        </p:blipFill>
        <p:spPr>
          <a:xfrm>
            <a:off x="533520" y="1676520"/>
            <a:ext cx="8001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CI Bus Arbit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rcRect l="0" t="0" r="0" b="31840"/>
          <a:stretch/>
        </p:blipFill>
        <p:spPr>
          <a:xfrm>
            <a:off x="76320" y="2309760"/>
            <a:ext cx="89154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at is a program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sequence of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each step, an arithmetic or logical operation is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each operation, a different set of control signals i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gram interpreted by control unit as sequence of control signals is calle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oftwar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Function of Contro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each operation a unique code is provi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ADD, MO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ardware segment accepts the code and issues the control sig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e have a computer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Control Unit and the Arithmetic and Logic Unit constitute the Central Processing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and instructions need to get into the system and results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mporary storage of code and results i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Compon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p Level Vie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rcRect l="0" t="0" r="0" b="8974"/>
          <a:stretch/>
        </p:blipFill>
        <p:spPr>
          <a:xfrm>
            <a:off x="1752480" y="1143000"/>
            <a:ext cx="592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struction Cyc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0" t="0" r="0" b="40729"/>
          <a:stretch/>
        </p:blipFill>
        <p:spPr>
          <a:xfrm>
            <a:off x="228600" y="3479760"/>
            <a:ext cx="8763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09:53:52Z</dcterms:created>
  <dc:creator>Adrian J Pullin</dc:creator>
  <dc:description/>
  <dc:language>en-US</dc:language>
  <cp:lastModifiedBy>wajdi alghamdi</cp:lastModifiedBy>
  <cp:lastPrinted>1999-09-24T09:11:31Z</cp:lastPrinted>
  <dcterms:modified xsi:type="dcterms:W3CDTF">2023-12-04T13:01:13Z</dcterms:modified>
  <cp:revision>76</cp:revision>
  <dc:subject/>
  <dc:title>03 Buses</dc:title>
</cp:coreProperties>
</file>