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6640" y="750600"/>
            <a:ext cx="494676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C71A-74D3-46C7-90B7-643A14EFA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EB7C-4840-49A0-B9FA-5C9F0F8B7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C2BA-D5DE-44C9-AD7C-06675B0BA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D42C-5E9F-48E7-A81B-24869AB2B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86211-EAD3-4DD5-BFFB-DE85C6FD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BAB15-07A6-4911-BDEA-DE0A57E6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FF92E-C354-4C48-8CBA-C0572E2A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785A-FB30-466A-BB20-479F42C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4345-06ED-4858-9C2C-155723F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B88CF-0D55-4CB8-8A02-D14D04D1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78A94-0831-4DD2-B388-0665BDF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D56F-94CA-4BF3-9E3F-4BC05A8E9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AE19D-B6A3-43CE-B437-6B4108C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835C-5D07-4C64-A063-2CDFCA0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00816-51B2-4DF3-89B7-2DBC1446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6509C-7143-4383-8C5D-C2135D0B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A7F42-1CB7-47E5-8651-7A803DF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009C-3184-466E-9047-63FA1F949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562F-508E-4153-96B1-E1E2ED381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ECD9-5DA8-4FC3-977E-C88802A23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1B82-99FC-4904-8B05-237159C6A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AB61-69A4-4485-8EE9-22BD43272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93A9-CE62-4B89-80DC-E070045A2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0261-2862-4434-AA6C-85977F731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7C96-8B1E-4C01-A267-846B91269AB9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795-D5B3-44FF-A4B3-CB5DB7D8CF10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William Stalling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omputer Organizat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nd Architectu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76183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hapter 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struction Se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 and Form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303-7911-44DD-A1C7-9F68FD18953F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a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fast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limited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registers help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quires good assembly programming or compiler wr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.B. C programm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t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7DC1-0459-4A77-ADF7-83F691243081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124000" y="1557360"/>
          <a:ext cx="48960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8960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D7E-50B3-4DF3-A1A9-FFBD655B9089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in memory cell pointed to by contents of register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ne fewer memory access than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E6C-DE24-40A0-9F1D-FC9C40CB8259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 Diagra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29"/>
          <p:cNvGraphicFramePr/>
          <p:nvPr/>
        </p:nvGraphicFramePr>
        <p:xfrm>
          <a:off x="2050920" y="1773360"/>
          <a:ext cx="45799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73360"/>
                    <a:ext cx="45799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FA9-AB8D-4A1F-AE4F-0F90A7887A67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start address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Offset + (Segment Regis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Use direct and 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hold two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register that holds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r vice ver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9001-B1A7-4346-BC4E-DAD32B3C6D18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6"/>
          <p:cNvGraphicFramePr/>
          <p:nvPr/>
        </p:nvGraphicFramePr>
        <p:xfrm>
          <a:off x="2124000" y="1773360"/>
          <a:ext cx="44499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44499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6528-BF5C-4A2F-B5EC-CECEB6CA4C55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lative Addressing (PC-Rela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version of displacemen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Program counter,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P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.e. get operand from A cells from current location pointed to by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 locality of reference &amp; cache 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9EA-1643-46FF-B81E-DC05486213B6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Base-Register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holds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CS) +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holds pointer to base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may be explicit or implic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segment registers in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5A7-9741-4246-B537-98E2D69A609A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exed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Good for accessing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377-731E-4AF3-86B8-05978C565F3F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6588000" cy="5349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ombi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328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st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) + (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re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+(R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04CF-6CE2-4887-A97C-7EF06414ECA1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Displacement (Indexed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E50-9E7C-48A9-A9D0-AE3D4B8B03B8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4716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(implicitly) on top of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p top two items from stack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nd add and 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4376880" y="2857680"/>
          <a:ext cx="386208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6880" y="2857680"/>
                    <a:ext cx="38620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98F6-FFB8-4F12-88B6-13410BCD79A1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 Rounded MT Bold"/>
              <a:ea typeface="新細明體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57200" y="2192400"/>
          <a:ext cx="817884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2400"/>
                    <a:ext cx="81788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93680"/>
            <a:ext cx="8134560" cy="650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굴림"/>
              </a:rPr>
              <a:t>ADDRESSING  MODES - EXAMP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36280" y="3467160"/>
            <a:ext cx="1105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ddressing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ode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335680" y="3467160"/>
            <a:ext cx="8712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ffective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ddress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881960" y="3479760"/>
            <a:ext cx="798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ntent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f AC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8600" y="3456000"/>
            <a:ext cx="5341680" cy="308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531720" y="386064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3978360"/>
            <a:ext cx="577836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Direct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8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mmediate oper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5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ndirect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(500)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3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lative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7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C+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325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ndexed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XR+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9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gi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R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4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gister indir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00         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R1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7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864120" y="1308240"/>
            <a:ext cx="1562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ad to AC    Mode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886440" y="1312920"/>
            <a:ext cx="150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6886440" y="15112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886440" y="1711440"/>
            <a:ext cx="150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6886440" y="19112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886440" y="231300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6886440" y="251136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6886440" y="271152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6886440" y="31114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Line 19"/>
          <p:cNvSpPr/>
          <p:nvPr/>
        </p:nvSpPr>
        <p:spPr>
          <a:xfrm>
            <a:off x="6886440" y="33098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6886440" y="371160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886440" y="391176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6886440" y="431172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6886440" y="45100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6886440" y="49118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6886440" y="5111640"/>
            <a:ext cx="153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7042320" y="1490760"/>
            <a:ext cx="1222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ddress = 5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7044840" y="1709640"/>
            <a:ext cx="1342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xt instruction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6443280" y="13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6443280" y="15098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6443280" y="17096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6443280" y="250812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7353000" y="250812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7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6443280" y="31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5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7353000" y="31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6443280" y="370836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7353000" y="370836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9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6443280" y="430848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70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7353000" y="430848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32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443280" y="490680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7353000" y="490680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3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886440" y="1312920"/>
            <a:ext cx="0" cy="38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8404200" y="1312920"/>
            <a:ext cx="0" cy="38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7226280" y="1038240"/>
            <a:ext cx="766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6327720" y="1038240"/>
            <a:ext cx="792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ddres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Line 47"/>
          <p:cNvSpPr/>
          <p:nvPr/>
        </p:nvSpPr>
        <p:spPr>
          <a:xfrm>
            <a:off x="7845480" y="1312920"/>
            <a:ext cx="0" cy="2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4563720" y="1509840"/>
            <a:ext cx="82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C = 2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4343400" y="151128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4563360" y="1955880"/>
            <a:ext cx="806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1 = 4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4343400" y="196992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4563720" y="2421000"/>
            <a:ext cx="82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R = 1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Rectangle 53"/>
          <p:cNvSpPr/>
          <p:nvPr/>
        </p:nvSpPr>
        <p:spPr>
          <a:xfrm>
            <a:off x="4343400" y="244008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Rectangle 54"/>
          <p:cNvSpPr/>
          <p:nvPr/>
        </p:nvSpPr>
        <p:spPr>
          <a:xfrm>
            <a:off x="4752720" y="2897280"/>
            <a:ext cx="401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C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4343400" y="291132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Straight Connector 2"/>
          <p:cNvSpPr/>
          <p:nvPr/>
        </p:nvSpPr>
        <p:spPr>
          <a:xfrm>
            <a:off x="2340000" y="3456000"/>
            <a:ext cx="17280" cy="30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9640" y="422100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527040" y="458136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539640" y="503388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39640" y="535320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9680-3C49-4AFB-8AFC-A88B6FEFB93D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338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part of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= address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DA  #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5 to contents of accumul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5 is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reference to fetc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8"/>
          <p:cNvGraphicFramePr/>
          <p:nvPr/>
        </p:nvGraphicFramePr>
        <p:xfrm>
          <a:off x="5796000" y="2492280"/>
          <a:ext cx="30002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492280"/>
                    <a:ext cx="30002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285F-B02D-4170-9E03-03F98CEC7EFA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contains address of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 EA = address field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alue DB 0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value to accumulator 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memory at address value for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Single memory reference to acces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additional calculations to work out effective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address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CC9-9334-4DDB-8CC0-B76B5D538DEF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9"/>
          <p:cNvGraphicFramePr/>
          <p:nvPr/>
        </p:nvGraphicFramePr>
        <p:xfrm>
          <a:off x="2050920" y="1700280"/>
          <a:ext cx="48085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48085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755-A696-48C1-984A-275389BF960B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emory cell pointed to by address field contains the address of (pointer to) the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(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A, find address (A) and look there for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pointed to by contents of A to accu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E78-BD04-4825-A8ED-AA4B5529E722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where n = word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ay be nested, multilevel, casc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EA = (((A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raw the diagram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memory accesses to find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Hence sl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5059-536D-42AC-A201-8635A85FE3C2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3"/>
          <p:cNvGraphicFramePr/>
          <p:nvPr/>
        </p:nvGraphicFramePr>
        <p:xfrm>
          <a:off x="1763640" y="1628640"/>
          <a:ext cx="480852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48085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BF5-D9B0-4520-8E93-5FCEDE067C2A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held in register named in address fi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imited number of regis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ery small address field need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horte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Faster instruction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OV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8T09:28:37Z</dcterms:created>
  <dc:creator>Adrian &amp; Wendy</dc:creator>
  <dc:description/>
  <dc:language>en-US</dc:language>
  <cp:lastModifiedBy>Sara Yousef</cp:lastModifiedBy>
  <dcterms:modified xsi:type="dcterms:W3CDTF">2019-11-23T14:45:15Z</dcterms:modified>
  <cp:revision>41</cp:revision>
  <dc:subject/>
  <dc:title>Addressing Modes</dc:title>
</cp:coreProperties>
</file>