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971-4483-42C8-B29D-5CABBB58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252-31FB-4A84-8F96-7A96AEE1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B80-258E-4C05-BE26-A3E9F77E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AE7C-E18B-4E1A-B95A-3AEFA770E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2 illustrates these top-level components and suggests the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PU exchanges data with memory. For this purpose, it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use of two internal (to the CPU) registers: a memory address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R), which specifies the address in memory for the next read or write, an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 buffer register (MBR), which contains the data to be written into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s the data read from memory. Similarly, an I/O address register (I/O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s a particular I/O device. An I/O buffer register (I/OBR) is used 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data between an I/O module and the CP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mory module consists of a set of locations, defined by sequentially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es. Each location contains a binary number that can be interpret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ther an instruction or data. An I/O module transfers data from external devic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U and memory, and vice versa. It contains internal buffers for temporarily ho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until they can be sent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C2A-6859-4721-A7E0-82B1B1AF4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ing required for a single instruction is called an instruction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simplified two-step description given previously, the instruction cy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ed in Figure 3.3. The two steps are referred to as the fetch cycle and the 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. Program execution halts only if the machine is turned off, some sort of unrecove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 occurs, or a program instruction that halts the computer is encoun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CC2-44BC-49B5-9DD6-9191E4E07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9C48-7191-43DE-8489-2EDB448D2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tched instruction is loaded into a register in the processor know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struction register (IR). The instruction contains bits that specify 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or is to take. The processor interprets the instruction and perform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ction. In general, these actions fall into four catego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-memory: Data may be transferred from processor to memory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emory to proces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or-I/O: Data may be transferred to or from a peripheral devic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ring between the processor and an I/O mo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processing: The processor may perform some arithmetic or logic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: An instruction may specify that the sequence of execution be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processor may fetch an instruction from location 149,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s that the next instruction be from location 182. The processor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s fact by setting the program counter to 182. Thus, on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ch cycle, the instruction will be fetched from location 182 rather than 1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AEF-0B61-4171-95F5-98C94656D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is process involves the use of a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register and a memory buffer register. For simplicity, these 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 are ign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PDP-11 processor includes an instruction, expressed symbol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DD B,A, that stores the sum of the contents of memory locations B an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o memory location A. A single instruction cycle with the following steps occu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ch the ADD in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e contents of memory location A into the process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e contents of memory location B into the processor. In order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A are not lost, the processor must have at least two register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 memory values, rather than a single accumul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two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result from the processor to memory loc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95F-CC22-4F78-8884-C5485D66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4993-7BCC-47EB-82E0-7AE1B071E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gure is in the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state diagram. For any given instruction cycle, some states may be null and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visited more than once. The states can be describ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 address calculation (iac): Determine the address of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 to be executed. Usually, this involves adding a fixed numb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in the upper part of Figure 3.6 involve an exchange between the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ither memory or an I/O module. States in the lower part of the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 only internal processor operations. The oac state appears twice,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truction may involve a read, a write, or both. However, the action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at state is fundamentally the same in both cases, and so only a single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r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 that the diagram allows for multiple operands and multiple res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some instructions on some machines requir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A15D-40B0-4DC8-B98C-8542287D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 the normal processing of the process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57B-22C1-4D3C-ACD5-F157ED1B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BC37-90C8-40A8-9B53-E6D9DF1C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59D2-B5D6-4E96-AC4A-FD57286CC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. This may include copying the data to be output into a special buffer and preparing the parameters for a devic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gram might wait by simply repeatedly performing a test operation to determine if the I/O operation is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I/O operation may take a relatively long time to complete, th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is hung up waiting for the operation to complete; hence, the user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topped at the point of the WRITE call for some considerable period of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21F3-2AAA-4DA8-B942-74C119CA3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xternal device becomes ready to be serviced—that is, when it is ready to accept more data from the processor—the I/O module for that external device sends an interrupt request signal to the processor. The processor responds by suspending operation of the current program, branching off to a program to service that particular I/O device, known as an interrupt handler, and resuming the original execution after the device is servi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DCD0-D632-40C2-97B4-0FC7F47CE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149-AC90-4195-8D2F-D2570E0A8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7019-8D69-4134-8480-1DDB32B1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commodate interrupts, an interrupt cycle is added to the 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, as shown in Figure 3.9. In the interrupt cycle, the processor checks to see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interrupts have occurred, indicated by the presence of an interrupt signal. If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s are pending, the processor proceeds to the fetch cycle and fetche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nstruction of the curren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AAFE-8514-4A6F-8FB5-93FA7C9AE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igure, user program code segments are shaded green, and I/O program code segments are shaded gray. Figure 3.10a shows the case in which interrupts are not used. The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wait while an I/O operation is per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s 3.7b and 3.10b assume that the time required for the I/O operation is rela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: less than the time to complete the execution of instructions between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in the user program. In this case, the segment of code labeled code segme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terrupted. A portion of the code (2a) executes (while the I/O operation is perform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the interrupt occurs (upon the completion of the I/O operation). After the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rviced, execution resumes with the remainder of code segment 2 (2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typical case, especially for a slow device such as a printer, is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will take much more time than executing a sequence of user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7c indicates this state of affairs. In this case, the user program r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WRITE call before the I/O operation spawned by the first call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is that the user program is hung up at that point. When the prec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is completed, this new WRITE call may be processed, and a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may be started. Figure 3.11 shows the timing for this situation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28A1-C914-463B-BFA1-2503873B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the time to complete the execution of instructions between write operations in the user progra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6CE9-A8C4-4709-8689-BC662C1B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typical case, especially for a slow device such as a printer, is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will take much more time than executing a sequence of user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7c indicates this state of affairs. In this case, the user program r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WRITE call before the I/O operation spawned by the first call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is that the user program is hung up at that point. When the prec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is completed, this new WRITE call may be processed, and a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operation may be started. Figure 3.11 shows the timing for this situation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3087-1988-4A25-9E9F-F971BC97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1316-DB6A-4F21-8CE3-5852A3238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54F0-1A88-4622-AC41-88180A8B1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A71C-446A-4D25-81FF-0421C527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B791-503F-4D0B-81F5-D74DA67C4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R = Interrupt Service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B70C-B964-43AF-A879-3AAE7258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943A-7726-4F93-8A2F-02BF9AEC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N words of equal 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word is assigned a unique numerical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of data can be read from or written into the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Memory to processor: The processor reads an instruction or a unit of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from mem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Processor to memory: The processor writes a unit of data to mem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I/O to processor: The processor reads data from an I/O device via an I/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modu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Processor to I/O: The processor sends data to the I/O dev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■■ </a:t>
            </a: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I/O to or from memory: For these two cases, an I/O module is allow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exchange data directly with memory, without going through the processor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  <a:ea typeface="Simplified Arabic Fixed"/>
              </a:rPr>
              <a:t>using direct memory a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15B-956D-4266-9B72-7928919D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F977-3599-4C44-8B96-2DB88E63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3A10-9654-4C90-B041-C49E74C74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CD4-4D32-4D33-8838-F7417F22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7AE9-E789-4FF6-A56F-51D448A0A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6D6E-68EF-4C52-B3AB-53CBED824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2E5-3667-4723-ACFB-4C075229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s is a communication pathway connecting two or more de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ey characteristic of a bus is that it is a shared transmission med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devices connect to the bus, and a signal transmitted by any one device is available for re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ll other devices attached to the b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devices transmit during the same time period, their signals will overlap and become garbl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only one device at a time can successfully transm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8-bit unit of data can be transmitted over eight bus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E057-C71E-4729-9DE0-E24E98A4A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3808-B5C1-4D22-903B-87DD0903A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A962-238D-49C4-94B8-7598F568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AF5B-CE79-4AFA-A12F-27AAF3496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on an 8-bit address bus, address 01111111 and below might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 in a memory module (module 0) with 128 words of memory, and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0000 and above refer to devices attached to an I/O module (module 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4EAF-947D-4A8D-B521-F36913325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6DB-5A6D-4889-8795-74EE9403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C582-85A2-418B-AB5E-072B86AE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771-6735-4531-BA7E-D61A34650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A67-CEB5-4E5A-826A-BE29FBE0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al bus connects the processor to the cache memory, which may support one or more local devices. There is also a cache memory controller that connects this cache to this local bus and the system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system, the bus is attached to the main memory modules. In this way, I/O transfers to and from the main memory across the system bus do not interfere with the processor’s activity. An expansion bus interface buffers data transfers between the bus and the I/O controllers on the expansion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ypical I/O devices that might be attached to the expansion bus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cards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SI (Small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ystem 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of Traditional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parate cache structure insulates the processor from the requirement to access the main memory frequ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rangement allows the system to support a wide variety of I/O devices and, at the same time, insulate memory to processor traffic from I/O 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Traditional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ditional bus architecture is reasonably efficient but begins to break down as higher and higher performance is seen in the I/O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E495-6AB9-48D4-8A69-DF3F30D7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Performance 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previous arrangement, there is a local bus that connects the processor to a cache controller, which is, in turn, connected to a system bus that supports the main mem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che controller is integrated into a bridge or buffering device that connects to a high-speed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(High Speed) bus supports connections to high-speed LANs, such as Fast Ethernet at 100 Mbps, video, and graphics workstation controllers to local peripheral busses, including SCSI and Fire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speed devices are still supported off an expansion bus, with an interface buffering traffic between the expansion bus and the high-speed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of High-Performance Bus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antage of this arrangement is that the high-speed bus brings high demand devices into closer integration with the processor and at the same time is independent of the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changes in processor architecture also do not affect the high-speed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B58C-A9F7-463E-AB01-4E8EDE6FB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CC6C-CDB1-40E4-AC39-BD34BE1FD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case of customized hardware, the system accepts data and produce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gure 3.1a). With general-purpose hardware, the system accepts data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 and produces results. Thus, instead of rewiring the hardware for each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, the programmer merely needs to supply a new set of control sign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t us add to the general-purpose hardware a segment that can accept a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nerate control signals (Figure 3.1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1b indicates two major components of the system: an 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er and a module of general-purpose arithmetic and logic functions.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stitute the CPU. Several other components are needed to yield a func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. Data and instructions must be put into the system. For this we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ort of input module. This module contains basic components for acce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instructions in some form and converting them into an intern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ignals usable by the system. A means of reporting results is needed, and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 the form of an output module. Taken together, these are referred to as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component is needed. An input device will bring instruc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in sequentially. But a program is not invariably executed sequentially; it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mp around (e.g., the IAS jump instruction). Similarly, operations on data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 access to more than just one element at a time in a predetermined sequ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re must be a place to temporarily store both instructions and data.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is called memory, or main memory, to distinguish it from external storag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devices. Von Neumann pointed out that the same memory could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tore both instructions and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C230-00A6-42E6-AEFC-14297D4C7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65E-8A70-48FB-9EC3-FB1C1E07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F6E-086C-45F6-B702-4AA57399F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49A-8555-4B35-9E57-E049D220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087-83C8-47A4-9B19-4BF5CB53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807-7CD5-4A07-85B1-0899003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ED5-F2EB-4797-8C7B-C4074E03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782-FEB0-4A52-9DC0-7028C9B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38A-D99A-498D-8F1C-A0AFCB22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31F-81EA-46B7-A66D-689A495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BE5-D476-404D-8005-F2B6183A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B23-A021-4707-9AE5-C12B60C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038-1B5F-455A-B8E2-E9210E8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5EE-85A0-48B4-9DC6-19CEBCC9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60D-D3F4-456A-ACCA-E2722C90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0004-BEEF-4C26-B307-ECB94337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676C-2218-45F7-A6F0-FD23FAE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C11E-23E8-4C23-AC48-4CE6D3A6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AFEB-28D7-410F-9C77-70BEE80D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5316-D56D-46EA-B002-A40ED9DC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6F70-8F5C-4661-A518-5F27F338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F99F-A33D-4807-BC41-7F7E14D2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E5BC-4474-4639-8BD2-58042DF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B28-C257-49B5-8798-B702A96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9CA-2948-4660-92F4-001A5C4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2C02-A358-48A1-9A32-3872786F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50C4-D9CA-4652-A042-9FEB567B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4C46-2F61-4FCF-A46D-6D4C8A045E2F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3971-E778-4725-B296-8EEEE4CB058D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3029040"/>
            <a:ext cx="6400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ystem B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92000" y="4776840"/>
            <a:ext cx="64008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Black"/>
              </a:rPr>
              <a:t>CPIT 2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ontrol Uni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Arithmetic and Logic Uni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titute the </a:t>
            </a:r>
            <a:r>
              <a:rPr b="1" lang="en-GB" sz="2800" spc="-1" strike="noStrike" u="sng">
                <a:solidFill>
                  <a:srgbClr val="0432ff"/>
                </a:solidFill>
                <a:uFillTx/>
                <a:latin typeface="Verdana"/>
              </a:rPr>
              <a:t>Central Processing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Data and instruction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need to get into the system and results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emporary storag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code and results i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32ff"/>
                </a:solidFill>
                <a:latin typeface="Verdana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1384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Computer Components: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Top Level View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rcRect l="0" t="0" r="0" b="8974"/>
          <a:stretch/>
        </p:blipFill>
        <p:spPr>
          <a:xfrm>
            <a:off x="1752480" y="1143000"/>
            <a:ext cx="592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Instruction Cy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wo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32ff"/>
                </a:solidFill>
                <a:latin typeface="Verdana"/>
              </a:rPr>
              <a:t>Fetch &amp; De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32ff"/>
                </a:solidFill>
                <a:latin typeface="Verdan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0" t="0" r="0" b="40729"/>
          <a:stretch/>
        </p:blipFill>
        <p:spPr>
          <a:xfrm>
            <a:off x="228600" y="3479760"/>
            <a:ext cx="8763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Fetch &amp; Decode Cy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gram Counter (PC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ds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address of next instruction to fe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fetch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struction from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memory locat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inted to by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crement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less told 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 loaded into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Instruction Register (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decod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interprets) instruction and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performs required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struction Action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-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Data transf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ween 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CPU and 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r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Data transf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ween 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CPU and I/O mo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ata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arithmetic or logical oper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ation of </a:t>
            </a:r>
            <a:r>
              <a:rPr b="0" lang="en-US" sz="2400" spc="-1" strike="noStrike">
                <a:solidFill>
                  <a:srgbClr val="0432ff"/>
                </a:solidFill>
                <a:latin typeface="Verdana"/>
              </a:rPr>
              <a:t>sequence of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above can be held by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single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structions and Data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simple example, consider </a:t>
            </a:r>
            <a:r>
              <a:rPr b="0" i="1" lang="en-US" sz="2800" spc="-1" strike="noStrike">
                <a:solidFill>
                  <a:srgbClr val="0432ff"/>
                </a:solidFill>
                <a:latin typeface="Verdana"/>
              </a:rPr>
              <a:t>hypothetical mach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at holds data and instructions in a words of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6 bit lengt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2 byt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4 bi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used to hold the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peration cod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pcod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allows up t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16 different operations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s are represented </a:t>
            </a:r>
            <a:r>
              <a:rPr b="0" i="1" lang="en-US" sz="2800" spc="-1" strike="noStrike">
                <a:solidFill>
                  <a:srgbClr val="7030a0"/>
                </a:solidFill>
                <a:latin typeface="Verdana"/>
              </a:rPr>
              <a:t>sign-magnitud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Group 25"/>
          <p:cNvGrpSpPr/>
          <p:nvPr/>
        </p:nvGrpSpPr>
        <p:grpSpPr>
          <a:xfrm>
            <a:off x="1116000" y="2635200"/>
            <a:ext cx="7237440" cy="1260360"/>
            <a:chOff x="1116000" y="2635200"/>
            <a:chExt cx="7237440" cy="1260360"/>
          </a:xfrm>
        </p:grpSpPr>
        <p:sp>
          <p:nvSpPr>
            <p:cNvPr id="202" name="Rectangle 16"/>
            <p:cNvSpPr/>
            <p:nvPr/>
          </p:nvSpPr>
          <p:spPr>
            <a:xfrm>
              <a:off x="1260360" y="3176280"/>
              <a:ext cx="702000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2737080" y="3176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440000" y="3321000"/>
              <a:ext cx="11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p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3492720" y="328428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32ff"/>
                  </a:solidFill>
                  <a:latin typeface="Times New Roman"/>
                </a:rPr>
                <a:t>Address/Ope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1116000" y="270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2"/>
            <p:cNvSpPr/>
            <p:nvPr/>
          </p:nvSpPr>
          <p:spPr>
            <a:xfrm>
              <a:off x="7848720" y="2635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3"/>
            <p:cNvSpPr/>
            <p:nvPr/>
          </p:nvSpPr>
          <p:spPr>
            <a:xfrm>
              <a:off x="2644920" y="270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2390760" y="26938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structions and Data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Internal CPU Registe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ogram Counter(PC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address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struction Register(IR)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 being execu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ccumulator(AC)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432ff"/>
                </a:solidFill>
                <a:uFillTx/>
                <a:latin typeface="Verdana"/>
              </a:rPr>
              <a:t>Partial List of opco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0001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= Load AC from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0010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= Store AC to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0101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= Add AC from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Picture 1029" descr=""/>
          <p:cNvPicPr/>
          <p:nvPr/>
        </p:nvPicPr>
        <p:blipFill>
          <a:blip r:embed="rId1"/>
          <a:srcRect l="0" t="0" r="0" b="22236"/>
          <a:stretch/>
        </p:blipFill>
        <p:spPr>
          <a:xfrm>
            <a:off x="1523880" y="1066680"/>
            <a:ext cx="6064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06440" y="990720"/>
          <a:ext cx="8594640" cy="5857920"/>
        </p:xfrm>
        <a:graphic>
          <a:graphicData uri="http://schemas.openxmlformats.org/drawingml/2006/table">
            <a:tbl>
              <a:tblPr/>
              <a:tblGrid>
                <a:gridCol w="1888920"/>
                <a:gridCol w="758880"/>
                <a:gridCol w="1878120"/>
                <a:gridCol w="2238480"/>
                <a:gridCol w="18302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tch &amp; Decod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) Load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 in address 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ecut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 (load AC with data stored in 9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tch &amp; Decod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5) Add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2 in address 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ecut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3+0002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Fetch &amp; Decod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) Store Instr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Instructio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xecute</a:t>
                      </a:r>
                      <a:r>
                        <a:rPr b="1" lang="en-US" sz="1800" spc="-1" strike="noStrike">
                          <a:solidFill>
                            <a:srgbClr val="0432ff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re AC in Location 9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he PC contains 3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the address of the first instructi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1940 in hexadecim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loaded into the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instruction register IR, and the PC is incremen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first 4 bits in the IR indicate that the AC is to 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loa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The remaining 12 bits specify the address (940) from which data are to be loa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3. The next instruction (5941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fetched from location </a:t>
            </a:r>
            <a:r>
              <a:rPr b="0" lang="en-US" sz="2200" spc="-1" strike="noStrike">
                <a:solidFill>
                  <a:srgbClr val="0432ff"/>
                </a:solidFill>
                <a:latin typeface="Verdana"/>
              </a:rPr>
              <a:t>30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the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PC is incremen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4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old contents of the A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the contents of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location 941 are add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2200" spc="-1" strike="noStrike">
                <a:solidFill>
                  <a:srgbClr val="00b050"/>
                </a:solidFill>
                <a:latin typeface="Verdana"/>
              </a:rPr>
              <a:t>the result is stored in the A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5. The next instruction (2941) is fet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location 302, </a:t>
            </a:r>
            <a:r>
              <a:rPr b="0" lang="en-US" sz="2200" spc="-1" strike="noStrike" u="sng">
                <a:solidFill>
                  <a:srgbClr val="0432ff"/>
                </a:solidFill>
                <a:uFillTx/>
                <a:latin typeface="Verdana"/>
              </a:rPr>
              <a:t>and the PC is incremen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6. </a:t>
            </a:r>
            <a:r>
              <a:rPr b="1" lang="en-US" sz="2000" spc="-1" strike="noStrike">
                <a:solidFill>
                  <a:srgbClr val="0432ff"/>
                </a:solidFill>
                <a:latin typeface="Verdana"/>
              </a:rPr>
              <a:t>The contents of the AC are stored in location 94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6462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Learning Objectiv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After studying this chapter, you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derstand the basic elements of an </a:t>
            </a:r>
            <a:r>
              <a:rPr b="1" lang="en-US" sz="3200" spc="-1" strike="noStrike">
                <a:solidFill>
                  <a:srgbClr val="0432ff"/>
                </a:solidFill>
                <a:latin typeface="Verdana"/>
              </a:rPr>
              <a:t>instruction cyc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the role of </a:t>
            </a:r>
            <a:r>
              <a:rPr b="1" lang="en-US" sz="3200" spc="-1" strike="noStrike">
                <a:solidFill>
                  <a:srgbClr val="0432ff"/>
                </a:solidFill>
                <a:latin typeface="Verdana"/>
              </a:rPr>
              <a:t>interrup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the concept of </a:t>
            </a:r>
            <a:r>
              <a:rPr b="1" lang="en-US" sz="3200" spc="-1" strike="noStrike">
                <a:solidFill>
                  <a:srgbClr val="0432ff"/>
                </a:solidFill>
                <a:latin typeface="Verdana"/>
              </a:rPr>
              <a:t>interconne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in a computer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rcRect l="0" t="0" r="0" b="28000"/>
          <a:stretch/>
        </p:blipFill>
        <p:spPr>
          <a:xfrm>
            <a:off x="380880" y="1828800"/>
            <a:ext cx="808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The figure is in the form of a state diagram. For any given instruction cycle, the states can be described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Instruction address calculation (iac)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e the address of the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next instruct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be execu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Instruction fetch (if):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Read instruct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om its memory location into the processo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Instruction operation decoding (iod):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Analyze instruct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determine type of operation to be performed and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operand(s)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be u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Operand address calculation (oac):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he operation involves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reference to an oper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memory or available via I/O, then determine the address of the opera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Operand fetch (of):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Fetch the oper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om memory or read it in from I/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Data operation (do)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erform the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opera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ndicated in the instruc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32ff"/>
                </a:solidFill>
                <a:latin typeface="Verdana"/>
              </a:rPr>
              <a:t>Operand store (os)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Write the </a:t>
            </a:r>
            <a:r>
              <a:rPr b="1" lang="en-US" sz="1800" spc="-1" strike="noStrike">
                <a:solidFill>
                  <a:srgbClr val="00b050"/>
                </a:solidFill>
                <a:latin typeface="Verdana"/>
              </a:rPr>
              <a:t>resul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into memory or out to I/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terrupt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ly all computers provide a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mechanism by which other modules (I/O, memor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Interrup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rovided primarily as a way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mprove processing effici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Verdana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external </a:t>
            </a:r>
            <a:r>
              <a:rPr b="0" lang="en-US" sz="2000" spc="-1" strike="noStrike">
                <a:solidFill>
                  <a:srgbClr val="0432ff"/>
                </a:solidFill>
                <a:latin typeface="Verdana"/>
              </a:rPr>
              <a:t>devi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much </a:t>
            </a:r>
            <a:r>
              <a:rPr b="0" lang="en-US" sz="2000" spc="-1" strike="noStrike">
                <a:solidFill>
                  <a:srgbClr val="0432ff"/>
                </a:solidFill>
                <a:latin typeface="Verdana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n the </a:t>
            </a:r>
            <a:r>
              <a:rPr b="0" lang="en-US" sz="2000" spc="-1" strike="noStrike">
                <a:solidFill>
                  <a:srgbClr val="0432ff"/>
                </a:solidFill>
                <a:latin typeface="Verdana"/>
              </a:rPr>
              <a:t>process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se that the processor is transferring data to a printer using the instruction cycle sch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432ff"/>
                </a:solidFill>
                <a:uFillTx/>
                <a:latin typeface="Verdana"/>
              </a:rPr>
              <a:t>After each write oper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processor must pause and remain idle until the printer catches u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ength of this pause may be on the order of many hundreds or even thousands of instruction cycles that do not involve memor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432ff"/>
                </a:solidFill>
                <a:uFillTx/>
                <a:latin typeface="Verdana"/>
              </a:rPr>
              <a:t>Clearly, this is a very wasteful use of the processo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Class of </a:t>
            </a: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Interru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echanis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by which </a:t>
            </a: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other module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e.g. I/O) may </a:t>
            </a:r>
            <a:r>
              <a:rPr b="1" i="1" lang="en-GB" sz="2800" spc="-1" strike="noStrike">
                <a:solidFill>
                  <a:srgbClr val="00b050"/>
                </a:solidFill>
                <a:latin typeface="Verdana"/>
              </a:rPr>
              <a:t>interrupt normal sequence of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.g. overflow, division by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erated by internal processor ti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sed in pre-emptive multi-tas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om I/O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Hardware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.g. memory parity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Program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rcRect l="0" t="0" r="0" b="15071"/>
          <a:stretch/>
        </p:blipFill>
        <p:spPr>
          <a:xfrm>
            <a:off x="228600" y="1233360"/>
            <a:ext cx="8763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ntent Placeholder 4" descr=""/>
          <p:cNvPicPr/>
          <p:nvPr/>
        </p:nvPicPr>
        <p:blipFill>
          <a:blip r:embed="rId1"/>
          <a:stretch/>
        </p:blipFill>
        <p:spPr>
          <a:xfrm>
            <a:off x="507960" y="1492200"/>
            <a:ext cx="8077320" cy="478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Program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6840" y="1066680"/>
            <a:ext cx="8327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user progra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contains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two WRITE comman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egment of code at the begin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one WRITE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econd segment of c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econd WRITE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third and final segment of c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E comm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kes the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I/O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vided by the O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ly, the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I/O progra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sts of a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segment of co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ollowed by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an I/O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followed by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another segment of cod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/O command invokes a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hardware I/O ope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Program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User Progra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s a series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RITE calls interleaved with process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segments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1, 2, and 3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 to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quences of instructions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 not involve I/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RITE cal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to an I/O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that is a system utility and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ill perform the actual I/O ope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Program Flow Control(No Interrupt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The I/O program consists of three se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quence of instructions, labeled 4 in the figure, to prepare f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ual I/O op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ctual I/O comma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Without the use of interrup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once this command is issued,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gram must wait for the I/O device to perform the requested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quence of instructions, labeled 5 in the figur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o complete the op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is may include setting a flag indicating the success or failure of the oper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Program Flow Control(No Interrupt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6840" y="105228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432ff"/>
                </a:solidFill>
                <a:uFillTx/>
                <a:latin typeface="Verdana"/>
              </a:rPr>
              <a:t>Consider the flow of control in Figure b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r program reaches a point at which it makes a system call in the form of a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WRITE cal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/O program consists onl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reparation code and the actual I/O comman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these few instructions have been executed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ontrol returns to the use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while,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he external device is busy accepting data from computer memory and printing 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/O operati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conducted </a:t>
            </a:r>
            <a:r>
              <a:rPr b="1" lang="en-US" sz="2000" spc="-1" strike="noStrike">
                <a:solidFill>
                  <a:srgbClr val="0432ff"/>
                </a:solidFill>
                <a:latin typeface="Verdana"/>
              </a:rPr>
              <a:t>concurrent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xecution of instruc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user progra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Program Flow Control(with Interrupt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Program Con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Modern computer is constructed based on </a:t>
            </a:r>
            <a:r>
              <a:rPr b="1" lang="en-US" sz="3200" spc="-1" strike="noStrike" u="sng">
                <a:solidFill>
                  <a:srgbClr val="0432ff"/>
                </a:solidFill>
                <a:uFillTx/>
                <a:latin typeface="Verdana"/>
              </a:rPr>
              <a:t>John Von Neuman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principl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Data and instructio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store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 single read/Write Mem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tent of this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mem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1" lang="en-US" sz="2800" spc="-1" strike="noStrike">
                <a:solidFill>
                  <a:srgbClr val="0432ff"/>
                </a:solidFill>
                <a:latin typeface="Verdana"/>
              </a:rPr>
              <a:t>address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y location without regards to the cont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ccurs in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sequential fashion</a:t>
            </a:r>
            <a:r>
              <a:rPr b="1" i="1" lang="en-GB" sz="2800" spc="-1" strike="noStrike">
                <a:solidFill>
                  <a:srgbClr val="0432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Interrupt Cyc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instruction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Processor checks for inter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Indicated by an interrupt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o interrup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etch next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Verdana"/>
              </a:rPr>
              <a:t>If interrupt pen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uspe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ecution of current progra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et PC to start addres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interrupt handler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st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text and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terrupted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Transfer of Control via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14394" t="12748" r="28028" b="35558"/>
          <a:stretch/>
        </p:blipFill>
        <p:spPr>
          <a:xfrm>
            <a:off x="457200" y="1125360"/>
            <a:ext cx="81532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Arial Black"/>
              </a:rPr>
              <a:t>Instruction Cycle with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8333" t="24510" r="8333" b="30393"/>
          <a:stretch/>
        </p:blipFill>
        <p:spPr>
          <a:xfrm>
            <a:off x="39600" y="1905120"/>
            <a:ext cx="87235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32ff"/>
                </a:solidFill>
                <a:uFillTx/>
                <a:latin typeface="Times New Roman"/>
              </a:rPr>
              <a:t>If an interrupt is pending, the processor does the 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t suspends execution of the current progra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executed an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aves its contex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This means saving the address of the next instruction to be execut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urrent contents of the program counter) and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any other data relevant to the processor’s current activ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sets the program count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</a:t>
            </a:r>
            <a:r>
              <a:rPr b="0" lang="en-US" sz="2000" spc="-1" strike="noStrike" u="sng">
                <a:solidFill>
                  <a:srgbClr val="0432ff"/>
                </a:solidFill>
                <a:uFillTx/>
                <a:latin typeface="Verdana"/>
              </a:rPr>
              <a:t>starting address of an interrupt handler rout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cessor now proceeds to the fetch cycle and fetches the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irst instruction in the interrupt handler program, which will service the interru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interrupt handler routine is completed, the processor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can resume execution of the user program at the point of interru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030a0"/>
                </a:solidFill>
                <a:latin typeface="Arial Black"/>
              </a:rPr>
              <a:t>Instruction Cycle with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Short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57480" y="1089000"/>
            <a:ext cx="66294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er program code 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haded green, 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/O program code seg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haded gra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3.10a shows the case in which interrupts are not use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processor must wait while an I/O operation is per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s 3.10b assume that the time required for the I/O operation is </a:t>
            </a:r>
            <a:r>
              <a:rPr b="1" lang="en-US" sz="2800" spc="-1" strike="noStrike" u="sng">
                <a:solidFill>
                  <a:srgbClr val="0432ff"/>
                </a:solidFill>
                <a:uFillTx/>
                <a:latin typeface="Times New Roman"/>
              </a:rPr>
              <a:t>relatively sh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the segment of code labeled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code segment 2</a:t>
            </a:r>
            <a:r>
              <a:rPr b="1" lang="ar-SA" sz="2400" spc="-1" strike="noStrike">
                <a:solidFill>
                  <a:srgbClr val="0432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is interrup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portion of the code (2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the interrupt occur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interrup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rviced, </a:t>
            </a:r>
            <a:r>
              <a:rPr b="1" lang="en-US" sz="2400" spc="-1" strike="noStrike">
                <a:solidFill>
                  <a:srgbClr val="0432ff"/>
                </a:solidFill>
                <a:latin typeface="Times New Roman"/>
              </a:rPr>
              <a:t>execution resumes with the remainder of code segment 2 (2b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Short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Long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1"/>
          <a:stretch/>
        </p:blipFill>
        <p:spPr>
          <a:xfrm>
            <a:off x="1971720" y="1066680"/>
            <a:ext cx="5149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re typical case, especially for a slow device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such as a prin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s that th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/O operation will take much more time than executing a sequence of user instru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case, the user program reaches the second WRITE call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I/O operation spawned by the first call is comple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The result is that the user program is hung up at that 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preceding I/O operation is completed, this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new WRITE call may be process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</a:t>
            </a:r>
            <a:r>
              <a:rPr b="0" lang="en-US" sz="2400" spc="-1" strike="noStrike" u="sng">
                <a:solidFill>
                  <a:srgbClr val="0432ff"/>
                </a:solidFill>
                <a:uFillTx/>
                <a:latin typeface="Verdana"/>
              </a:rPr>
              <a:t>new I/O operation may be start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Program Timing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Long I/O Wa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Black"/>
              </a:rPr>
              <a:t>Instruction Cycle (with Interrupts) - 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5" name="Picture 1029" descr=""/>
          <p:cNvPicPr/>
          <p:nvPr/>
        </p:nvPicPr>
        <p:blipFill>
          <a:blip r:embed="rId1"/>
          <a:srcRect l="0" t="0" r="0" b="23878"/>
          <a:stretch/>
        </p:blipFill>
        <p:spPr>
          <a:xfrm>
            <a:off x="52560" y="1852560"/>
            <a:ext cx="9091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Multiple Interrup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ble interru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or will ignore further interrupts whilst processing one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remain pending and are checked after first interrupt has been proc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handled in sequence as they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efine prior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Low priority interrup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interrupted by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higher priority interru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higher priority interrupt has be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cessed, processor returns to previous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Hardwired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e computer has sm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t of </a:t>
            </a:r>
            <a:r>
              <a:rPr b="1" i="1" lang="en-US" sz="2800" spc="-1" strike="noStrike">
                <a:solidFill>
                  <a:srgbClr val="0432ff"/>
                </a:solidFill>
                <a:latin typeface="Verdana"/>
              </a:rPr>
              <a:t>arithmetic and logical component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can be combined (configured) in different ways (hardware programming)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 store the data or to perform arithmetic and logical opera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erform task (sequence of operations), we need to </a:t>
            </a:r>
            <a:r>
              <a:rPr b="0" i="1" lang="en-US" sz="2800" spc="-1" strike="noStrike">
                <a:solidFill>
                  <a:srgbClr val="0432ff"/>
                </a:solidFill>
                <a:latin typeface="Verdana"/>
              </a:rPr>
              <a:t>rewire these component to achieve the tas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ired systems are </a:t>
            </a: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inflex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Multiple Interrupts - Sequent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9" name="Picture 1028" descr=""/>
          <p:cNvPicPr/>
          <p:nvPr/>
        </p:nvPicPr>
        <p:blipFill>
          <a:blip r:embed="rId1"/>
          <a:srcRect l="0" t="0" r="0" b="57566"/>
          <a:stretch/>
        </p:blipFill>
        <p:spPr>
          <a:xfrm>
            <a:off x="838080" y="1627200"/>
            <a:ext cx="70866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 Black"/>
              </a:rPr>
              <a:t>Multiple Interrupts – Nes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rcRect l="0" t="47773" r="0" b="9608"/>
          <a:stretch/>
        </p:blipFill>
        <p:spPr>
          <a:xfrm>
            <a:off x="762120" y="16765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152280" y="1303200"/>
            <a:ext cx="8763120" cy="5338800"/>
            <a:chOff x="152280" y="1303200"/>
            <a:chExt cx="8763120" cy="5338800"/>
          </a:xfrm>
        </p:grpSpPr>
        <p:pic>
          <p:nvPicPr>
            <p:cNvPr id="263" name="Picture 5" descr=""/>
            <p:cNvPicPr/>
            <p:nvPr/>
          </p:nvPicPr>
          <p:blipFill>
            <a:blip r:embed="rId1"/>
            <a:srcRect l="14394" t="14708" r="19699" b="33335"/>
            <a:stretch/>
          </p:blipFill>
          <p:spPr>
            <a:xfrm>
              <a:off x="152280" y="1303200"/>
              <a:ext cx="876312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1"/>
            <p:cNvSpPr/>
            <p:nvPr/>
          </p:nvSpPr>
          <p:spPr>
            <a:xfrm rot="2099400">
              <a:off x="2336040" y="3946320"/>
              <a:ext cx="414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7375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Time Sequence of Multiple Interrup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6732720" y="1628640"/>
            <a:ext cx="241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030a0"/>
                </a:solidFill>
                <a:uFillTx/>
                <a:latin typeface="Times New Roman"/>
              </a:rPr>
              <a:t>Priorit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1-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2-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3-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030a0"/>
                </a:solidFill>
                <a:uFillTx/>
                <a:latin typeface="Times New Roman"/>
              </a:rPr>
              <a:t>Time of call occurrence</a:t>
            </a: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Printer t=10 (need 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Communication t=15 (need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030a0"/>
                </a:solidFill>
                <a:latin typeface="Times New Roman"/>
              </a:rPr>
              <a:t>Dsk=20 (need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Connec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ll the units must be connec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Different type of connection for different type of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32ff"/>
                </a:solidFill>
                <a:latin typeface="Verdana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b050"/>
                </a:solidFill>
                <a:latin typeface="Verdana"/>
              </a:rPr>
              <a:t>oper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indicated b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ad and write control signal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b050"/>
                </a:solidFill>
                <a:latin typeface="Verdana"/>
              </a:rPr>
              <a:t>loc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he operation is specified by an addres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32ff"/>
                </a:solidFill>
                <a:latin typeface="Verdana"/>
              </a:rPr>
              <a:t>Input/Out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operations;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ad and wri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rt  is an interface to an external devic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nd give each a unique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external data paths for the input and output of data with an external device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le to send interrupt signals to the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432ff"/>
                </a:solidFill>
                <a:latin typeface="Verdan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Reads in instructions and dat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0432ff"/>
                </a:solidFill>
                <a:latin typeface="Verdana"/>
              </a:rPr>
              <a:t>writes out data after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432ff"/>
                </a:solidFill>
                <a:latin typeface="Verdana"/>
              </a:rPr>
              <a:t>uses control signa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ontrol the overall operation of the 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also receive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terrupt signal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Computer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rcRect l="22551" t="9848" r="24510" b="15908"/>
          <a:stretch/>
        </p:blipFill>
        <p:spPr>
          <a:xfrm>
            <a:off x="422280" y="1066680"/>
            <a:ext cx="3191040" cy="5791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4608360" y="1773360"/>
            <a:ext cx="4229280" cy="3501000"/>
          </a:xfrm>
          <a:prstGeom prst="rect">
            <a:avLst/>
          </a:prstGeom>
          <a:noFill/>
          <a:ln w="9360">
            <a:solidFill>
              <a:srgbClr val="04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emory to process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rea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 instruction or a unit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mem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ocessor to mem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writ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 unit of data to mem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/O to process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rea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 from an I/O device via an I/O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ocessor to I/O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processor </a:t>
            </a:r>
            <a:r>
              <a:rPr b="1" lang="en-US" sz="1600" spc="-1" strike="noStrike">
                <a:solidFill>
                  <a:srgbClr val="0432ff"/>
                </a:solidFill>
                <a:latin typeface="Times New Roman"/>
              </a:rPr>
              <a:t>sen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 to the I/O de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■■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/O to or from mem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For these two cases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 I/O module is allow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change data directly with memory, without going through the process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ing direct memory access (DM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Memory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and sends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addresses (of location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control sign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Input/Output Connection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ilar to memory from computer’s view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Input/Output Connection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 control signals from compu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d control signals to peripher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spin d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 addresses from compu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port number to identify periph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d interrupt signals (contro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CPU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ads instruction an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rites out data (after process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ds control signals to other un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ceives (&amp; acts on) interru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B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re are a number of possible interconnection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ingle and multiple BUS structures are most comm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.g. Control/Address/Data bus (P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.g. Unibus (DEC-PDP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General purpose hardwa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General purpose configuration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arithmetic and logical functions will perform the different operations according to the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control signa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pplied to this hardwa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this Architecture, the system will </a:t>
            </a:r>
            <a:r>
              <a:rPr b="1" lang="en-US" sz="2800" spc="-1" strike="noStrike">
                <a:solidFill>
                  <a:srgbClr val="0432ff"/>
                </a:solidFill>
                <a:latin typeface="Verdana"/>
              </a:rPr>
              <a:t>accept dat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control signals to </a:t>
            </a:r>
            <a:r>
              <a:rPr b="1" lang="en-US" sz="2800" spc="-1" strike="noStrike">
                <a:solidFill>
                  <a:srgbClr val="0432ff"/>
                </a:solidFill>
                <a:latin typeface="Verdana"/>
              </a:rPr>
              <a:t>produce res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 purpose hardware can do </a:t>
            </a: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different tasks, according to given correct control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 Black"/>
              </a:rPr>
              <a:t>What is a Bu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GB" sz="2800" spc="-1" strike="noStrike">
                <a:solidFill>
                  <a:srgbClr val="0432ff"/>
                </a:solidFill>
                <a:latin typeface="Verdana"/>
              </a:rPr>
              <a:t>communication pathway connecting two or mor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ually </a:t>
            </a:r>
            <a:r>
              <a:rPr b="1" lang="en-GB" sz="2800" spc="-1" strike="noStrike">
                <a:solidFill>
                  <a:srgbClr val="0432ff"/>
                </a:solidFill>
                <a:latin typeface="Verdana"/>
              </a:rPr>
              <a:t>broadca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ten 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grou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number of channels in one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32 bit data bus is 32 separate single bit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Power lines may not be sh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Data B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Carrie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ember that there is no difference between “data” and “instruction” at this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onnec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ajor computer components (processor, memory, I/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Width is a key determinant o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, 16, 32, 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Address b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dentify </a:t>
            </a:r>
            <a:r>
              <a:rPr b="0" lang="en-GB" sz="3200" spc="-1" strike="noStrike" u="sng">
                <a:solidFill>
                  <a:srgbClr val="0432ff"/>
                </a:solidFill>
                <a:uFillTx/>
                <a:latin typeface="Verdana"/>
              </a:rPr>
              <a:t>the source or destination of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.g. CPU needs to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 instruction (data) from a given location in mem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s width determines maximum memory capacity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8080 has 16 bit address bus giving 64k address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Control B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5640" y="1066680"/>
            <a:ext cx="8420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ol and tim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 control lin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Memory 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on the bus to be written into the addressed loc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Memory rea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from the addressed location to be placed on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/O 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on the bus to be output to the addressed I/O por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/O rea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causes data from the addressed I/O port to be placed on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ransfer AC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data have been accepted from or placed on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Bus reque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a module needs to gain control of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Bus gra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a requesting module has been granted control of the b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nterrupt reque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dicates that an interrupt is pending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Interrupt AC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acknowledges that the pending interrupt has been recogniz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Cloc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s used to synchronize oper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32ff"/>
                </a:solidFill>
                <a:latin typeface="Verdan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itializes all modul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Bus Interconnection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rcRect l="0" t="0" r="0" b="30485"/>
          <a:stretch/>
        </p:blipFill>
        <p:spPr>
          <a:xfrm>
            <a:off x="457200" y="2620800"/>
            <a:ext cx="81532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 lines provide a path for moving data among system modu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lines, collectively, are called the data b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idth of the data bus is a key factor in determining overall system perform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ress lines are used to designate the source or destination of the data on the data b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ddress lines are generally also used to address I/O po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ntrol lines are used to control the access to and the use of the data and address lines. Because the data and address lines are shared by all component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Bus Interconnection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peration of the bus is as follo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ne modu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ishes to send data to anoth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t must do two thing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obtain the use of the bus,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 transfer data via the bu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41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one modu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ishes to request data from another modu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t must do three thing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obtain the use of the bus,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fer a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reque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to the other module over the appropriat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ontrol and address li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It must then </a:t>
            </a:r>
            <a:r>
              <a:rPr b="1" lang="en-US" sz="2400" spc="-1" strike="noStrike">
                <a:solidFill>
                  <a:srgbClr val="0432ff"/>
                </a:solidFill>
                <a:latin typeface="Verdana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at second modul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nd the da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Black"/>
              </a:rPr>
              <a:t>Bus Interconnection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Big and Yellow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do buses look lik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llel lines on circuit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bbon c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p connectors on mother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P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s of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3489480" y="4838760"/>
            <a:ext cx="2038320" cy="138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6119640" y="4827600"/>
            <a:ext cx="2732400" cy="1514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380880" y="4581360"/>
            <a:ext cx="2641680" cy="1760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4"/>
          <a:stretch/>
        </p:blipFill>
        <p:spPr>
          <a:xfrm>
            <a:off x="6588000" y="3006720"/>
            <a:ext cx="2124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030a0"/>
                </a:solidFill>
                <a:latin typeface="Arial Black"/>
              </a:rPr>
              <a:t>Physical Realization of Bus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rcRect l="0" t="0" r="0" b="16868"/>
          <a:stretch/>
        </p:blipFill>
        <p:spPr>
          <a:xfrm>
            <a:off x="808200" y="1150920"/>
            <a:ext cx="7526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ingle Bus Probl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ts of devices on one bus lead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tion de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data paths mean that co-ordination of bus use can adversely affec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ggregate data transfer approaches bus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systems use multiple buses to overcome thes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General purpose hardware </a:t>
            </a:r>
            <a:br>
              <a:rPr sz="3200"/>
            </a:br>
            <a:r>
              <a:rPr b="0" lang="en-GB" sz="3200" spc="-1" strike="noStrike">
                <a:solidFill>
                  <a:srgbClr val="7030a0"/>
                </a:solidFill>
                <a:latin typeface="Arial Black"/>
              </a:rPr>
              <a:t>&amp; Control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stead of re-wiring, we need to supply a new set of control sign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hardware component is needed, that is to receive the code of the different commands and </a:t>
            </a: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generate sequence of control signals in accord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new hardware unit is called </a:t>
            </a:r>
            <a:r>
              <a:rPr b="1" lang="en-US" sz="3200" spc="-1" strike="noStrike" u="sng">
                <a:solidFill>
                  <a:srgbClr val="0432ff"/>
                </a:solidFill>
                <a:uFillTx/>
                <a:latin typeface="Verdana"/>
              </a:rPr>
              <a:t>control uni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aditional (ISA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(with cach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7" name="Picture 43" descr=""/>
          <p:cNvPicPr/>
          <p:nvPr/>
        </p:nvPicPr>
        <p:blipFill>
          <a:blip r:embed="rId1"/>
          <a:srcRect l="0" t="0" r="5610" b="62474"/>
          <a:stretch/>
        </p:blipFill>
        <p:spPr>
          <a:xfrm>
            <a:off x="457200" y="1676520"/>
            <a:ext cx="85345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igh Performance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9" name="Picture 41" descr=""/>
          <p:cNvPicPr/>
          <p:nvPr/>
        </p:nvPicPr>
        <p:blipFill>
          <a:blip r:embed="rId1"/>
          <a:srcRect l="0" t="43146" r="0" b="10004"/>
          <a:stretch/>
        </p:blipFill>
        <p:spPr>
          <a:xfrm>
            <a:off x="685800" y="1650960"/>
            <a:ext cx="76201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s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di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e data &amp; address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ared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 valid or data valid control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 - fewer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complex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timat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3" name="Content Placeholder 4" descr=""/>
          <p:cNvPicPr/>
          <p:nvPr/>
        </p:nvPicPr>
        <p:blipFill>
          <a:blip r:embed="rId1"/>
          <a:srcRect l="4262" t="25293" r="3795" b="37039"/>
          <a:stretch/>
        </p:blipFill>
        <p:spPr>
          <a:xfrm>
            <a:off x="466560" y="368280"/>
            <a:ext cx="82108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9387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Black"/>
              </a:rPr>
              <a:t>Hardware and Software Approach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Content Placeholder 4" descr=""/>
          <p:cNvPicPr/>
          <p:nvPr/>
        </p:nvPicPr>
        <p:blipFill>
          <a:blip r:embed="rId1"/>
          <a:stretch/>
        </p:blipFill>
        <p:spPr>
          <a:xfrm>
            <a:off x="1916280" y="1066680"/>
            <a:ext cx="5260680" cy="563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What is a progr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each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step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an arithmetic or logical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ope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is d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each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ope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a different set of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ontrol signals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3200" spc="-1" strike="noStrike">
                <a:solidFill>
                  <a:srgbClr val="0432ff"/>
                </a:solidFill>
                <a:latin typeface="Verdana"/>
              </a:rPr>
              <a:t>progra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terpreted by control unit as sequence of control signals is called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softwar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Arial Black"/>
              </a:rPr>
              <a:t>Function of Control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each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ope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en-GB" sz="3200" spc="-1" strike="noStrike">
                <a:solidFill>
                  <a:srgbClr val="0432ff"/>
                </a:solidFill>
                <a:latin typeface="Verdana"/>
              </a:rPr>
              <a:t>unique code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s provi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e.g. ADD, MO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 hardware segment accepts the code and issues the control sign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We have a comput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09:53:52Z</dcterms:created>
  <dc:creator>Adrian J Pullin</dc:creator>
  <dc:description/>
  <dc:language>en-US</dc:language>
  <cp:lastModifiedBy>Dua'a Sinnari</cp:lastModifiedBy>
  <cp:lastPrinted>1999-09-24T09:11:31Z</cp:lastPrinted>
  <dcterms:modified xsi:type="dcterms:W3CDTF">2023-05-09T16:02:34Z</dcterms:modified>
  <cp:revision>120</cp:revision>
  <dc:subject/>
  <dc:title>03 Buses</dc:title>
</cp:coreProperties>
</file>