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08E7-F96E-4301-A311-BA3033F91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129B-4306-407F-A950-7DD0DA7DA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23FD-1DA9-4C5C-81B6-5F53D0AD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F4EE-13E4-4699-8029-E27051208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7EB2-A0F8-4CEB-B05D-115A8AA05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273C-89FB-4734-BF8E-6AF9E29D2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FAD8-857A-44D5-ADCD-448411DC2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AE4B-ABFC-4EB5-9D1E-124E0674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2438-F566-4582-B4FE-0CE2C36D0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038A-EE36-4C7C-94F0-741A76BD3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6A6E-D073-4A62-87B9-359415730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5D15-77CB-43CB-BE6A-08AB1CCE8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EB60-20D9-41D4-A843-7B0CA1C2A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659A-30DB-4141-9ACF-F9F256273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1243-58DD-4FD2-A7F3-ED436A508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AD8F-1C13-40DA-8EDC-F9FA81C1F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5FB7-7B65-44A1-9F3B-A86B7E94B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49DD-36EC-4BCC-A3A7-CF45A741B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F6BD-34A8-4732-A631-9121F4C72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6730-7223-4814-B24C-6E9C36923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DDBC-418E-43D9-8E2D-E6E9946C4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E653-C98F-4993-9F04-F0B11E266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AFEB-FF80-49FD-B05E-D18AFED53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4531-BCAE-440E-8DC2-AA02F869C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8DE3-5898-4458-9D6D-2FBF7D2E0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2014-547A-4ADC-8AE8-66C74AE91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64F5-66A1-4AE8-8931-C87BF4391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F77C-C0BC-41EC-AD4A-2281E0FB6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D52E-C82F-4AB7-B81D-914D37E77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7A93-2CE4-4B69-A24C-77DE9203D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9C2D-A385-4299-B9BD-C99E73A41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629C-DBCA-42FE-82B6-E96CC1A30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DEF9-FF2C-41AA-871E-FAB060133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0185-4BBC-40ED-95A6-0CDFF2B80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DBD0-5687-432B-82BD-4DFDF7DE1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C61E-EE5D-4FBD-87C1-286F48AF8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DF5B-3CB2-4526-8D7A-F9D7C2175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1F5C-FF39-41B8-8E15-14DEB5DAB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C84-7602-4331-8094-A1A367BD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562-1390-498E-9E67-2DEBF50C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0F0-74A6-47BE-860C-634688E1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5BF-0F97-4139-AA34-279049E4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9C8-0085-4697-97A2-6C98C02A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FEAE-002E-4C02-8A08-62359BDB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7E9-CB15-4F54-8A99-778A1B48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8EC-0C95-41CD-ACC2-94DCCC26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95C-8077-4EF5-B8CC-1B0BCD4C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FAD-6C40-484E-9BD7-0A1C74CE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8C2-C862-4A91-8D41-203FE35D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D5D-461D-4971-AC7A-ABE646C7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7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23F4-8851-4769-B02F-261BF89534F7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illiam Stalling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uter Organiz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nd Architectur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3029040"/>
            <a:ext cx="640080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ystem B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tch Cyc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 Counter (PC) holds address of next instruction to fe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or fetches instruction from memory location pointed to by P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ment P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less told otherw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 loaded into Instruction Register (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or interprets instruction and performs required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Action Categori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or-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transfer between CPU and main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or 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transfer between CPU and I/O mo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arithmetic or logical operation on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ation of sequence of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ju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tion of above can be held by single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s and Data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simple example, consider hypothetical machine that holds data and instructions in a words of 16 bit length (2 byte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bits are used to hold the operation code (Opcode), allows up to 16 different operation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bers are represented sign-magnitud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008000" y="2600280"/>
            <a:ext cx="7345440" cy="1295280"/>
            <a:chOff x="1008000" y="2600280"/>
            <a:chExt cx="7345440" cy="1295280"/>
          </a:xfrm>
        </p:grpSpPr>
        <p:sp>
          <p:nvSpPr>
            <p:cNvPr id="114" name="Rectangle 16"/>
            <p:cNvSpPr/>
            <p:nvPr/>
          </p:nvSpPr>
          <p:spPr>
            <a:xfrm>
              <a:off x="1260360" y="3176280"/>
              <a:ext cx="702000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2737080" y="31762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1440000" y="3321000"/>
              <a:ext cx="11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3492720" y="328428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/Ope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1008000" y="2600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7848720" y="26352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2665440" y="2635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2376720" y="2600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 of Program Execu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1029" descr=""/>
          <p:cNvPicPr/>
          <p:nvPr/>
        </p:nvPicPr>
        <p:blipFill>
          <a:blip r:embed="rId1"/>
          <a:srcRect l="0" t="0" r="0" b="22236"/>
          <a:stretch/>
        </p:blipFill>
        <p:spPr>
          <a:xfrm>
            <a:off x="1523880" y="1066680"/>
            <a:ext cx="6064200" cy="579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62567" t="14316" r="14783" b="73873"/>
          <a:stretch/>
        </p:blipFill>
        <p:spPr>
          <a:xfrm>
            <a:off x="6189840" y="76320"/>
            <a:ext cx="29462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Cycle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0" t="0" r="0" b="28000"/>
          <a:stretch/>
        </p:blipFill>
        <p:spPr>
          <a:xfrm>
            <a:off x="179280" y="1665360"/>
            <a:ext cx="808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echanism by which other modules (e.g. I/O) may interrupt normal sequence of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overflow, division by z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nerated by internal processor tim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in pre-emptive multi-tas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rom I/O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rdware fail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memory parity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rcRect l="10154" t="33268" r="41976" b="23425"/>
          <a:stretch/>
        </p:blipFill>
        <p:spPr>
          <a:xfrm>
            <a:off x="0" y="998640"/>
            <a:ext cx="91645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unt…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rcRect l="11521" t="34744" r="43459" b="23425"/>
          <a:stretch/>
        </p:blipFill>
        <p:spPr>
          <a:xfrm>
            <a:off x="108000" y="1066680"/>
            <a:ext cx="903456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6840" y="1066680"/>
            <a:ext cx="8178840" cy="5639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13195" t="34744" r="43636" b="26870"/>
          <a:stretch/>
        </p:blipFill>
        <p:spPr>
          <a:xfrm>
            <a:off x="0" y="1071720"/>
            <a:ext cx="914724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gram Flow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rcRect l="0" t="0" r="0" b="15071"/>
          <a:stretch/>
        </p:blipFill>
        <p:spPr>
          <a:xfrm>
            <a:off x="228600" y="1219320"/>
            <a:ext cx="8763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ardwired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puter has sma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et of arithmetic and logical components that can be combined (configured) in different ways (hardware programming) to store the data or to perform arithmetic and logical opera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erform task (sequence of operations), we need to rewire these component to achieve the task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rdwired systems are inflex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ransfer of Control via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14394" t="12748" r="28028" b="35558"/>
          <a:stretch/>
        </p:blipFill>
        <p:spPr>
          <a:xfrm>
            <a:off x="457200" y="1125360"/>
            <a:ext cx="815328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struction Cycle (with Interrupts) -  Sta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1029" descr=""/>
          <p:cNvPicPr/>
          <p:nvPr/>
        </p:nvPicPr>
        <p:blipFill>
          <a:blip r:embed="rId1"/>
          <a:srcRect l="0" t="0" r="0" b="23878"/>
          <a:stretch/>
        </p:blipFill>
        <p:spPr>
          <a:xfrm>
            <a:off x="52560" y="1852560"/>
            <a:ext cx="9091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able interru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or will ignore further interrupts whilst processing one interru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rupts remain pending and are checked after first interrupt has been proc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rupts handled in sequence as they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prior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w priority interrupts can be interrupted by higher priority interru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higher priority interrupt has been processed, processor returns to previous interru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 Interrupts - Sequenti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Picture 1028" descr=""/>
          <p:cNvPicPr/>
          <p:nvPr/>
        </p:nvPicPr>
        <p:blipFill>
          <a:blip r:embed="rId1"/>
          <a:srcRect l="0" t="0" r="0" b="57566"/>
          <a:stretch/>
        </p:blipFill>
        <p:spPr>
          <a:xfrm>
            <a:off x="838080" y="1627200"/>
            <a:ext cx="70866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 Interrupts – Neste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rcRect l="0" t="47773" r="0" b="9608"/>
          <a:stretch/>
        </p:blipFill>
        <p:spPr>
          <a:xfrm>
            <a:off x="762120" y="1676520"/>
            <a:ext cx="7467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ime Sequence of Multiple Interrup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rcRect l="14394" t="14708" r="19699" b="33335"/>
          <a:stretch/>
        </p:blipFill>
        <p:spPr>
          <a:xfrm>
            <a:off x="152280" y="1303200"/>
            <a:ext cx="87631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nnect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 the units must be conn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fferent type of connection for different type of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Memory Conne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s and sends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s addresses (of loca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s control signa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put/Output Connection(1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ilar to memory from computer’s view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eive data from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nd data to periph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eive data from periph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nd data to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put/Output Connection(2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 control signals from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nd control signals to peripher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spin d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 addresses from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port number to identify periph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nd interrupt signals (contro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General purpose hardwa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eneral purpose configur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rithmetic and logical functions will perform the different operations according to the control signals we applied to this hardwa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this Architecture, the system will accept data and control signals to produce resul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neral purpose hardware can do different tasks, according to given correct control sig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us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re are a number of possible interconnection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ngle and multiple BUS structures are most comm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Control/Address/Data bus (P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Unibus (DEC-PD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hat is a Bus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communication pathway connecting two or more de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ually broadca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ten grou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number of channels in one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32 bit data bus is 32 separate single bit chann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wer lines may not be sh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Data B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rries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ember that there is no difference between “data” and “instruction” at this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dth is a key determinant of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8, 16, 32, 64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ddress b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entify the source or destination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CPU needs to read an instruction (data) from a given location in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us width determines maximum memory capacity of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8080 has 16 bit address bus giving 64k address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ntrol B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rol and timing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ory read/write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rupt req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ock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s Interconnection Sche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0" t="0" r="0" b="30485"/>
          <a:stretch/>
        </p:blipFill>
        <p:spPr>
          <a:xfrm>
            <a:off x="457200" y="2620800"/>
            <a:ext cx="815328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ig and Yellow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do buses look lik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allel lines on circuit bo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ibbon c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ip connectors on mother boa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PC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s of w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hysical Realization of Bus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0" b="16868"/>
          <a:stretch/>
        </p:blipFill>
        <p:spPr>
          <a:xfrm>
            <a:off x="808200" y="1150920"/>
            <a:ext cx="75261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ingle Bus Probl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ts of devices on one bus leads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agation del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ng data paths mean that co-ordination of bus use can adversely affect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ggregate data transfer approaches bus capa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st systems use multiple buses to overcome thes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raditional (ISA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(with cach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8" name="Picture 43" descr=""/>
          <p:cNvPicPr/>
          <p:nvPr/>
        </p:nvPicPr>
        <p:blipFill>
          <a:blip r:embed="rId1"/>
          <a:srcRect l="0" t="0" r="5610" b="62474"/>
          <a:stretch/>
        </p:blipFill>
        <p:spPr>
          <a:xfrm>
            <a:off x="457200" y="1676520"/>
            <a:ext cx="85345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rogram Concep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rn computer is constructed based on John Von Neumann princi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nd instructions are stored in a single read/Write Mem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tent of this memory is addressable by location without regards to the cont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cution occurs in sequential fash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igh Performance B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0" name="Picture 41" descr=""/>
          <p:cNvPicPr/>
          <p:nvPr/>
        </p:nvPicPr>
        <p:blipFill>
          <a:blip r:embed="rId1"/>
          <a:srcRect l="0" t="43146" r="0" b="10004"/>
          <a:stretch/>
        </p:blipFill>
        <p:spPr>
          <a:xfrm>
            <a:off x="685800" y="1650960"/>
            <a:ext cx="76201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us Typ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dic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parate data &amp; address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x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ared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ress valid or data valid control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vantage - fewer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re complex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ltimate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entralised or Distributed Arbit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entral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ngle hardware device controlling bus 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s Control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b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be part of CPU or sepa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tribu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module may claim the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rol logic on all mod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-ordination of events on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nchron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vents determined by clock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rol Bus includes clock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ingle 1-0 is a bus cy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devices can read clock 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ually sync on leading ed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ually a single cycle for an ev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Synchronous Timing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8" name="Picture 61" descr=""/>
          <p:cNvPicPr/>
          <p:nvPr/>
        </p:nvPicPr>
        <p:blipFill>
          <a:blip r:embed="rId1"/>
          <a:srcRect l="12701" t="22727" r="26444" b="32578"/>
          <a:stretch/>
        </p:blipFill>
        <p:spPr>
          <a:xfrm>
            <a:off x="1143000" y="1066680"/>
            <a:ext cx="601992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synchronous Timing – Read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60" descr=""/>
          <p:cNvPicPr/>
          <p:nvPr/>
        </p:nvPicPr>
        <p:blipFill>
          <a:blip r:embed="rId1"/>
          <a:srcRect l="8773" t="10116" r="23500" b="61365"/>
          <a:stretch/>
        </p:blipFill>
        <p:spPr>
          <a:xfrm>
            <a:off x="380880" y="1446120"/>
            <a:ext cx="8382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synchronous Timing – Write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rcRect l="8773" t="46972" r="23500" b="25000"/>
          <a:stretch/>
        </p:blipFill>
        <p:spPr>
          <a:xfrm>
            <a:off x="0" y="1574640"/>
            <a:ext cx="914400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CI Read Timing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rcRect l="0" t="0" r="0" b="10761"/>
          <a:stretch/>
        </p:blipFill>
        <p:spPr>
          <a:xfrm>
            <a:off x="533520" y="1676520"/>
            <a:ext cx="80010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CI Bus Arbit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rcRect l="0" t="0" r="0" b="31840"/>
          <a:stretch/>
        </p:blipFill>
        <p:spPr>
          <a:xfrm>
            <a:off x="76320" y="2309760"/>
            <a:ext cx="89154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hat is a program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sequence of st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each step, an arithmetic or logical operation is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each operation, a different set of control signals i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gram interpreted by control unit as sequence of control signals is calle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oftwar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Function of Control Uni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each operation a unique code is provi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ADD, MO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hardware segment accepts the code and issues the control sig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e have a computer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Control Unit and the Arithmetic and Logic Unit constitute the Central Processing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and instructions need to get into the system and results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mporary storage of code and results i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uter Compone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op Level View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rcRect l="0" t="0" r="0" b="8974"/>
          <a:stretch/>
        </p:blipFill>
        <p:spPr>
          <a:xfrm>
            <a:off x="1752480" y="1143000"/>
            <a:ext cx="5923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struction Cyc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wo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0" t="0" r="0" b="40729"/>
          <a:stretch/>
        </p:blipFill>
        <p:spPr>
          <a:xfrm>
            <a:off x="228600" y="3479760"/>
            <a:ext cx="8763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09:53:52Z</dcterms:created>
  <dc:creator>Adrian J Pullin</dc:creator>
  <dc:description/>
  <dc:language>en-US</dc:language>
  <cp:lastModifiedBy>wajdi alghamdi</cp:lastModifiedBy>
  <cp:lastPrinted>1999-09-24T09:11:31Z</cp:lastPrinted>
  <dcterms:modified xsi:type="dcterms:W3CDTF">2023-12-04T13:01:13Z</dcterms:modified>
  <cp:revision>76</cp:revision>
  <dc:subject/>
  <dc:title>03 Buses</dc:title>
</cp:coreProperties>
</file>