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6640" y="750600"/>
            <a:ext cx="4946760" cy="370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3852720" y="94330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230A-E25A-4EA2-B104-6C7D2E76B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63D7-3A4B-43E3-BEB2-8364999D1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B86A-D618-4486-8F0F-EB76F3638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F83A-3A7A-4138-A152-A585B74B0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D6F70-226B-4222-A20A-08AA19D4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D9C54-13C4-4334-B36B-1F99BF82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AFEF2-CAFD-440C-B787-637571DB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955D5-CC42-4396-81A6-79A69059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2190D-FDA0-4183-A03E-FD1DB84F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672C8-ED8F-473C-9132-8E6A3FC3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63FDA-0704-4697-BB97-A5448CC8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2249-F47B-4B6E-B139-123EB5AE6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BE6D9-A984-42F4-8C42-69FCB1C0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1B0BD-F5EB-4293-8EE9-2AD2C491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BE5B0-43FA-4BC8-B62F-72E942C8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E73DB-8789-45CA-8520-B5FDC9BF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29AA2-B1AB-46C5-9600-BFF40297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D7A7-BFB1-486F-962E-509E0E262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4F71-B93B-4EFD-9DC7-E0AF1C03A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77ED-BC4A-4241-8B08-FB835E523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09CC-0E1E-407A-8590-1C1883BFD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8C3F-4104-4ED6-8F46-6EF14673E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960F-0985-4F6B-8016-EBF40DF78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7D92-0B37-486D-A16A-7466CF318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6000" y="62370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CE09-F63E-4AA8-BD99-23E4071E0DEA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7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7236000" y="62370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BBBE-CE3D-4B65-8439-134172044E59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William Stalling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Computer Organization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and Architectur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6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 Rounded MT Bold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Arial Rounded MT Bold"/>
              </a:rPr>
              <a:t> E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761832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Chapter 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struction Set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ressing Modes and Form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2EBD-90C9-4436-AE8A-DD468601687C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Addressing (2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No memory ac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Very fast exec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Very limited address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Multiple registers helps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quires good assembly programming or compiler wri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N.B. C programm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int 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c.f. Direct addr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6C2A-53FF-460F-B724-9BBCDB6CEA35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Address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9"/>
          <p:cNvGraphicFramePr/>
          <p:nvPr/>
        </p:nvGraphicFramePr>
        <p:xfrm>
          <a:off x="2124000" y="1557360"/>
          <a:ext cx="48960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48960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2B18-9DB9-4C78-9185-6CA831BA2C53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Indirect Addressing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C.f. indirect addr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(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perand is in memory cell pointed to by contents of register 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arge address space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Rounded MT Bold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ne fewer memory access than indirect addr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0AA8-9145-4297-95FE-4CFF227F5B8A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Indirect Addressing Diagram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29"/>
          <p:cNvGraphicFramePr/>
          <p:nvPr/>
        </p:nvGraphicFramePr>
        <p:xfrm>
          <a:off x="2050920" y="1773360"/>
          <a:ext cx="457992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773360"/>
                    <a:ext cx="457992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FF72-8114-4E8C-BACB-FA6A7958DCA7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isplacement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A + (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ffective address=start address + dis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ffective address=Offset + (Segment Regist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Use direct and register indir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ress field hold two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 = base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 = register that holds dis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r vice ver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542D-B431-4007-86D5-B4B80564EA3B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isplacement Address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36"/>
          <p:cNvGraphicFramePr/>
          <p:nvPr/>
        </p:nvGraphicFramePr>
        <p:xfrm>
          <a:off x="2124000" y="1773360"/>
          <a:ext cx="44499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773360"/>
                    <a:ext cx="44499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5269-F4BF-4926-8CBD-EDE957EC4E32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lative Addressing (PC-Relativ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 version of displacement addr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 = Program counter, 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A + (P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.e. get operand from A cells from current location pointed to by 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c.f locality of reference &amp; cache us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2F34-DF6F-422D-8AAD-9B7D1A7C479C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Base-Register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 holds displac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(CS) +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 holds pointer to base add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 may be explicit or implic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.g. segment registers in 80x8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57E5-2D60-46FE-8332-77C22FFEDFAE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dexed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 = 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 = displac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A + (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Good for accessing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A + (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+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4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E1D1-06AB-4CA7-A16B-BD501ABABE62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2556000" y="1052640"/>
            <a:ext cx="6588000" cy="53496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Combin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328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Post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(A) + (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Pre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(A+(R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79AA-ABCC-4CFC-93C1-0EA2E21B89EB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ressing M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mmedi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ir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dir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Indir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Displacement (Indexed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7757-9365-4A0C-8586-49012AAFB3A0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Stack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4716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perand is (implicitly) on top of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.g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Pop top two items from stack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nd add and pu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4376880" y="2857680"/>
          <a:ext cx="386208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6880" y="2857680"/>
                    <a:ext cx="38620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A385-BD55-4936-88E4-9108C5C63DDE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 Rounded MT Bold"/>
              <a:ea typeface="新細明體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57200" y="2192400"/>
          <a:ext cx="817884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92400"/>
                    <a:ext cx="817884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93680"/>
            <a:ext cx="8134560" cy="650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굴림"/>
              </a:rPr>
              <a:t>ADDRESSING  MODES - EXAMPL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836280" y="3467160"/>
            <a:ext cx="1105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ddressing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ode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335680" y="3467160"/>
            <a:ext cx="8712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ffective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ddress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881960" y="3479760"/>
            <a:ext cx="7981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ntent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of AC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98600" y="3456000"/>
            <a:ext cx="5341680" cy="3084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531720" y="3860640"/>
            <a:ext cx="526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0" y="3978360"/>
            <a:ext cx="5778360" cy="28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Direct addre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5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/* AC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500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*/       800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Immediate operan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/* AC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5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*/       500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Indirect addre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8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/* AC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(500)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*/       300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Relative addre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70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/* AC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PC+500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*/       325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Indexed addre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6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/* AC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XR+500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*/       900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Regist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          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/* AC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R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*/       400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716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Register indirec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400         /* AC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R1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*/       700</a:t>
            </a: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6864120" y="1308240"/>
            <a:ext cx="1562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Load to AC    Mode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6886440" y="1312920"/>
            <a:ext cx="1506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6886440" y="151128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6886440" y="1711440"/>
            <a:ext cx="1506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Line 14"/>
          <p:cNvSpPr/>
          <p:nvPr/>
        </p:nvSpPr>
        <p:spPr>
          <a:xfrm>
            <a:off x="6886440" y="191124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6886440" y="231300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0" name="Line 16"/>
          <p:cNvSpPr/>
          <p:nvPr/>
        </p:nvSpPr>
        <p:spPr>
          <a:xfrm>
            <a:off x="6886440" y="251136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Line 17"/>
          <p:cNvSpPr/>
          <p:nvPr/>
        </p:nvSpPr>
        <p:spPr>
          <a:xfrm>
            <a:off x="6886440" y="271152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6886440" y="311148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3" name="Line 19"/>
          <p:cNvSpPr/>
          <p:nvPr/>
        </p:nvSpPr>
        <p:spPr>
          <a:xfrm>
            <a:off x="6886440" y="330984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Line 20"/>
          <p:cNvSpPr/>
          <p:nvPr/>
        </p:nvSpPr>
        <p:spPr>
          <a:xfrm>
            <a:off x="6886440" y="371160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6886440" y="391176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6" name="Line 22"/>
          <p:cNvSpPr/>
          <p:nvPr/>
        </p:nvSpPr>
        <p:spPr>
          <a:xfrm>
            <a:off x="6886440" y="431172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6886440" y="451008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Line 24"/>
          <p:cNvSpPr/>
          <p:nvPr/>
        </p:nvSpPr>
        <p:spPr>
          <a:xfrm>
            <a:off x="6886440" y="4911840"/>
            <a:ext cx="150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Line 25"/>
          <p:cNvSpPr/>
          <p:nvPr/>
        </p:nvSpPr>
        <p:spPr>
          <a:xfrm>
            <a:off x="6886440" y="5111640"/>
            <a:ext cx="153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Rectangle 26"/>
          <p:cNvSpPr/>
          <p:nvPr/>
        </p:nvSpPr>
        <p:spPr>
          <a:xfrm>
            <a:off x="7042320" y="1490760"/>
            <a:ext cx="12222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Address = 5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1" name="Rectangle 27"/>
          <p:cNvSpPr/>
          <p:nvPr/>
        </p:nvSpPr>
        <p:spPr>
          <a:xfrm>
            <a:off x="7044840" y="1709640"/>
            <a:ext cx="1342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Next instruction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2" name="Rectangle 28"/>
          <p:cNvSpPr/>
          <p:nvPr/>
        </p:nvSpPr>
        <p:spPr>
          <a:xfrm>
            <a:off x="6443280" y="130824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2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3" name="Rectangle 29"/>
          <p:cNvSpPr/>
          <p:nvPr/>
        </p:nvSpPr>
        <p:spPr>
          <a:xfrm>
            <a:off x="6443280" y="150984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201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6443280" y="170964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202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5" name="Rectangle 32"/>
          <p:cNvSpPr/>
          <p:nvPr/>
        </p:nvSpPr>
        <p:spPr>
          <a:xfrm>
            <a:off x="6443280" y="250812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4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7353000" y="250812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7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6443280" y="310824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5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Rectangle 36"/>
          <p:cNvSpPr/>
          <p:nvPr/>
        </p:nvSpPr>
        <p:spPr>
          <a:xfrm>
            <a:off x="7353000" y="310824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8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Rectangle 37"/>
          <p:cNvSpPr/>
          <p:nvPr/>
        </p:nvSpPr>
        <p:spPr>
          <a:xfrm>
            <a:off x="6443280" y="370836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6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Rectangle 38"/>
          <p:cNvSpPr/>
          <p:nvPr/>
        </p:nvSpPr>
        <p:spPr>
          <a:xfrm>
            <a:off x="7353000" y="370836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9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Rectangle 39"/>
          <p:cNvSpPr/>
          <p:nvPr/>
        </p:nvSpPr>
        <p:spPr>
          <a:xfrm>
            <a:off x="6443280" y="430848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702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Rectangle 40"/>
          <p:cNvSpPr/>
          <p:nvPr/>
        </p:nvSpPr>
        <p:spPr>
          <a:xfrm>
            <a:off x="7353000" y="430848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325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Rectangle 41"/>
          <p:cNvSpPr/>
          <p:nvPr/>
        </p:nvSpPr>
        <p:spPr>
          <a:xfrm>
            <a:off x="6443280" y="490680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8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Rectangle 42"/>
          <p:cNvSpPr/>
          <p:nvPr/>
        </p:nvSpPr>
        <p:spPr>
          <a:xfrm>
            <a:off x="7353000" y="4906800"/>
            <a:ext cx="437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3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6886440" y="1312920"/>
            <a:ext cx="0" cy="38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8404200" y="1312920"/>
            <a:ext cx="0" cy="38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Rectangle 45"/>
          <p:cNvSpPr/>
          <p:nvPr/>
        </p:nvSpPr>
        <p:spPr>
          <a:xfrm>
            <a:off x="7226280" y="1038240"/>
            <a:ext cx="766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emory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6327720" y="1038240"/>
            <a:ext cx="792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Address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Line 47"/>
          <p:cNvSpPr/>
          <p:nvPr/>
        </p:nvSpPr>
        <p:spPr>
          <a:xfrm>
            <a:off x="7845480" y="1312920"/>
            <a:ext cx="0" cy="204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4563720" y="1509840"/>
            <a:ext cx="8229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C = 2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4343400" y="1511280"/>
            <a:ext cx="1197000" cy="18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4563360" y="1955880"/>
            <a:ext cx="8064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R1 = 4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4343400" y="1969920"/>
            <a:ext cx="1197000" cy="18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Rectangle 52"/>
          <p:cNvSpPr/>
          <p:nvPr/>
        </p:nvSpPr>
        <p:spPr>
          <a:xfrm>
            <a:off x="4563720" y="2421000"/>
            <a:ext cx="8229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R = 100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Rectangle 53"/>
          <p:cNvSpPr/>
          <p:nvPr/>
        </p:nvSpPr>
        <p:spPr>
          <a:xfrm>
            <a:off x="4343400" y="2440080"/>
            <a:ext cx="1197000" cy="18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Rectangle 54"/>
          <p:cNvSpPr/>
          <p:nvPr/>
        </p:nvSpPr>
        <p:spPr>
          <a:xfrm>
            <a:off x="4752720" y="2897280"/>
            <a:ext cx="401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AC</a:t>
            </a:r>
            <a:endParaRPr b="1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Rectangle 55"/>
          <p:cNvSpPr/>
          <p:nvPr/>
        </p:nvSpPr>
        <p:spPr>
          <a:xfrm>
            <a:off x="4343400" y="2911320"/>
            <a:ext cx="1197000" cy="189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Straight Connector 2"/>
          <p:cNvSpPr/>
          <p:nvPr/>
        </p:nvSpPr>
        <p:spPr>
          <a:xfrm>
            <a:off x="2340000" y="3456000"/>
            <a:ext cx="17280" cy="308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539640" y="4221000"/>
            <a:ext cx="526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527040" y="4581360"/>
            <a:ext cx="526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539640" y="5033880"/>
            <a:ext cx="526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539640" y="5353200"/>
            <a:ext cx="526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FDC5-F0E1-4BE4-9C91-8FD647A6EE77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mmediate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338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perand is part of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perand = address fie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.g. ADD AX, 5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DA  #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 5 to contents of accumul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5 is oper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No memory reference to fetch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Limited r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8"/>
          <p:cNvGraphicFramePr/>
          <p:nvPr/>
        </p:nvGraphicFramePr>
        <p:xfrm>
          <a:off x="5796000" y="2492280"/>
          <a:ext cx="300024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2492280"/>
                    <a:ext cx="300024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C73D-0D03-4438-87A3-77FE7B470D4D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irect Addr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ress field contains address of oper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ffective address EA = address field (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 AX,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Value DB 05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 contents of cell value to accumulator 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ook in memory at address value for oper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Single memory reference to access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No additional calculations to work out effective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新細明體"/>
              </a:rPr>
              <a:t>Limited address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0F4C-DA3E-4B2E-9726-CCB1C5DB39A9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irect Address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9"/>
          <p:cNvGraphicFramePr/>
          <p:nvPr/>
        </p:nvGraphicFramePr>
        <p:xfrm>
          <a:off x="2050920" y="1700280"/>
          <a:ext cx="480852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700280"/>
                    <a:ext cx="48085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ED7F-B9C1-43D1-A339-3D7564F48CED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direct Addressing (1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Memory cell pointed to by address field contains the address of (pointer to) the oper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(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ook in A, find address (A) and look there for oper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.g. ADD AX, (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 contents of cell pointed to by contents of A to accumul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F314-BAD9-488A-931E-01386EBBF958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direct Addressing (2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arge address spac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Rounded MT Bold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 where n = word leng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May be nested, multilevel, casca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.g. EA = (((A)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 Rounded MT Bol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Draw the diagram yoursel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Multiple memory accesses to find oper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Hence slow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1FD5-3FE9-4965-ABFF-693FD137481D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Indirect Addressing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23"/>
          <p:cNvGraphicFramePr/>
          <p:nvPr/>
        </p:nvGraphicFramePr>
        <p:xfrm>
          <a:off x="1763640" y="1628640"/>
          <a:ext cx="480852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480852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236000" y="623736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6574-D209-496A-AAE8-A64155E85830}" type="slidenum">
              <a:rPr b="1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Register Addressing (1/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Operand is held in register named in address fi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EA = 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Limited number of regis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Very small address field need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Shorter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Faster instruction fe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MOV AX, B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新細明體"/>
              </a:rPr>
              <a:t>ADD AX, B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8T09:28:37Z</dcterms:created>
  <dc:creator>Adrian &amp; Wendy</dc:creator>
  <dc:description/>
  <dc:language>en-US</dc:language>
  <cp:lastModifiedBy>Sara Yousef</cp:lastModifiedBy>
  <dcterms:modified xsi:type="dcterms:W3CDTF">2019-11-23T14:45:15Z</dcterms:modified>
  <cp:revision>41</cp:revision>
  <dc:subject/>
  <dc:title>Addressing Modes</dc:title>
</cp:coreProperties>
</file>