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CBE-4599-42ED-95D4-0B3CBC99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1ED-50E2-4CF1-9E0F-679A6DF5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6C7-CA1C-413A-8B25-33DBC627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08C-A4FC-4ADD-AA04-A31C842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D36-11B5-4F33-9887-9F511B26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699-2E1B-4553-958C-D1A421F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C81-940F-457E-8972-5371197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30B-F684-4651-BF9F-AD78C86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348-FF28-46DE-96EC-0826415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423-AADA-4562-97E8-6A93517E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5FE-4541-4EF0-825D-BA3F0462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2AC-A601-445C-9335-A8561A56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218C-FDAC-4808-B333-369A23921469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Se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acteristics and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= (A-B)/[C+(D*E)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3-address instruction is used in the following program to execute the above high level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 Y, A,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PY T, D,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,T,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 Y, Y, 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rcRect l="8264" t="16402" r="60630" b="43143"/>
          <a:stretch/>
        </p:blipFill>
        <p:spPr>
          <a:xfrm>
            <a:off x="457200" y="1065240"/>
            <a:ext cx="77151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rcRect l="8264" t="17802" r="64571" b="27601"/>
          <a:stretch/>
        </p:blipFill>
        <p:spPr>
          <a:xfrm>
            <a:off x="457200" y="1089000"/>
            <a:ext cx="497844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19191" t="16126" r="54024" b="24504"/>
          <a:stretch/>
        </p:blipFill>
        <p:spPr>
          <a:xfrm>
            <a:off x="406440" y="969840"/>
            <a:ext cx="4165560" cy="56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rcRect l="12594" t="17802" r="53937" b="24101"/>
          <a:stretch/>
        </p:blipFill>
        <p:spPr>
          <a:xfrm>
            <a:off x="388800" y="1004760"/>
            <a:ext cx="58039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b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address doubles as operand and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= a + b (one of the operands is used as data and resul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length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s some extra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orary storage to hold some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 Y,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 Y, 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VE T,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PY T,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T,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 Y, 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03840" y="443700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-B)/[C+(D*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c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it second ad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a register (accumulato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on early mach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PY 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"/>
          <p:cNvSpPr/>
          <p:nvPr/>
        </p:nvSpPr>
        <p:spPr>
          <a:xfrm>
            <a:off x="13320" y="314784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 (A-B)/[C+(D*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 (zero)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addresses implic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a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push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= a +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Addres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omplex (powerful?)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-register operations are quic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structions per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wer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s complex (powerful?)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instructions per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ter fetch/execution of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sign Decisions (1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 reper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op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they 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omplex are the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ngth of op code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addr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is an Instruction Se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mplete collection of instructions that are understood by 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hin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represented by assembly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sign Decisions (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CPU register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perations can be performed on which register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ing modes (later…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SC v CI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(Reduced instruction set comput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S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(Complex instruction set comput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ypes of Opera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er/float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CII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al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s or fla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ide:  Is there any difference between numbers and characters?  Ask a C programmer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ntium Data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 bit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 bit 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2 bit double 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 bit quad 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ing is by 8 bit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32 bit double word is read at addresses divisible by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fic Data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- arbitrary binary cont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er - single binary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inal - unsigned inte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packed BCD - One digit per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d BCD - 2 BCD digits per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ar Pointer - 32 bit offset within seg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 fie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te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ntium Numeric Data Forma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rcRect l="10634" t="12009" r="7817" b="18521"/>
          <a:stretch/>
        </p:blipFill>
        <p:spPr>
          <a:xfrm>
            <a:off x="1762200" y="1066680"/>
            <a:ext cx="5248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owerPC Data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8 (byte), 16 (halfword), 32 (word) and 64 (doubleword) length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instructions need operand aligned on 32 bit bound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be big- or little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xed point processor recogni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signed byte, unsigned halfword, signed halfword, unsigned word, signed word, unsigned doubleword, byte string (&lt;128 by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oating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EE 75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ngle or double pre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ypes of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ithme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ount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different instructions for different mo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IBM 37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one instruction and different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V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rithmeti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, Subtract, Multiply, Div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ed Inte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point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ment (a+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ment (a--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ate (-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hift and Rotate Oper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19069" t="8753" r="20477" b="12009"/>
          <a:stretch/>
        </p:blipFill>
        <p:spPr>
          <a:xfrm>
            <a:off x="2666880" y="1066680"/>
            <a:ext cx="3411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ments of an Instr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 code (Op co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Operand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h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 Operand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the answer 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xt Instruction Re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have done that, do this...[i.e. the next instruction to fetch, often is the immediately follow the current instruction, only explicit reference is needed when need to jump else where]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gic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wise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Binary to Deci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specific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done using data movement instructions (memory mapp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done by a separate controller (D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ystems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vileged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instructions required by to be executed in the privileged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 needs to be in specific sta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ng 0 on 80386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operating systems u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. Changing the protection key of memory or accessing the process contol blocks of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fer of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anch (BRP X, PRN X, PRZ X, PRO 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BRZ X : means go to X if result is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increment and skip if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Z Register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 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age of Transfer Control instru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be able to execute set of instructions more than o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47640" y="2529000"/>
            <a:ext cx="270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x ==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859280" y="1557360"/>
            <a:ext cx="3997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age of Transfer Control instru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be able to make d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11280" y="2060640"/>
            <a:ext cx="2700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859280" y="1773360"/>
            <a:ext cx="3997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ing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ranch Instr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rcRect l="11949" t="20695" r="9843" b="36976"/>
          <a:stretch/>
        </p:blipFill>
        <p:spPr>
          <a:xfrm>
            <a:off x="457200" y="1035000"/>
            <a:ext cx="807732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age of Transfer Control instru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ow breaking big program into smaller tasks through us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cedure c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 is self contained program incorporated into larger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s for using proced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nomy by saving writing the same code many ti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arity : since each procedure module will have specific task (different modules interact together through well defined interface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Nested Procedure Cal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5008" t="14178" r="9226" b="25033"/>
          <a:stretch/>
        </p:blipFill>
        <p:spPr>
          <a:xfrm>
            <a:off x="1523880" y="1066680"/>
            <a:ext cx="62485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ere have all the Operands Gone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 memory (or virtual memory or cach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O device (in case of memory mapped I/O the reading the operands are fetched by the same way as the fetching the operands from mem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Use of Stac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rcRect l="5430" t="13151" r="7733" b="57824"/>
          <a:stretch/>
        </p:blipFill>
        <p:spPr>
          <a:xfrm>
            <a:off x="0" y="2176560"/>
            <a:ext cx="89917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dure c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called from any wh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dure call can appear in procedure (nested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procedure call is matched with return in the called prog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of the called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of stack (used often to allow recurs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dure c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ist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X (is used to call procedure) the action 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C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N is a register used to keep the return address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length of the instru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start of called procedu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ction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C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 +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dure cal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3128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evious two methods prevents the recursion (reentrant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for the above method is using sta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C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X +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only the return address is passed on the stack but the parameter values as we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 variable is also stored on the stack with each beginning of proced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tack Frame Growth Using Sample Procedures P and Q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rcRect l="0" t="0" r="0" b="11360"/>
          <a:stretch/>
        </p:blipFill>
        <p:spPr>
          <a:xfrm>
            <a:off x="380880" y="1066680"/>
            <a:ext cx="815364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xercise For Read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out about instruction set for Pentium and Power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 with Stall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isit web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te Or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A portion of chips?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order do we read numbers that occupy more than one 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(numbers in hex to make it easy to rea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345678 can be stored in 4x8bit locations as fo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te Order (exampl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e (1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e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.e. read top down or bottom up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te Order Na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blem is called 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on the left has the least significant byte in the lowest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big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ystem on the right has the least  significant byte in the highest add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called little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xample of C Data Stru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8686" t="7016" r="8820" b="24212"/>
          <a:stretch/>
        </p:blipFill>
        <p:spPr>
          <a:xfrm>
            <a:off x="152280" y="1081080"/>
            <a:ext cx="89154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0" b="28611"/>
          <a:stretch/>
        </p:blipFill>
        <p:spPr>
          <a:xfrm>
            <a:off x="527040" y="1406520"/>
            <a:ext cx="80884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lternative View of Memory Ma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21885" t="11889" r="38755" b="19649"/>
          <a:stretch/>
        </p:blipFill>
        <p:spPr>
          <a:xfrm>
            <a:off x="2833560" y="1066680"/>
            <a:ext cx="256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ndard…What Standard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ntium (80x86), VAX are little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BM 370, Moterola 680x0 (Mac), and most RISC  are big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et is big-end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s writing Internet programs on PC more awkward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Sock provides htoi and itoh (Host to Internet &amp; Internet to Host) functions to conv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Represent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machine code each instruction has a unique bit pattern divided into fiel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human consumption (well, programmers anyway) a symbolic representation i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ADD, SUB, 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nds can also be represented in this mnemonic w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A,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imple Instruction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13096" t="27504" r="13096" b="50007"/>
          <a:stretch/>
        </p:blipFill>
        <p:spPr>
          <a:xfrm>
            <a:off x="0" y="1916280"/>
            <a:ext cx="9144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processing (arithmetic and logic instru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torage (main memory): to transfer data to/from memory (store or fetch data and instru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movement (I/O) to transfer program and data to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flow control : to execute the decision and looping instru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umber of Addresses (a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two operands (Operand 1, Operand 2) in additional to the address of the 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. The next instruction can be represented by single add instruction with three operands (a = b + c;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 forth (2 data operands, result operand and the next instruction operands)–next instruction address is being implic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th instruction format not common as well as 3-instructions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son is the need for very long words to hold everyt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2:50:13Z</dcterms:created>
  <dc:creator>Adrian J Pullin</dc:creator>
  <dc:description/>
  <dc:language>en-US</dc:language>
  <cp:lastModifiedBy>شيخ طاهربخش  شيخ خودا بخش</cp:lastModifiedBy>
  <dcterms:modified xsi:type="dcterms:W3CDTF">2018-11-20T04:43:32Z</dcterms:modified>
  <cp:revision>38</cp:revision>
  <dc:subject/>
  <dc:title>10 Instruction Sets</dc:title>
</cp:coreProperties>
</file>